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74304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29400"/>
            <a:ext cx="990612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" name="logo" descr=""/>
          <p:cNvPicPr/>
          <p:nvPr/>
        </p:nvPicPr>
        <p:blipFill>
          <a:blip r:embed="rId2"/>
          <a:stretch/>
        </p:blipFill>
        <p:spPr>
          <a:xfrm>
            <a:off x="7759800" y="0"/>
            <a:ext cx="2146320" cy="533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543800" y="6553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굴림"/>
              </a:rPr>
              <a:t>Network Division R&amp;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19720" y="457200"/>
            <a:ext cx="548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Next Generation Communication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S1000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3435480"/>
            <a:ext cx="259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Hotel Fea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May, 200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43000"/>
          <a:ext cx="64101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64101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426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otel Terminal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Guest Station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Service Station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Front Desk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Booth Telephone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ATD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otel Room Statu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Person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Check In / Check Out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oom Cut Off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Maid Status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otel Room Set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Room To Room Group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Day / Night Class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ICM Cal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Guest Name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가는각진제목체"/>
              </a:rPr>
              <a:t>Language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532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ain Featu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oom To Room Call Group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com Cal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th Alarm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 Not Disturb (DND)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t Line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rm Line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ouse Phone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d Status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essage waiting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d Reminder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 Service Set/Reset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by Listening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aling Privilege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rect Data Entry Station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ne Time CO Cal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ver Time Call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nnouncement Service for Wake Up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ke Up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0320" y="0"/>
            <a:ext cx="32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Hotel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Fea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00000" y="15228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el Terminal Fea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1054440" y="14479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est St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48680" y="1890720"/>
            <a:ext cx="34221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Inputting Mini Bar I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Changing Maid Stat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leaning Need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Under Clea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leaned 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Repair Need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Under Repai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Repair Comple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Not Avail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ervice 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DN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Message Wai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Wake u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2 Number Ser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884400" y="14479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St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971080" y="1905120"/>
            <a:ext cx="38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Inputting Bar Charging Info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200720" y="1447920"/>
            <a:ext cx="21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 Desk St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6348600" y="1828800"/>
            <a:ext cx="3606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Registration Check In/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Reg./Can. Wake u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Reg./Can. Message Wai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Reg./Can. DN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Reg./Can. Room Cut o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Verificat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Telephone Typ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Check In/Out Stat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VIP Stat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Check In/Out Tim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Name of Gues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 The number of Gue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 Nationality of Gue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. Room Cut off stat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 DND Stat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. Class of Ser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. Message waiting stat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. Wake up Stat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219480" y="1447920"/>
            <a:ext cx="0" cy="4495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6686640" y="14479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95360" y="182880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886200"/>
            <a:ext cx="3486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944160" y="348948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th St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2937240" y="396252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One Time C.O Cal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81720" y="0"/>
            <a:ext cx="169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Hote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24040" y="22860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el Terminal Fea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074960" y="144792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ndant Conso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182880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95360" y="1828800"/>
            <a:ext cx="3136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Reg./Can DND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Reg./Can Message Wai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Reg./Can Wake u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Reg./Can Room Cut o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Reg./Can One Time CO Call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Verification Guest room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tion on the lin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Station number of hotel ro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Dialing Service Class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Message Wait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The number of G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 In/Out Time/D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Guest Langu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Wake up Tim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Date Schedule of check ou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Name of G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Nationality of gue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044960" y="1828800"/>
            <a:ext cx="33847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 Change Dialing Privile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Changing Maid Statu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Cleaning Need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Under Clea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Cleaned 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Repair Need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Under Repai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Repair Comple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Not Avail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Service 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81720" y="0"/>
            <a:ext cx="169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Hote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05200" y="23623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514840" y="152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S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075680" y="1447920"/>
            <a:ext cx="21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Summa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495360" y="182880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486080" y="2133720"/>
            <a:ext cx="198108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467160" y="2133720"/>
            <a:ext cx="123804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705200" y="2133720"/>
            <a:ext cx="165132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ssage Dir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6356520" y="2133720"/>
            <a:ext cx="123804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4979880" y="2374920"/>
            <a:ext cx="990720" cy="206280"/>
          </a:xfrm>
          <a:prstGeom prst="rightArrow">
            <a:avLst>
              <a:gd name="adj1" fmla="val 50000"/>
              <a:gd name="adj2" fmla="val 1200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486080" y="23623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ck In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467160" y="23623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6356520" y="23623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4705200" y="25909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952880" y="2603160"/>
            <a:ext cx="990720" cy="206280"/>
          </a:xfrm>
          <a:prstGeom prst="rightArrow">
            <a:avLst>
              <a:gd name="adj1" fmla="val 50000"/>
              <a:gd name="adj2" fmla="val 1200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25909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ck In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3467160" y="25909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6356520" y="25909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705200" y="28195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486080" y="28195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eck Ou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3467160" y="28195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56520" y="28195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4705200" y="30481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3467160" y="30481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356520" y="30481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705200" y="32767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035680" y="3289320"/>
            <a:ext cx="990360" cy="206280"/>
          </a:xfrm>
          <a:prstGeom prst="rightArrow">
            <a:avLst>
              <a:gd name="adj1" fmla="val 50000"/>
              <a:gd name="adj2" fmla="val 1200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486080" y="32767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keup Svc.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467160" y="32767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6356520" y="32767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705200" y="35053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5035680" y="3517920"/>
            <a:ext cx="990360" cy="206280"/>
          </a:xfrm>
          <a:prstGeom prst="rightArrow">
            <a:avLst>
              <a:gd name="adj1" fmla="val 50000"/>
              <a:gd name="adj2" fmla="val 1200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486080" y="35053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d Status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467160" y="35053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356520" y="35053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705200" y="37339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1486080" y="37339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Cutoff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467160" y="37339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56520" y="37339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4705200" y="39625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486080" y="39625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tion Class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467160" y="39625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356520" y="39625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41911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5035680" y="4203720"/>
            <a:ext cx="990360" cy="206280"/>
          </a:xfrm>
          <a:prstGeom prst="rightArrow">
            <a:avLst>
              <a:gd name="adj1" fmla="val 50000"/>
              <a:gd name="adj2" fmla="val 1200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486080" y="41911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i bar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467160" y="41911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6356520" y="41911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0" y="44197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486080" y="44197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 Not Distur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467160" y="44197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356520" y="44197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4705200" y="46483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486080" y="46483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ssage Wai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3467160" y="46483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6356520" y="46483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705200" y="48769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5035680" y="4889520"/>
            <a:ext cx="990360" cy="206280"/>
          </a:xfrm>
          <a:prstGeom prst="rightArrow">
            <a:avLst>
              <a:gd name="adj1" fmla="val 50000"/>
              <a:gd name="adj2" fmla="val 1200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486080" y="48769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l Char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467160" y="48769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356520" y="48769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4705200" y="51055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5035680" y="5118120"/>
            <a:ext cx="990360" cy="206280"/>
          </a:xfrm>
          <a:prstGeom prst="rightArrow">
            <a:avLst>
              <a:gd name="adj1" fmla="val 50000"/>
              <a:gd name="adj2" fmla="val 1200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486080" y="51055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th Alar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3467160" y="51055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6356520" y="51055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53341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5035680" y="5346720"/>
            <a:ext cx="990360" cy="206280"/>
          </a:xfrm>
          <a:prstGeom prst="rightArrow">
            <a:avLst>
              <a:gd name="adj1" fmla="val 50000"/>
              <a:gd name="adj2" fmla="val 1200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486080" y="53341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rm Li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3467160" y="53341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356520" y="53341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4705200" y="5562720"/>
            <a:ext cx="16513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035680" y="5575320"/>
            <a:ext cx="990360" cy="206280"/>
          </a:xfrm>
          <a:prstGeom prst="rightArrow">
            <a:avLst>
              <a:gd name="adj1" fmla="val 50000"/>
              <a:gd name="adj2" fmla="val 1200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486080" y="55627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d Tim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3467160" y="55627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100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356520" y="5562720"/>
            <a:ext cx="1238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S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4994280" y="2835360"/>
            <a:ext cx="990720" cy="199800"/>
          </a:xfrm>
          <a:prstGeom prst="leftRightArrow">
            <a:avLst>
              <a:gd name="adj1" fmla="val 50000"/>
              <a:gd name="adj2" fmla="val 987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486080" y="30481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keup Reg.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994280" y="3063960"/>
            <a:ext cx="990720" cy="199800"/>
          </a:xfrm>
          <a:prstGeom prst="leftRightArrow">
            <a:avLst>
              <a:gd name="adj1" fmla="val 50000"/>
              <a:gd name="adj2" fmla="val 987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94280" y="3762360"/>
            <a:ext cx="990720" cy="200160"/>
          </a:xfrm>
          <a:prstGeom prst="leftRightArrow">
            <a:avLst>
              <a:gd name="adj1" fmla="val 50000"/>
              <a:gd name="adj2" fmla="val 9853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4994280" y="3978360"/>
            <a:ext cx="990720" cy="199800"/>
          </a:xfrm>
          <a:prstGeom prst="leftRightArrow">
            <a:avLst>
              <a:gd name="adj1" fmla="val 50000"/>
              <a:gd name="adj2" fmla="val 987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4994280" y="4435560"/>
            <a:ext cx="990720" cy="199800"/>
          </a:xfrm>
          <a:prstGeom prst="leftRightArrow">
            <a:avLst>
              <a:gd name="adj1" fmla="val 50000"/>
              <a:gd name="adj2" fmla="val 987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994280" y="4664160"/>
            <a:ext cx="990720" cy="199800"/>
          </a:xfrm>
          <a:prstGeom prst="leftRightArrow">
            <a:avLst>
              <a:gd name="adj1" fmla="val 50000"/>
              <a:gd name="adj2" fmla="val 987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81720" y="0"/>
            <a:ext cx="169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Hotel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9:24:51Z</dcterms:created>
  <dc:creator>BondKIM</dc:creator>
  <dc:description/>
  <dc:language>en-US</dc:language>
  <cp:lastModifiedBy>류석진</cp:lastModifiedBy>
  <dcterms:modified xsi:type="dcterms:W3CDTF">2001-09-04T10:55:57Z</dcterms:modified>
  <cp:revision>14</cp:revision>
  <dc:subject/>
  <dc:title>PowerPoint 프레젠테이션</dc:title>
</cp:coreProperties>
</file>