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A9D-8FBD-491C-AEB7-D83AC0CE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9F8-E7BB-4A9D-BAC0-AC8969E1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BC7-20FC-41FF-91A7-D3B01D2D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86F-C419-4B43-8A8D-AB472FCF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27D-2397-4952-B58C-8FAD0273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166-9618-422B-AADF-4C28BA82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D4A-B598-41EA-B75A-474A77C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45E-2E30-403A-A03B-814121FB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A4D-14D5-47CE-9CEE-A9450C75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7A2-3AB7-4A71-A950-C3175FD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918-BBCE-4626-B428-31D5AA7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42E-78B7-4F03-B0E1-BB555A9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AD47-34CF-4155-A236-6CE3B7BFB55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4:37:35Z</dcterms:created>
  <dc:creator>jmchoi</dc:creator>
  <dc:description/>
  <dc:language>en-US</dc:language>
  <cp:lastModifiedBy>jmchoi</cp:lastModifiedBy>
  <dcterms:modified xsi:type="dcterms:W3CDTF">2004-01-16T06:56:38Z</dcterms:modified>
  <cp:revision>2</cp:revision>
  <dc:subject/>
  <dc:title>PowerPoint 프레젠테이션</dc:title>
</cp:coreProperties>
</file>