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4A78-1120-4A58-B72D-70F01C1FE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36F8-2B6E-48A5-863B-54E515AA8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FB0F-8428-4453-938B-C17DBFA70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7103-9677-4457-946E-FFF5F0BABE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95AE-EFBF-403E-B309-8094B305D8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F941-0F45-42F7-A354-D1F3B9295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5884-FDF2-4AC6-8F80-08A3B74DC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1B56-3CA2-491A-9A37-D4BB33BDC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BA99-83F9-4D1C-8A0B-7A6FF8057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0455-F400-4558-ADEB-8140CC7F7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6E6D-3008-4CEB-9EA9-13C32170C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D0AB-7315-499F-9EE1-79915DC80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266480" y="777240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8E8C-F42A-472F-8636-0165E7340AB6}" type="slidenum">
              <a:rPr b="0" lang="en-US" sz="8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343080" y="533520"/>
            <a:ext cx="3288960" cy="751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09480" y="762120"/>
            <a:ext cx="2667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ant Safety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"/>
          <p:cNvSpPr/>
          <p:nvPr/>
        </p:nvSpPr>
        <p:spPr>
          <a:xfrm>
            <a:off x="685800" y="762120"/>
            <a:ext cx="2819520" cy="2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rcRect l="2040" t="12166" r="47681" b="77823"/>
          <a:stretch/>
        </p:blipFill>
        <p:spPr>
          <a:xfrm>
            <a:off x="571680" y="1647720"/>
            <a:ext cx="2819160" cy="82872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380880" y="1066680"/>
            <a:ext cx="32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prevent the unexpected danger or damage, please read this information before installing and repairing the phone. There are “Caution” and “Warning”, it means as follows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53682" t="13086" r="3061" b="78515"/>
          <a:stretch/>
        </p:blipFill>
        <p:spPr>
          <a:xfrm>
            <a:off x="828720" y="2509920"/>
            <a:ext cx="2425680" cy="695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12526" t="24827" r="10611" b="71062"/>
          <a:stretch/>
        </p:blipFill>
        <p:spPr>
          <a:xfrm>
            <a:off x="533520" y="3505320"/>
            <a:ext cx="289548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6454" t="28942" r="52040" b="2532"/>
          <a:stretch/>
        </p:blipFill>
        <p:spPr>
          <a:xfrm>
            <a:off x="485640" y="3809880"/>
            <a:ext cx="1470240" cy="3581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rcRect l="55008" t="28942" r="4244" b="2532"/>
          <a:stretch/>
        </p:blipFill>
        <p:spPr>
          <a:xfrm>
            <a:off x="2054160" y="3828960"/>
            <a:ext cx="1443240" cy="358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92D2-78CB-4236-990A-34C5D98B12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2133720"/>
            <a:ext cx="2971800" cy="246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cing an Outside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371600"/>
            <a:ext cx="2971800" cy="246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cing an Intercom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048120"/>
            <a:ext cx="2971800" cy="246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cing an Call on 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886200"/>
            <a:ext cx="2971800" cy="246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rieving a Outside Call on 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8380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ic Fun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762120"/>
            <a:ext cx="2819520" cy="2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4382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 or press OHD/Speaker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runk access code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desired number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6765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 or press OHD/Speaker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extension number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876920"/>
            <a:ext cx="2971800" cy="246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Call Pick-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5181480"/>
            <a:ext cx="2971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hearing an unattended phone ringing in your area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 or press OHD/Speaker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* *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will be connected to an incoming call. (You should be in the same pick-up group.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333684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le connected to other extension or external call, press [Hold/Save] button. (Refer to system feature manual.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19112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flashing flexible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The call will automatically recall after pre-defined time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095880"/>
            <a:ext cx="2971800" cy="246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st Number Redi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 or press OHD/Speaker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# #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B0D0-0B33-453B-8FB0-F2600A78A7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8380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ic Fun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762120"/>
            <a:ext cx="2819520" cy="2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371600"/>
            <a:ext cx="2971800" cy="246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ing Station Speed Dial Number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514600"/>
            <a:ext cx="2971800" cy="246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ing Station Speed Dial Number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676520"/>
            <a:ext cx="2971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[Trans/PGM] button and [Speed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speed bin number. Range (00~09)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outside number include trunk access code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[Hold/Save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will hear confirmation tone and hang up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28195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[Speed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desired speed dial bin number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352680"/>
            <a:ext cx="2971800" cy="246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ering Absence State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65760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can register the phone with absence state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[Trans/PGM] button and the [FWD/DND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absence type code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some type needed special information like as date or time. Dial special information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[Hold/Save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44956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cancel absence state, dial 0 0 instead of absence type code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06B7-14EC-434A-982E-208FB367C0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762120"/>
            <a:ext cx="2667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ant Safety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2120"/>
            <a:ext cx="2819520" cy="2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6050" t="32876" r="53541" b="2109"/>
          <a:stretch/>
        </p:blipFill>
        <p:spPr>
          <a:xfrm>
            <a:off x="487440" y="3733920"/>
            <a:ext cx="1569960" cy="3814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12526" t="24827" r="10611" b="71062"/>
          <a:stretch/>
        </p:blipFill>
        <p:spPr>
          <a:xfrm>
            <a:off x="533520" y="1143000"/>
            <a:ext cx="2895480" cy="228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6050" t="5598" r="54681" b="71758"/>
          <a:stretch/>
        </p:blipFill>
        <p:spPr>
          <a:xfrm>
            <a:off x="531720" y="1371600"/>
            <a:ext cx="1525680" cy="1328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rcRect l="12220" t="28383" r="12630" b="67186"/>
          <a:stretch/>
        </p:blipFill>
        <p:spPr>
          <a:xfrm>
            <a:off x="533520" y="3092400"/>
            <a:ext cx="2919240" cy="260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rcRect l="55090" t="32876" r="6459" b="2109"/>
          <a:stretch/>
        </p:blipFill>
        <p:spPr>
          <a:xfrm>
            <a:off x="2006640" y="3759120"/>
            <a:ext cx="1493640" cy="381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78AC-891D-4AB2-B56F-027B9BD298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762120"/>
            <a:ext cx="2667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ant Safety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762120"/>
            <a:ext cx="2819520" cy="2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6721" t="98277" r="42842" b="0"/>
          <a:stretch/>
        </p:blipFill>
        <p:spPr>
          <a:xfrm>
            <a:off x="533520" y="7543800"/>
            <a:ext cx="2824200" cy="146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12220" t="28383" r="12630" b="67186"/>
          <a:stretch/>
        </p:blipFill>
        <p:spPr>
          <a:xfrm>
            <a:off x="533520" y="1066680"/>
            <a:ext cx="2919240" cy="260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rcRect l="6721" t="5743" r="53781" b="2983"/>
          <a:stretch/>
        </p:blipFill>
        <p:spPr>
          <a:xfrm>
            <a:off x="482760" y="1523880"/>
            <a:ext cx="1454040" cy="5078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rcRect l="54724" t="5743" r="2013" b="25782"/>
          <a:stretch/>
        </p:blipFill>
        <p:spPr>
          <a:xfrm>
            <a:off x="1905120" y="1523880"/>
            <a:ext cx="1593720" cy="381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6ABB-01E1-45B1-8353-3565A534AC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762120"/>
            <a:ext cx="2667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DP-7000 Series Mod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762120"/>
            <a:ext cx="2819520" cy="2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535680" y="5486400"/>
            <a:ext cx="848160" cy="246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DP-7008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35680" y="3429000"/>
            <a:ext cx="848160" cy="246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DP-7004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5791320"/>
            <a:ext cx="2819160" cy="1788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2666880" cy="1743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33520" y="1600200"/>
            <a:ext cx="2666880" cy="1736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5680" y="1371600"/>
            <a:ext cx="848160" cy="246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DP-7004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E139-EDA5-4302-8B01-E9D8AEF5EE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14240" y="1981080"/>
            <a:ext cx="2438640" cy="2289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5680" y="1371600"/>
            <a:ext cx="1621080" cy="246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DP-7004N / LDP-7004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458640" y="1857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58640" y="205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458640" y="3286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458640" y="390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458640" y="413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201840" y="267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76280" y="6032520"/>
            <a:ext cx="3029040" cy="1663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6032520"/>
            <a:ext cx="304920" cy="166356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840600" y="6060960"/>
            <a:ext cx="20095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CD Display (LDP-7004D only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nd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aker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HD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ld/Save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e Waiting L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/PGM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ed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exible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201840" y="344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201840" y="356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3201840" y="367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8098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762120"/>
            <a:ext cx="2667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/Output Devices and 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762120"/>
            <a:ext cx="2819520" cy="2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B747-3746-47A2-B51D-2CCB45EB49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6084" t="0" r="0" b="0"/>
          <a:stretch/>
        </p:blipFill>
        <p:spPr>
          <a:xfrm>
            <a:off x="676440" y="1981080"/>
            <a:ext cx="2571480" cy="257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09480" y="762120"/>
            <a:ext cx="2667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/Output Devices and 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762120"/>
            <a:ext cx="2819520" cy="2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35680" y="1371600"/>
            <a:ext cx="848160" cy="246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DP-7008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458640" y="1857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466560" y="2038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03840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458640" y="318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58640" y="37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466560" y="396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458640" y="418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3201840" y="24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201840" y="26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3205080" y="3571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3201840" y="3699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3201840" y="4191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5257800"/>
            <a:ext cx="3048120" cy="243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5257800"/>
            <a:ext cx="304920" cy="24382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840600" y="5289480"/>
            <a:ext cx="2471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CD Displa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nd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phone-Jack Socket (Ear/Mic Mode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aker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aker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ld/Save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exible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e Waiting L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WD/DND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l Back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exible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ed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/PGM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ndsfree Microph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3201840" y="33368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201840" y="3457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3201840" y="4572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DE36-AC98-4CBA-87FE-E358D5C353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762120"/>
            <a:ext cx="2667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/Output Devices and 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762120"/>
            <a:ext cx="2819520" cy="2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484280" y="1373040"/>
            <a:ext cx="2133720" cy="64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Used for handset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The optional earphone into the handset to provide a handsfree phone conversation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Outputs tones and voice at your extension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Used to access speed dialing, speed programming, save number redial, and last number redial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ND (Do Not Disturb) feature lets you activate a ‘do not ring this phone’ mode. When the DND is active, this button is red.  It is also used to activate call forwards, to another station or voicemail for example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Used to forward your calls to another station or voice mail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button put a call on hold or save information wh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amming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Speaker toggles the speakerphone state. The button is red when the speakerphone is active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s dialed and incoming numbers (where applicable) and on the LDP7008D it can display other information about telephone status, dialing directories and test message informa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button is used to start a transfer (TRS) of a call or enter programming mode (PGM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220680" y="1371600"/>
            <a:ext cx="12272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nd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phone-J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ed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WD/D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ld/Sa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aker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CD Displa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/PG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127160"/>
            <a:ext cx="990720" cy="246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1127160"/>
            <a:ext cx="1981440" cy="246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8BF8-6D61-4C87-8913-A8346071D5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762120"/>
            <a:ext cx="2667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/Output Devices and 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762120"/>
            <a:ext cx="2819520" cy="2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1371600"/>
            <a:ext cx="205740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ast two (7004D&amp;N) or eight (7008D) Flex buttons can be assigned outside line presentation or to a feature shortcut. (See codes at rear of guide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A station can initiate a call back request to another busy station. Once that station becomes idle, the station that left the call back request is signaled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The volume button adjusts the audio levels follows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Used to work in conjunction with fixed and flexible features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Hook Dial allows 7004N&amp;D users to dial and monitor ringing state without lifting the hand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371600"/>
            <a:ext cx="121932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Flexible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Call 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Button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Volume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MIC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OHD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127160"/>
            <a:ext cx="990720" cy="246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1127160"/>
            <a:ext cx="1981440" cy="246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6560-4177-4049-ACDA-1A37BCA0AC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1467000"/>
            <a:ext cx="2666880" cy="2617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9480" y="762120"/>
            <a:ext cx="2667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ble Conne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762120"/>
            <a:ext cx="2819520" cy="2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554840" y="358452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3135960" y="33526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1554840" y="335592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1307160" y="196524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4724280"/>
            <a:ext cx="2743200" cy="2971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849920"/>
            <a:ext cx="259092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ble conne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②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 the end of the telephone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d to the handset and the other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d to the handset jack at th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of the telephone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④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 the end of the cable to the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 at the bottom of telephone and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other end to the switch port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 the Earphone to the headphone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 at the left side of the telephone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In case front view of the base.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※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DP-7004N and LDP-7004D does not support integral headphone mode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18BD-7F44-4727-9349-6D7904C362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07:04:27Z</dcterms:created>
  <dc:creator>user</dc:creator>
  <dc:description/>
  <dc:language>en-US</dc:language>
  <cp:lastModifiedBy>CS/NCS</cp:lastModifiedBy>
  <dcterms:modified xsi:type="dcterms:W3CDTF">2005-02-17T07:40:53Z</dcterms:modified>
  <cp:revision>607</cp:revision>
  <dc:subject/>
  <dc:title>PowerPoint 프레젠테이션</dc:title>
</cp:coreProperties>
</file>