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D95E-D150-4A50-9D18-405CCC37F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3661-8C3D-4092-BB84-752E2EB64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9A53-802A-4A51-99B8-1065796DC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5B09-A68D-4E4E-A759-BF16F136D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20A2-B64C-4333-919B-0131182A5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BBA8-3BB5-483C-A4D7-B11453C0C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F222-CC12-42E9-AA8B-E3A3ABB84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E48C-1E29-4F97-A1E3-F54C32189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1FD8-A6C8-4603-A57C-ABB019330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2705-9EC7-4B55-AB54-A43C2991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259F-1222-42C1-9C90-0AF5DD6C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E35F-F261-475E-838D-966835C3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CAFD0-C526-4E3F-8FDD-A3CFE3D67D0F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2280" y="181080"/>
            <a:ext cx="8839440" cy="6634080"/>
            <a:chOff x="152280" y="181080"/>
            <a:chExt cx="8839440" cy="6634080"/>
          </a:xfrm>
        </p:grpSpPr>
        <p:sp>
          <p:nvSpPr>
            <p:cNvPr id="6" name=""/>
            <p:cNvSpPr/>
            <p:nvPr/>
          </p:nvSpPr>
          <p:spPr>
            <a:xfrm>
              <a:off x="152280" y="603360"/>
              <a:ext cx="883944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" name=""/>
            <p:cNvGraphicFramePr/>
            <p:nvPr/>
          </p:nvGraphicFramePr>
          <p:xfrm>
            <a:off x="157320" y="6357960"/>
            <a:ext cx="2447640" cy="457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57320" y="6357960"/>
                      <a:ext cx="244764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" name=""/>
            <p:cNvSpPr/>
            <p:nvPr/>
          </p:nvSpPr>
          <p:spPr>
            <a:xfrm>
              <a:off x="152280" y="6248520"/>
              <a:ext cx="883944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335720" y="6327720"/>
              <a:ext cx="18432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280" y="181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835760" y="293760"/>
              <a:ext cx="184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1219320" cy="68580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0" name="DIgitalNetworkingLeader글자" descr=""/>
          <p:cNvPicPr/>
          <p:nvPr/>
        </p:nvPicPr>
        <p:blipFill>
          <a:blip r:embed="rId1"/>
          <a:stretch/>
        </p:blipFill>
        <p:spPr>
          <a:xfrm>
            <a:off x="1219320" y="76320"/>
            <a:ext cx="2666880" cy="5857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862360" y="4932360"/>
            <a:ext cx="3462120" cy="901800"/>
            <a:chOff x="2862360" y="4932360"/>
            <a:chExt cx="3462120" cy="901800"/>
          </a:xfrm>
        </p:grpSpPr>
        <p:graphicFrame>
          <p:nvGraphicFramePr>
            <p:cNvPr id="52" name=""/>
            <p:cNvGraphicFramePr/>
            <p:nvPr/>
          </p:nvGraphicFramePr>
          <p:xfrm>
            <a:off x="2862360" y="4932360"/>
            <a:ext cx="3429000" cy="806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862360" y="4932360"/>
                      <a:ext cx="3429000" cy="80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" name=""/>
            <p:cNvSpPr/>
            <p:nvPr/>
          </p:nvSpPr>
          <p:spPr>
            <a:xfrm>
              <a:off x="3733920" y="5497560"/>
              <a:ext cx="259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2362320" y="2133720"/>
            <a:ext cx="57909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Next Generation Communication Server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CS1000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4325760" y="4506840"/>
            <a:ext cx="107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2003.04.23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6098400" y="762120"/>
            <a:ext cx="29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새굴림"/>
              </a:rPr>
              <a:t>System Monitoring &amp; Trac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56600" y="90360"/>
            <a:ext cx="262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Special Debug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990720"/>
            <a:ext cx="8763120" cy="48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In case of System Restar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1) connect OMS and capture fault message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2) connect SIO and execute the following commands and capture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$ exc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date:2002-01-25,time:09:31:47,counter:f7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exception:  address error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pc   = 0110f6f4 sr  = 2004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usp = 010014ea msp = 00000000 isp = 01fb62f4 vbr = 0100000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sfc  = 00000007 dfc   = 00000007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d0   = 00000005 d1   = 00000001 d2  = 00000002 d3  = 00000001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d4   = 00000002 d5   = 00000000 d6  = 00000000 d7  = 0000000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a0   = 01fb6414 a1    = 01fb630c a2  = 00000001 a3  = 01fb6404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a4   = 01fb63a0 a5    = 0112de66 a6  = 01fb641c a7  = 01fb62f4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$ CALL_MON&gt;setflag 8 1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Idx=8 : System Last Message Debug : Enabl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$ CALL_MON&gt;syslstm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System Last Message Save : PB Event : Len=16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020020118f020000000000000000003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56600" y="90360"/>
            <a:ext cx="262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Special Debug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819000"/>
            <a:ext cx="8763120" cy="27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In case of System Watch Dog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1) connect OMS and capture fault message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2) connect SIO and execute the following commands and capture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$ CALL_MON&gt; lstm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In pointer = 4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No Pno MS SS rel  CM CS cpt  PB 01 02 DV FC 00 01 02 03 04 05 06 07 08 09 1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================================================================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00 040 01 00 000  ff ff 000  00 00 40 00 90 33 09 98 01 47 8e 88 01 47 81 38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02 ff        16 aa ff ff ff ff ff ff ff ff ff ff ff ff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01 040 01 03 000  ff ff 000  00 00 40 00 90 14 09 98 01 47 8e 88 01 47 81 38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02 ff        16 aa ff ff ff ff ff ff ff ff ff ff ff ff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56600" y="90360"/>
            <a:ext cx="262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Special Debug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685800"/>
            <a:ext cx="8763120" cy="54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In case of Port Blocking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1) connect OMS and capture fault message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2) connect SIO and execute the following command and capture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$ CALL_MON&gt; evtms port_n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Port = 020  In pointer = 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No  MS SS relp   CM CS cptr   PB 01 02 DV FC 00 01 02 03 04 05 06 07 08 09 1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===============================================================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00  00 00 0000   ff ff 0000   05 00 62 0b 20 01 01 01 18 00 01 00 01 10 00 41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01  00 00 0000   ff ff 0000   00 00 62 00 06 00 00 00 62 00 00 00 00 00 40 01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02  04 00 4001   05 00 0062   05 00 62 0b 12 00 01 01 e6 3e f2 01 97 7c 00 5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03  06 00 4001   06 00 0062   05 00 62 0b 11 00 01 01 e6 3e f2 01 97 7c 00 51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04  00 00 0000   ff ff 0000   05 00 62 0b 12 00 01 0a ca 3e b8 01 0a 8a ca 52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05  02 00 0000   ff ff 0000   05 00 62 0b 14 00 0a 8a ca fe 01 0a 8a 01 00 88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06  02 00 0000   ff ff 0000   05 00 62 0b 15 0a 00 14 00 0a 8a ca fe 01 0a f4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07  02 05 0081   05 00 0062   05 00 62 0b 15 01 00 01 81 ca 3e 14 01 01 81 57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08  02 06 0081   05 00 0062   05 00 62 0b 15 06 00 06 86 ca 3e 14 01 06 86 3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09  02 06 0081   05 00 0062   05 00 62 0b 15 0a 00 0a 8a ca 3e 14 01 0a 8a 2a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10  02 06 0081   05 00 0062   05 00 62 0b 15 0a 00 0a 8a ca 3e 14 01 0a 8a 2a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11  02 06 0081   05 50 0062   00 00 62 00 0f 00 00 00 00 00 00 00 00 00 00 81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12  02 4b 0081   07 00 0062   00 00 62 00 70 ff ff 00 00 00 00 00 00 00 00 81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13  05 00 0081   07 00 0062   00 00 62 00 90 08 09 98 01 48 07 30 01 47 f7 38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14  05 00 0081   08 00 0062   00 00 62 00 02 81 00 00 00 00 00 00 00 00 00 81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15  06 00 0081   08 00 0062   05 00 62 0b 11 00 01 01 e6 3e f2 01 97 7c 00 51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56600" y="90360"/>
            <a:ext cx="262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Special Debug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685800"/>
            <a:ext cx="86108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In case of VMS Service Fai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1) connect SIO and execute the following command and capture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$ prt 1e (Enab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VMS Status(184&lt;-1be) mr=0,sb=11,c=ff,rv=ff,cfwd=00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Auto ATD Svc(0184) cause=9b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VMS DTMF Sending Info(vms_pno 0184, send_buf[b2 a1 5f ff ff ff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$ prt 0 (Disable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In case of SMDA Service Fai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$ prt 18 (Enab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[SMDA Result:Serial_NO(0000)]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Current Time : 2002/01/28 05:30:1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Use Telno : 1aa1ff    Used Line : 0084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Out Digit(Local:2)=1aaa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Start Time : 2002/01/28 05:30:02  End Time : 2002/01/28 05:30:1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Metering Units = 13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$ prt 0 (Disab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$ dqh 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# Fname =   pmstx.dq  in-p = 1  out-p = 0       64 * 2710 : PMS TX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9480" y="90360"/>
            <a:ext cx="521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System Monitoring Command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762120"/>
            <a:ext cx="8763120" cy="54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$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hel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: available commands display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$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di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: display the files in DiskOnChip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$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de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file_name : delete the file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$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re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file_name1 file_name2 : rename the file_name1 to file_name2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$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cop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file_name1 file_name2 : copy the file_name1 to file_name2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$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forma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ds0: DiskOnChip forma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$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netcf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-d(c) : display(change) network configuration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$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ko-KR" sz="1400" spc="-1" strike="noStrike">
                <a:solidFill>
                  <a:srgbClr val="3333cc"/>
                </a:solidFill>
                <a:latin typeface="Arial"/>
                <a:ea typeface="새굴림"/>
              </a:rPr>
              <a:t>dm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address : display the value of the address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$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cm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address : change the value of the address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address current_value new_value    : change the valu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address current_value .                    : exit to change mod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ko-KR" sz="1400" spc="-1" strike="noStrike">
                <a:solidFill>
                  <a:srgbClr val="ff0000"/>
                </a:solidFill>
                <a:latin typeface="Arial"/>
                <a:ea typeface="새굴림"/>
              </a:rPr>
              <a:t>$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ko-KR" sz="1400" spc="-1" strike="noStrike">
                <a:solidFill>
                  <a:srgbClr val="3333cc"/>
                </a:solidFill>
                <a:latin typeface="Arial"/>
                <a:ea typeface="새굴림"/>
              </a:rPr>
              <a:t>qh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*(q_number) : display all kinds of system queue(the queue) status. (Local command, Local event…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ko-KR" sz="1400" spc="-1" strike="noStrike">
                <a:solidFill>
                  <a:srgbClr val="ff0000"/>
                </a:solidFill>
                <a:latin typeface="Arial"/>
                <a:ea typeface="새굴림"/>
              </a:rPr>
              <a:t>$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ko-KR" sz="1400" spc="-1" strike="noStrike">
                <a:solidFill>
                  <a:srgbClr val="3333cc"/>
                </a:solidFill>
                <a:latin typeface="Arial"/>
                <a:ea typeface="새굴림"/>
              </a:rPr>
              <a:t>qd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out_point count q_number : display the queue content from  in_point to in_point + count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ko-KR" sz="1400" spc="-1" strike="noStrike">
                <a:solidFill>
                  <a:srgbClr val="ff0000"/>
                </a:solidFill>
                <a:latin typeface="Arial"/>
                <a:ea typeface="새굴림"/>
              </a:rPr>
              <a:t>$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ko-KR" sz="1400" spc="-1" strike="noStrike">
                <a:solidFill>
                  <a:srgbClr val="3333cc"/>
                </a:solidFill>
                <a:latin typeface="Arial"/>
                <a:ea typeface="새굴림"/>
              </a:rPr>
              <a:t>dqh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*(q_number) : display all kinds of disk queue(the queue) status. (fault.dq, pmstx.dq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ko-KR" sz="1400" spc="-1" strike="noStrike">
                <a:solidFill>
                  <a:srgbClr val="ff0000"/>
                </a:solidFill>
                <a:latin typeface="Arial"/>
                <a:ea typeface="새굴림"/>
              </a:rPr>
              <a:t>$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ko-KR" sz="1400" spc="-1" strike="noStrike">
                <a:solidFill>
                  <a:srgbClr val="3333cc"/>
                </a:solidFill>
                <a:latin typeface="Arial"/>
                <a:ea typeface="새굴림"/>
              </a:rPr>
              <a:t>dqd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out_point count q_number : display the disk content from  in_point to in_point + count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ko-KR" sz="1400" spc="-1" strike="noStrike">
                <a:solidFill>
                  <a:srgbClr val="ff0000"/>
                </a:solidFill>
                <a:latin typeface="Arial"/>
                <a:ea typeface="새굴림"/>
              </a:rPr>
              <a:t>$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ko-KR" sz="1400" spc="-1" strike="noStrike">
                <a:solidFill>
                  <a:srgbClr val="3333cc"/>
                </a:solidFill>
                <a:latin typeface="Arial"/>
                <a:ea typeface="새굴림"/>
              </a:rPr>
              <a:t>call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: jump to call monito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61280" y="90360"/>
            <a:ext cx="59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CALL Level Monitoring Command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685800"/>
            <a:ext cx="8763120" cy="57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ALL_MON&gt;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hel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: available commands display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ALL_MON&gt;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e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: return to system monitor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ALL_MON&gt;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cpmver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: display the version of active cpm.img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ALL_MON&gt;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vdvid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: display the device identification value(device_id)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ALL_MON&gt;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tl a(port_no1 port_no2 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: trace enable for all call message(from the port_no1 to the port_no2 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                       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tl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: trace disable for the trace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ALL_MON&gt;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dv device_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: trace enable for the device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                       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dv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: trace disable for the trace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ALL_MON&gt;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lin port_n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: display the port status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ALL_MON&gt;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lis port_n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: display the ports status from port_no to port_no + 32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ALL_MON&gt;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itl c(f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: trace enable for ISDN L3 message by complete mode(flow mode)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                       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itl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: trace disable for the trace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ALL_MON&gt;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qtl c(f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: trace enable for QSIG L3 message by complete mode(flow mode)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                       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qtl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: trace disable for the trace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ALL_MON&gt;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prirs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port_no : start PRI RESTART PROCEDURE of the slot including the port_no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61280" y="90360"/>
            <a:ext cx="59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CALL Level Monitoring Command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809640"/>
            <a:ext cx="876312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ALL_MON&gt;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mbwsw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: make nailed swit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ALL_MON&gt;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cbwsw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: cur nailed swit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ALL_MON&gt;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ex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return to system monitor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ALL_MON&gt;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swm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: jump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to switch monitor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ALL_MON&gt;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 db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: jump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to data base monitor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BD00028_" descr=""/>
          <p:cNvPicPr/>
          <p:nvPr/>
        </p:nvPicPr>
        <p:blipFill>
          <a:blip r:embed="rId1"/>
          <a:stretch/>
        </p:blipFill>
        <p:spPr>
          <a:xfrm>
            <a:off x="4826160" y="2004840"/>
            <a:ext cx="370836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59480" y="90360"/>
            <a:ext cx="50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Switch Monitoring Command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152280" y="809640"/>
            <a:ext cx="8763120" cy="34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S-SWM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hel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: available commands display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S-SWM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vg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a(group_no) : display all(group_no) switch matrix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S-SWM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msw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port_no1 port_2 : make both way switch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S-SWM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csw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port_no1 port_2 : cut both way switch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S-SWM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mr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port_no1 port_2 : make one way switch from port_no2 to port_no1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S-SWM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crw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port_no1 port_2 : cut one way switch from port_no2 to port_no1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S-SWM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gainse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dtmf_rx_gain port_rx_gain : set dtmf(0x00 ~ 0x1F) receive gain and ports(0x20 ~ 0x3FF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receive gain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S_SWM&gt;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ex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return to call monitor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BD05679_" descr=""/>
          <p:cNvPicPr/>
          <p:nvPr/>
        </p:nvPicPr>
        <p:blipFill>
          <a:blip r:embed="rId1"/>
          <a:stretch/>
        </p:blipFill>
        <p:spPr>
          <a:xfrm>
            <a:off x="4800600" y="3505320"/>
            <a:ext cx="2514600" cy="24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60200" y="90360"/>
            <a:ext cx="566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Data Base Monitoring Command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809640"/>
            <a:ext cx="876312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S-DB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hel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: available commands display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S-DB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di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*                 : display all data base start address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      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di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characters : display the data base start address including the characters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S-DB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t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data_base_name[index] : display the data base value by the index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새굴림"/>
              </a:rPr>
              <a:t>CS_DB&gt;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새굴림"/>
              </a:rPr>
              <a:t>ex</a:t>
            </a: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새굴림"/>
              </a:rPr>
              <a:t> 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return to call monitor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0" name="HM00363_" descr=""/>
          <p:cNvPicPr/>
          <p:nvPr/>
        </p:nvPicPr>
        <p:blipFill>
          <a:blip r:embed="rId1"/>
          <a:stretch/>
        </p:blipFill>
        <p:spPr>
          <a:xfrm>
            <a:off x="4648320" y="2438280"/>
            <a:ext cx="345600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58400" y="90360"/>
            <a:ext cx="523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Reading the Switching status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801720"/>
            <a:ext cx="5105160" cy="50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CS-SWM&gt; vgs 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0    1    2     3    4     5    6    7       8    9    a     b    c     d    e    f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#000   xxx xxx xxx xxx xxx xxx xxx xxx   xxx xxx xxx xxx xxx xxx xxx xxx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#010   xxx xxx xxx xxx xxx xxx xxx xxx   xxx xxx xxx xxx xxx xxx xxx xxx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#020   xxx xxx xxx 040 xxx xxx xxx xxx   xxx xxx xxx xxx xxx xxx xxx xxx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#030   xxx xxx xxx xxx xxx xxx xxx xxx   xxx xxx xxx xxx xxx xxx xxx xxx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#040   023 xxx xxx xxx xxx xxx xxx 08a  xxx xxx xxx xxx xxx xxx xxx xxx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#050   xxx xxx xxx xxx xxx xxx xxx xxx   xxx xxx xxx xxx xxx xxx xxx xxx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#060   xxx xxx xxx xxx xxx xxx xxx xxx   xxx xxx xxx xxx xxx xxx xxx xxx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#070   xxx xxx xxx xxx xxx xxx xxx xxx   xxx xxx xxx xxx xxx xxx xxx xxx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#080   xxx xxx xxx xxx xxx xxx xxx xxx   xxx xxx 047 xxx xxx xxx xxx xxx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#090   xxx xxx xxx xxx xxx xxx xxx xxx   xxx xxx xxx xxx xxx xxx xxx xxx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#0a0   xxx xxx xxx xxx xxx xxx xxx xxx   xxx xxx xxx xxx xxx xxx xxx xxx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#0b0   xxx xxx xxx xxx xxx xxx xxx xxx   xxx xxx xxx xxx xxx xxx xxx xxx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#0c0   xxx xxx xxx xxx xxx xxx xxx xxx   xxx xxx xxx xxx xxx xxx xxx xxx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#0d0   xxx xxx xxx xxx xxx xxx xxx xxx   xxx xxx xxx xxx xxx xxx xxx xxx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#0e0   xxx xxx xxx xxx xxx xxx xxx xxx   xxx xxx xxx xxx xxx xxx xxx xxx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#0f0   xxx xxx xxx xxx xxx xxx xxx xxx   xxx xxx xxx xxx xxx xxx xxx xxx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6324480" y="1886040"/>
            <a:ext cx="2590920" cy="33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* system tone por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0x00 ~ 0x0f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* DTMF sender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0x10 ~ 0x1f(TX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* DTMF Receiver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0x00 ~ 0x2f(RX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* on conversation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0x23 port and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새굴림"/>
              </a:rPr>
              <a:t> 0x40 por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0x47 port and 0x8a por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56960" y="90360"/>
            <a:ext cx="484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Reading call trace messag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685800"/>
            <a:ext cx="7467840" cy="10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새굴림"/>
              </a:rPr>
              <a:t>[ Format 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E042 &lt;DE-&gt;CA&gt;   [0b][12] Off_Hook.......     [00/00] 00 01 02 f6 6a 9c 01 02 82 f6 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E042 &lt;CA-&gt;DE&gt;   [0b][97] Receive Digits.   [00/00] ff ff ff ff ff ff ff ff ff ff 22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4038480" y="1752480"/>
            <a:ext cx="2286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Additional Dat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3809880" y="205740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Sub Stat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3581280" y="2362320"/>
            <a:ext cx="2743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Main Stat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2286000" y="2666880"/>
            <a:ext cx="4038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Message Descrip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2057400" y="2971800"/>
            <a:ext cx="4267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Message ID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3276720"/>
            <a:ext cx="4572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Device ID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3581280"/>
            <a:ext cx="5410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Message Direc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3886200"/>
            <a:ext cx="5715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Port Number(port_no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4191120"/>
            <a:ext cx="58672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새굴림"/>
              </a:rPr>
              <a:t>Type of the port_no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4876920" y="1600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3886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3657600" y="16002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16002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2133720" y="16002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1828800" y="16002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1219320" y="16002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16002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160020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4876920"/>
            <a:ext cx="83818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* Message Direction :AE(SLT), DE(DTEL), AD(ATD), WT(DECT), W2(DECT2), CO(APTC), RE(ALTC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DT(DNIC-DTC), MF(DTMF), BS(PRI/BRI), VP(VPM), IP(VOIP), TM(TIMER)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* Type of the port_no : E(Extension), T(Trunk), P(PRI/BRIT/QSIG), B(BRIS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58400" y="90360"/>
            <a:ext cx="659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Reading ISDN/QSIG L3 trace messag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762120"/>
            <a:ext cx="8001000" cy="54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PBX                                                       NOD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|                                                               |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|              Q_SETUP       (QT:0122 S:00)|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|---------------------------------------------------&gt;| 00000708 0201b405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|  SAPI=00 TEI=00 CRL=02 CR=01b4   | 04038090 a31803a1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|                                                               | 83826c06 0081323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|                                                               | 30317005 c931303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|                                                               | 3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|                                                               |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|     I_ALERTING            (PT:0081 S:03)|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00000808 02819801 |&lt;---------------------------------------------------|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1803a983 81              |  SAPI=00 TEI=00 CRL=02 CR=8198   |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|                                                               |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|        Q_RELEASE        (QT:0122 S:01)|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|---------------------------------------------------&gt;| 00000708 0201b44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|  SAPI=00 TEI=00 CRL=02 CR=01b4   | 0802819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새굴림"/>
              </a:rPr>
              <a:t>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0:40:05Z</dcterms:created>
  <dc:creator>Jerry Joo</dc:creator>
  <dc:description/>
  <dc:language>en-US</dc:language>
  <cp:lastModifiedBy>Axel</cp:lastModifiedBy>
  <dcterms:modified xsi:type="dcterms:W3CDTF">2004-02-10T16:00:46Z</dcterms:modified>
  <cp:revision>161</cp:revision>
  <dc:subject/>
  <dc:title>PowerPoint 프레젠테이션</dc:title>
</cp:coreProperties>
</file>