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3B5B-FAC3-4505-8945-1448AA0DC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83C7-996B-4AFE-8D34-472A1A1BA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00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F053-0101-4AA6-BD4E-3A89A7BFC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658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27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658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27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0DBD-0ED3-46A1-B24E-A84428E54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520" y="378000"/>
            <a:ext cx="853452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62DF-61A5-4E01-8BA0-6691EB4C8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00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2860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00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658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027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2860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658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027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3FC1-E0A0-42F2-92F2-1FF9497AF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28E2-DD0F-4030-A725-0169971CA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7E30-F33F-4810-B96C-B1ECA87E5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520" y="378000"/>
            <a:ext cx="853452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876D-87C9-4C07-8867-590869235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58E4-7702-4602-928B-42239C2C9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00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FBF3-E825-44CD-820A-C15861693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9FC1-AB56-41B1-A8F8-FAF2B5CC8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56204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Kino MT"/>
              <a:buChar char="—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98108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Kino MT"/>
              <a:buChar char="—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98108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Kino MT"/>
              <a:buChar char="—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98108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Kino MT"/>
              <a:buChar char="—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6232680" y="6840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066680"/>
            <a:ext cx="6858000" cy="7632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4D01-E912-44C4-A429-4EC36A3389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0200" y="196920"/>
            <a:ext cx="502920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15040" y="128520"/>
            <a:ext cx="1906560" cy="307080"/>
            <a:chOff x="7115040" y="128520"/>
            <a:chExt cx="1906560" cy="307080"/>
          </a:xfrm>
        </p:grpSpPr>
        <p:graphicFrame>
          <p:nvGraphicFramePr>
            <p:cNvPr id="7" name=""/>
            <p:cNvGraphicFramePr/>
            <p:nvPr/>
          </p:nvGraphicFramePr>
          <p:xfrm>
            <a:off x="7115040" y="152280"/>
            <a:ext cx="274680" cy="282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115040" y="152280"/>
                      <a:ext cx="274680" cy="28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7391520" y="128520"/>
              <a:ext cx="163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G Electronic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3840" cy="190332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3600" rIns="936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09480"/>
            <a:ext cx="8686800" cy="563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32680" y="6840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447920"/>
            <a:ext cx="7772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008840" y="227160"/>
            <a:ext cx="1906560" cy="307080"/>
            <a:chOff x="7008840" y="227160"/>
            <a:chExt cx="1906560" cy="307080"/>
          </a:xfrm>
        </p:grpSpPr>
        <p:graphicFrame>
          <p:nvGraphicFramePr>
            <p:cNvPr id="51" name=""/>
            <p:cNvGraphicFramePr/>
            <p:nvPr/>
          </p:nvGraphicFramePr>
          <p:xfrm>
            <a:off x="7008840" y="250920"/>
            <a:ext cx="274680" cy="282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08840" y="250920"/>
                      <a:ext cx="274680" cy="28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285320" y="227160"/>
              <a:ext cx="163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G Electronic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Kino MT"/>
              <a:buChar char="—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Kino MT"/>
              <a:buChar char="—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Kino M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Kino MT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848720" cy="18288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3600" rIns="936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</a:t>
            </a:r>
            <a:r>
              <a:rPr b="1" i="1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Command (TL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2895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ALL_MON&gt; TL 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race All Ports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1295280"/>
            <a:ext cx="5715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tl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2] Off_Hook....... [00/00] 00 00 00 00 00 00 00 00 00 00 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7] Receive Digits. [00/00] ff ff ff ff ff ff ff ff ff ff b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01 &lt;SW-&gt;SW&gt; [bb][01] Make Switching. [ff/ff]    00a2 &lt;-- 0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1] Start Tone Lock [00/00] 00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f6 &lt;AD-&gt;CA&gt; [04][20] ATD Reset ..... [00/00] 01 01 ff ff ff ff ff ff ff ff e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4] Start Dial..... [02/00] 00 00 00 00 00 00 00 00 00 00 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SW-&gt;SW&gt; [bb][00] Cut Switching.. [02/00]    00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2] Stop Tone Lock. [02/00] ff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3] Start Dgt Lock. [02/00] 0c 02 58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c0] Clear LCD  .... [02/00] 01 ff ff ff ff ff ff ff ff ff 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d6] Voice Connect.. [02/00] ff ff ff ff ff ff ff ff ff ff 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2 00 00 00 00 00 00 00 00 00 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2               [02/00] 32 ff ff ff ff ff ff ff ff ff 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a 00 00 00 00 00 00 00 00 00 2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0               [02/00] 30 ff ff ff ff ff ff ff ff ff 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a 00 00 00 00 00 00 00 00 00 2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0               [02/00] 30 ff ff ff ff ff ff ff ff ff 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8 00 00 00 00 00 00 00 00 00 2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8               [02/00] 38 ff ff ff ff ff ff ff ff ff 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8] Stop RCV digit. [02/00] ff ff ff ff ff ff ff ff ff ff 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t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F6C4-CE38-4CFC-AF8E-CA544A2CE3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Command (TL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1295280"/>
            <a:ext cx="5715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tl 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2] Off_Hook....... [00/00] 00 00 00 00 00 00 00 00 00 00 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7] Receive Digits. [00/00] ff ff ff ff ff ff ff ff ff ff b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1] Start Tone Lock [00/00] 00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4] Start Dial..... [02/00] 00 00 00 00 00 00 00 00 00 00 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SW-&gt;SW&gt; [bb][00] Cut Switching.. [02/00]    00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2] Stop Tone Lock. [02/00] ff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3] Start Dgt Lock. [02/00] 0c 02 58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c0] Clear LCD  .... [02/00] 01 ff ff ff ff ff ff ff ff ff 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d6] Voice Connect.. [02/00] ff ff ff ff ff ff ff ff ff ff 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2 00 00 00 00 00 00 00 00 00 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2               [02/00] 32 ff ff ff ff ff ff ff ff ff 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a 00 00 00 00 00 00 00 00 00 2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0               [02/00] 30 ff ff ff ff ff ff ff ff ff 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a 00 00 00 00 00 00 00 00 00 2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0               [02/00] 30 ff ff ff ff ff ff ff ff ff 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8 00 00 00 00 00 00 00 00 00 2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8               [02/00] 38 ff ff ff ff ff ff ff ff ff 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8] Stop RCV digit. [02/00] ff ff ff ff ff ff ff ff ff ff 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4] Stop Dgt Lock.. [02/00] ff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81] Start Tone Lock [02/00] 09 ff ff ff ff ff ff ff ff ff 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4] Call To........ [05/00] 00 20 08 ff ff ff ff ff ff ff 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TM&gt; [00][90] TONLock TimeOut [05/00] 09 09 7c 01 45 b8 84 01 45 a0 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3429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ALL_MON&gt; TL port#(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race Ports……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Line ID/Port No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52280" y="2438280"/>
          <a:ext cx="335304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438280"/>
                    <a:ext cx="335304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D2A2-FE9F-4E04-B742-79FF0CBC4D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Command (DV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3276720" y="1295280"/>
            <a:ext cx="5715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dv 0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a ff ff ff ff ff ff ff ff 9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9 ff ff ff ff ff ff ff ff 9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8 ff ff ff ff ff ff ff ff a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7 ff ff ff ff ff ff ff ff 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6 ff ff ff ff ff ff ff ff a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5 ff ff ff ff ff ff ff ff a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3c] Ring Down Key.. [00/00] 00 00 00 00 00 00 00 00 00 00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f] ACD TERM Contrl [00/00] 0d 04 ff ff ff ff ff ff ff ff a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2] Off_Hook....... [00/00] 00 00 00 00 00 00 00 00 00 00 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97] Receive Digits. [00/00] ff ff ff ff ff ff ff ff ff ff b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4] Start Dial..... [02/00] 00 00 00 00 00 00 00 00 00 00 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c0] Clear LCD  .... [02/00] 01 ff ff ff ff ff ff ff ff ff 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d6] Voice Connect.. [02/00] ff ff ff ff ff ff ff ff ff ff 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DE-&gt;CA&gt; [0b][15] Dialed Digit... [02/00] 02 00 00 00 00 00 00 00 00 00 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E0a2 &lt;CA-&gt;DE&gt; [0b][bc] 2               [02/00] 32 ff ff ff ff ff ff ff ff ff 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d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2895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ALL_MON&gt; DV no1….no8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race Devi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257184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3467-4735-4C9B-B6E2-CBB7A2DD8E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Command (ITL/QTL)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3276720" y="1295280"/>
            <a:ext cx="5715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itl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                  PBX                               NO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I_SETUP       (PT:0063 S:00)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---------------------------------&gt;| 00010708 0201af05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SAPI=00 TEI=01 CRL=02 CR=01af   | 04038090 a31803a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83836c06 0181323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3038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I_SETUP       (PT:0043 S:00)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00000808 0201af05 |&lt;---------------------------------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04038090 a31803a1 |  SAPI=00 TEI=00 CRL=02 CR=01af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83836c06 01813230 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038              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I_SETUP ACK     (PT:0043 S:06)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---------------------------------&gt;| 00000708 0281af0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SAPI=00 TEI=00 CRL=02 CR=81af   | 1803a983 831e028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8a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|    I_SETUP ACK     (PT:0063 S:01)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00000808 0281af0d |&lt;---------------------------------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803a983 831e0281 |  SAPI=00 TEI=00 CRL=02 CR=81af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8a                |                                  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CALL_MON&gt;i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2895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ALL_MON&gt; ITL c (port#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race ISDN(QSIG) Message All Port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Port#1…Port#7 with the Complete mo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D0E9C-115A-419C-9488-D88CC69CDB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723960" y="53352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83000" y="533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59240" y="53352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796160" y="53352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59520" y="533520"/>
            <a:ext cx="583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44480" y="5335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8272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21560" y="533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1336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0080" y="228600"/>
            <a:ext cx="7772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tension (SL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T) Call Trace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27200" y="617220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86240" y="61722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62480" y="617220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799400" y="617220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62400" y="6172200"/>
            <a:ext cx="584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47720" y="6172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8596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2480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1660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825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0574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87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257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7676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62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326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1470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1612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109520" y="1066680"/>
            <a:ext cx="2700360" cy="304920"/>
            <a:chOff x="1109520" y="1066680"/>
            <a:chExt cx="2700360" cy="304920"/>
          </a:xfrm>
        </p:grpSpPr>
        <p:sp>
          <p:nvSpPr>
            <p:cNvPr id="399" name=""/>
            <p:cNvSpPr/>
            <p:nvPr/>
          </p:nvSpPr>
          <p:spPr>
            <a:xfrm>
              <a:off x="1109520" y="1371600"/>
              <a:ext cx="27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09960" y="1066680"/>
              <a:ext cx="838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ff Hoo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4138560" y="1428840"/>
            <a:ext cx="1066680" cy="471240"/>
            <a:chOff x="4138560" y="1428840"/>
            <a:chExt cx="1066680" cy="471240"/>
          </a:xfrm>
        </p:grpSpPr>
        <p:sp>
          <p:nvSpPr>
            <p:cNvPr id="402" name=""/>
            <p:cNvSpPr/>
            <p:nvPr/>
          </p:nvSpPr>
          <p:spPr>
            <a:xfrm>
              <a:off x="4600440" y="174780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38560" y="1428840"/>
              <a:ext cx="1066680" cy="3045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2766960" y="1981080"/>
            <a:ext cx="1219320" cy="304920"/>
            <a:chOff x="2766960" y="1981080"/>
            <a:chExt cx="1219320" cy="304920"/>
          </a:xfrm>
        </p:grpSpPr>
        <p:sp>
          <p:nvSpPr>
            <p:cNvPr id="405" name=""/>
            <p:cNvSpPr/>
            <p:nvPr/>
          </p:nvSpPr>
          <p:spPr>
            <a:xfrm flipH="1">
              <a:off x="2986200" y="2286000"/>
              <a:ext cx="82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66960" y="1981080"/>
              <a:ext cx="121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138560" y="3260880"/>
            <a:ext cx="1066680" cy="471240"/>
            <a:chOff x="4138560" y="3260880"/>
            <a:chExt cx="1066680" cy="471240"/>
          </a:xfrm>
        </p:grpSpPr>
        <p:sp>
          <p:nvSpPr>
            <p:cNvPr id="408" name=""/>
            <p:cNvSpPr/>
            <p:nvPr/>
          </p:nvSpPr>
          <p:spPr>
            <a:xfrm>
              <a:off x="4600440" y="357984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38560" y="3260880"/>
              <a:ext cx="1066680" cy="3045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066760" y="3813120"/>
            <a:ext cx="1752840" cy="300240"/>
            <a:chOff x="2066760" y="3813120"/>
            <a:chExt cx="1752840" cy="300240"/>
          </a:xfrm>
        </p:grpSpPr>
        <p:sp>
          <p:nvSpPr>
            <p:cNvPr id="411" name=""/>
            <p:cNvSpPr/>
            <p:nvPr/>
          </p:nvSpPr>
          <p:spPr>
            <a:xfrm>
              <a:off x="2066760" y="411336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86080" y="3813120"/>
              <a:ext cx="1218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Dial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143240" y="4632480"/>
            <a:ext cx="1067040" cy="471240"/>
            <a:chOff x="4143240" y="4632480"/>
            <a:chExt cx="1067040" cy="471240"/>
          </a:xfrm>
        </p:grpSpPr>
        <p:sp>
          <p:nvSpPr>
            <p:cNvPr id="414" name=""/>
            <p:cNvSpPr/>
            <p:nvPr/>
          </p:nvSpPr>
          <p:spPr>
            <a:xfrm>
              <a:off x="4605480" y="49514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43240" y="4632480"/>
              <a:ext cx="1067040" cy="3045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2971800" y="5184720"/>
            <a:ext cx="866880" cy="304920"/>
            <a:chOff x="2971800" y="5184720"/>
            <a:chExt cx="866880" cy="304920"/>
          </a:xfrm>
        </p:grpSpPr>
        <p:sp>
          <p:nvSpPr>
            <p:cNvPr id="417" name=""/>
            <p:cNvSpPr/>
            <p:nvPr/>
          </p:nvSpPr>
          <p:spPr>
            <a:xfrm flipH="1">
              <a:off x="2986200" y="54896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71800" y="5184720"/>
              <a:ext cx="86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2971800" y="5634000"/>
            <a:ext cx="866880" cy="309600"/>
            <a:chOff x="2971800" y="5634000"/>
            <a:chExt cx="866880" cy="309600"/>
          </a:xfrm>
        </p:grpSpPr>
        <p:sp>
          <p:nvSpPr>
            <p:cNvPr id="420" name=""/>
            <p:cNvSpPr/>
            <p:nvPr/>
          </p:nvSpPr>
          <p:spPr>
            <a:xfrm flipH="1">
              <a:off x="2986200" y="5943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71800" y="5634000"/>
              <a:ext cx="86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Dgt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057040" y="2903400"/>
            <a:ext cx="1762200" cy="295560"/>
            <a:chOff x="2057040" y="2903400"/>
            <a:chExt cx="1762200" cy="295560"/>
          </a:xfrm>
        </p:grpSpPr>
        <p:sp>
          <p:nvSpPr>
            <p:cNvPr id="423" name=""/>
            <p:cNvSpPr/>
            <p:nvPr/>
          </p:nvSpPr>
          <p:spPr>
            <a:xfrm flipH="1">
              <a:off x="2057040" y="3198960"/>
              <a:ext cx="176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71680" y="2903400"/>
              <a:ext cx="121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TMF AsnReq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085760" y="4270320"/>
            <a:ext cx="2729160" cy="300240"/>
            <a:chOff x="1085760" y="4270320"/>
            <a:chExt cx="2729160" cy="300240"/>
          </a:xfrm>
        </p:grpSpPr>
        <p:sp>
          <p:nvSpPr>
            <p:cNvPr id="426" name=""/>
            <p:cNvSpPr/>
            <p:nvPr/>
          </p:nvSpPr>
          <p:spPr>
            <a:xfrm>
              <a:off x="1085760" y="4570560"/>
              <a:ext cx="272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05120" y="4270320"/>
              <a:ext cx="1218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074240" y="2438280"/>
            <a:ext cx="2752920" cy="304920"/>
            <a:chOff x="1074240" y="2438280"/>
            <a:chExt cx="2752920" cy="304920"/>
          </a:xfrm>
        </p:grpSpPr>
        <p:sp>
          <p:nvSpPr>
            <p:cNvPr id="429" name=""/>
            <p:cNvSpPr/>
            <p:nvPr/>
          </p:nvSpPr>
          <p:spPr>
            <a:xfrm flipH="1">
              <a:off x="1074240" y="2743200"/>
              <a:ext cx="275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05120" y="2438280"/>
              <a:ext cx="1218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AFA5-9649-448E-A3E9-0D038AD6CD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D687-4F9E-4270-82E5-8D5D36589E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723960" y="53352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83000" y="533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59240" y="53352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96160" y="53352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59520" y="533520"/>
            <a:ext cx="583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44480" y="5335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8272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21560" y="533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1336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0080" y="228600"/>
            <a:ext cx="7772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tension (SL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T) Call Trace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27200" y="617220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486240" y="61722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62480" y="617220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99400" y="617220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62400" y="6172200"/>
            <a:ext cx="584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47720" y="6172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8596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2480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1660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825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0574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87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257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67676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62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2326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1470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1612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138560" y="3719520"/>
            <a:ext cx="1066680" cy="471600"/>
            <a:chOff x="4138560" y="3719520"/>
            <a:chExt cx="1066680" cy="471600"/>
          </a:xfrm>
        </p:grpSpPr>
        <p:sp>
          <p:nvSpPr>
            <p:cNvPr id="461" name=""/>
            <p:cNvSpPr/>
            <p:nvPr/>
          </p:nvSpPr>
          <p:spPr>
            <a:xfrm>
              <a:off x="4600440" y="4038480"/>
              <a:ext cx="152640" cy="15264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38560" y="371952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081080" y="2895480"/>
            <a:ext cx="2728800" cy="304920"/>
            <a:chOff x="1081080" y="2895480"/>
            <a:chExt cx="2728800" cy="304920"/>
          </a:xfrm>
        </p:grpSpPr>
        <p:sp>
          <p:nvSpPr>
            <p:cNvPr id="464" name=""/>
            <p:cNvSpPr/>
            <p:nvPr/>
          </p:nvSpPr>
          <p:spPr>
            <a:xfrm>
              <a:off x="1081080" y="3200400"/>
              <a:ext cx="27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90880" y="2895480"/>
              <a:ext cx="838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138560" y="4633920"/>
            <a:ext cx="1066680" cy="471600"/>
            <a:chOff x="4138560" y="4633920"/>
            <a:chExt cx="1066680" cy="471600"/>
          </a:xfrm>
        </p:grpSpPr>
        <p:sp>
          <p:nvSpPr>
            <p:cNvPr id="467" name=""/>
            <p:cNvSpPr/>
            <p:nvPr/>
          </p:nvSpPr>
          <p:spPr>
            <a:xfrm>
              <a:off x="4600440" y="4952880"/>
              <a:ext cx="152640" cy="15264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38560" y="463392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2924280" y="4267080"/>
            <a:ext cx="961920" cy="304920"/>
            <a:chOff x="2924280" y="4267080"/>
            <a:chExt cx="961920" cy="304920"/>
          </a:xfrm>
        </p:grpSpPr>
        <p:sp>
          <p:nvSpPr>
            <p:cNvPr id="470" name=""/>
            <p:cNvSpPr/>
            <p:nvPr/>
          </p:nvSpPr>
          <p:spPr>
            <a:xfrm>
              <a:off x="2986200" y="4572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924280" y="42670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Dgt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2971800" y="5181480"/>
            <a:ext cx="866880" cy="304920"/>
            <a:chOff x="2971800" y="5181480"/>
            <a:chExt cx="866880" cy="304920"/>
          </a:xfrm>
        </p:grpSpPr>
        <p:sp>
          <p:nvSpPr>
            <p:cNvPr id="473" name=""/>
            <p:cNvSpPr/>
            <p:nvPr/>
          </p:nvSpPr>
          <p:spPr>
            <a:xfrm flipH="1">
              <a:off x="2986200" y="54864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971800" y="5181480"/>
              <a:ext cx="86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3847680" y="5638680"/>
            <a:ext cx="1585800" cy="304920"/>
            <a:chOff x="3847680" y="5638680"/>
            <a:chExt cx="1585800" cy="304920"/>
          </a:xfrm>
        </p:grpSpPr>
        <p:sp>
          <p:nvSpPr>
            <p:cNvPr id="476" name=""/>
            <p:cNvSpPr/>
            <p:nvPr/>
          </p:nvSpPr>
          <p:spPr>
            <a:xfrm flipH="1">
              <a:off x="3847680" y="5943600"/>
              <a:ext cx="15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38640" y="5638680"/>
              <a:ext cx="86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Give Ring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2062080" y="1523880"/>
            <a:ext cx="1752840" cy="304920"/>
            <a:chOff x="2062080" y="1523880"/>
            <a:chExt cx="1752840" cy="304920"/>
          </a:xfrm>
        </p:grpSpPr>
        <p:sp>
          <p:nvSpPr>
            <p:cNvPr id="479" name=""/>
            <p:cNvSpPr/>
            <p:nvPr/>
          </p:nvSpPr>
          <p:spPr>
            <a:xfrm>
              <a:off x="2062080" y="18288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81400" y="1523880"/>
              <a:ext cx="1218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cv Dig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062080" y="1066680"/>
            <a:ext cx="1752840" cy="304920"/>
            <a:chOff x="2062080" y="1066680"/>
            <a:chExt cx="1752840" cy="304920"/>
          </a:xfrm>
        </p:grpSpPr>
        <p:sp>
          <p:nvSpPr>
            <p:cNvPr id="482" name=""/>
            <p:cNvSpPr/>
            <p:nvPr/>
          </p:nvSpPr>
          <p:spPr>
            <a:xfrm>
              <a:off x="2381400" y="1066680"/>
              <a:ext cx="1218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cv Dig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62080" y="13716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057400" y="3352680"/>
            <a:ext cx="1752480" cy="304920"/>
            <a:chOff x="2057400" y="3352680"/>
            <a:chExt cx="1752480" cy="304920"/>
          </a:xfrm>
        </p:grpSpPr>
        <p:sp>
          <p:nvSpPr>
            <p:cNvPr id="485" name=""/>
            <p:cNvSpPr/>
            <p:nvPr/>
          </p:nvSpPr>
          <p:spPr>
            <a:xfrm>
              <a:off x="2057400" y="36576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76360" y="3352680"/>
              <a:ext cx="121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DTMF Rls  Re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063880" y="2438280"/>
            <a:ext cx="1752480" cy="304920"/>
            <a:chOff x="2063880" y="2438280"/>
            <a:chExt cx="1752480" cy="304920"/>
          </a:xfrm>
        </p:grpSpPr>
        <p:sp>
          <p:nvSpPr>
            <p:cNvPr id="488" name=""/>
            <p:cNvSpPr/>
            <p:nvPr/>
          </p:nvSpPr>
          <p:spPr>
            <a:xfrm>
              <a:off x="2063880" y="27432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82840" y="2438280"/>
              <a:ext cx="121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cv Dig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063880" y="1981080"/>
            <a:ext cx="1752480" cy="304920"/>
            <a:chOff x="2063880" y="1981080"/>
            <a:chExt cx="1752480" cy="304920"/>
          </a:xfrm>
        </p:grpSpPr>
        <p:sp>
          <p:nvSpPr>
            <p:cNvPr id="491" name=""/>
            <p:cNvSpPr/>
            <p:nvPr/>
          </p:nvSpPr>
          <p:spPr>
            <a:xfrm>
              <a:off x="2382840" y="1981080"/>
              <a:ext cx="1219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Rcv Dig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63880" y="22860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5CC3-426F-46FB-8AD9-F2E53645DD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BA46-52AA-4399-B0C4-8190B057C4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723960" y="53352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483000" y="533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359240" y="53352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96160" y="53352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59520" y="533520"/>
            <a:ext cx="583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44480" y="5335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8272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21560" y="533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1336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30080" y="228600"/>
            <a:ext cx="7772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tension (SL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T) Call Trace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825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0574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987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257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7676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62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326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470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1612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895480" y="2895480"/>
            <a:ext cx="990720" cy="304920"/>
            <a:chOff x="2895480" y="2895480"/>
            <a:chExt cx="990720" cy="304920"/>
          </a:xfrm>
        </p:grpSpPr>
        <p:sp>
          <p:nvSpPr>
            <p:cNvPr id="514" name=""/>
            <p:cNvSpPr/>
            <p:nvPr/>
          </p:nvSpPr>
          <p:spPr>
            <a:xfrm>
              <a:off x="2981160" y="32004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95480" y="2895480"/>
              <a:ext cx="9907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2819160" y="1981080"/>
            <a:ext cx="1104840" cy="304920"/>
            <a:chOff x="2819160" y="1981080"/>
            <a:chExt cx="1104840" cy="304920"/>
          </a:xfrm>
        </p:grpSpPr>
        <p:sp>
          <p:nvSpPr>
            <p:cNvPr id="517" name=""/>
            <p:cNvSpPr/>
            <p:nvPr/>
          </p:nvSpPr>
          <p:spPr>
            <a:xfrm flipH="1">
              <a:off x="2986200" y="2286000"/>
              <a:ext cx="82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818800" y="1981080"/>
              <a:ext cx="11048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TONLock Time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138560" y="5553000"/>
            <a:ext cx="1066680" cy="471600"/>
            <a:chOff x="4138560" y="5553000"/>
            <a:chExt cx="1066680" cy="471600"/>
          </a:xfrm>
        </p:grpSpPr>
        <p:sp>
          <p:nvSpPr>
            <p:cNvPr id="520" name=""/>
            <p:cNvSpPr/>
            <p:nvPr/>
          </p:nvSpPr>
          <p:spPr>
            <a:xfrm>
              <a:off x="4600440" y="587232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138560" y="555300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486400" y="1523880"/>
            <a:ext cx="2666880" cy="304920"/>
            <a:chOff x="5486400" y="1523880"/>
            <a:chExt cx="2666880" cy="304920"/>
          </a:xfrm>
        </p:grpSpPr>
        <p:sp>
          <p:nvSpPr>
            <p:cNvPr id="523" name=""/>
            <p:cNvSpPr/>
            <p:nvPr/>
          </p:nvSpPr>
          <p:spPr>
            <a:xfrm>
              <a:off x="5486400" y="18288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29400" y="15238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end Ring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487840" y="3809880"/>
            <a:ext cx="2667240" cy="306360"/>
            <a:chOff x="5487840" y="3809880"/>
            <a:chExt cx="2667240" cy="306360"/>
          </a:xfrm>
        </p:grpSpPr>
        <p:sp>
          <p:nvSpPr>
            <p:cNvPr id="526" name=""/>
            <p:cNvSpPr/>
            <p:nvPr/>
          </p:nvSpPr>
          <p:spPr>
            <a:xfrm>
              <a:off x="6673680" y="3809880"/>
              <a:ext cx="962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ing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87840" y="4114800"/>
              <a:ext cx="266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728640" y="617220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487680" y="61722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63920" y="6172200"/>
            <a:ext cx="628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800840" y="617220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64200" y="6172200"/>
            <a:ext cx="584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4952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68776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72624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1804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5365800" y="4267080"/>
            <a:ext cx="961920" cy="304920"/>
            <a:chOff x="5365800" y="4267080"/>
            <a:chExt cx="961920" cy="304920"/>
          </a:xfrm>
        </p:grpSpPr>
        <p:sp>
          <p:nvSpPr>
            <p:cNvPr id="538" name=""/>
            <p:cNvSpPr/>
            <p:nvPr/>
          </p:nvSpPr>
          <p:spPr>
            <a:xfrm>
              <a:off x="5365800" y="42670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ing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67320" y="45720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5481720" y="4724280"/>
            <a:ext cx="2666880" cy="306360"/>
            <a:chOff x="5481720" y="4724280"/>
            <a:chExt cx="2666880" cy="306360"/>
          </a:xfrm>
        </p:grpSpPr>
        <p:sp>
          <p:nvSpPr>
            <p:cNvPr id="541" name=""/>
            <p:cNvSpPr/>
            <p:nvPr/>
          </p:nvSpPr>
          <p:spPr>
            <a:xfrm>
              <a:off x="6667560" y="47242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481720" y="5029200"/>
              <a:ext cx="2666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3838320" y="5181480"/>
            <a:ext cx="1600200" cy="304920"/>
            <a:chOff x="3838320" y="5181480"/>
            <a:chExt cx="1600200" cy="304920"/>
          </a:xfrm>
        </p:grpSpPr>
        <p:sp>
          <p:nvSpPr>
            <p:cNvPr id="544" name=""/>
            <p:cNvSpPr/>
            <p:nvPr/>
          </p:nvSpPr>
          <p:spPr>
            <a:xfrm>
              <a:off x="4191120" y="51814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Line Answer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3838320" y="5486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5338800" y="1066680"/>
            <a:ext cx="961920" cy="304920"/>
            <a:chOff x="5338800" y="1066680"/>
            <a:chExt cx="961920" cy="304920"/>
          </a:xfrm>
        </p:grpSpPr>
        <p:sp>
          <p:nvSpPr>
            <p:cNvPr id="547" name=""/>
            <p:cNvSpPr/>
            <p:nvPr/>
          </p:nvSpPr>
          <p:spPr>
            <a:xfrm>
              <a:off x="5467320" y="13716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8800" y="10666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Ring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4133880" y="2352600"/>
            <a:ext cx="1066680" cy="471600"/>
            <a:chOff x="4133880" y="2352600"/>
            <a:chExt cx="1066680" cy="471600"/>
          </a:xfrm>
        </p:grpSpPr>
        <p:sp>
          <p:nvSpPr>
            <p:cNvPr id="550" name=""/>
            <p:cNvSpPr/>
            <p:nvPr/>
          </p:nvSpPr>
          <p:spPr>
            <a:xfrm>
              <a:off x="4595760" y="26719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33880" y="235260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5475240" y="3333600"/>
            <a:ext cx="2666880" cy="324000"/>
            <a:chOff x="5475240" y="3333600"/>
            <a:chExt cx="2666880" cy="324000"/>
          </a:xfrm>
        </p:grpSpPr>
        <p:sp>
          <p:nvSpPr>
            <p:cNvPr id="553" name=""/>
            <p:cNvSpPr/>
            <p:nvPr/>
          </p:nvSpPr>
          <p:spPr>
            <a:xfrm>
              <a:off x="5475240" y="36576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67560" y="333360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ff Hoo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24A5-12F2-4AD2-B33E-DB8F7C4858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2F5C-CB55-4782-985C-F62D6F7D18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723960" y="53352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483000" y="533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359240" y="53352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96160" y="53352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59520" y="533520"/>
            <a:ext cx="583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44480" y="5335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68272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21560" y="533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1336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0080" y="228600"/>
            <a:ext cx="7772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tension (SL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T) Call Trace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825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987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257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7676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62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326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470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1612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1085760" y="2438280"/>
            <a:ext cx="2724120" cy="304920"/>
            <a:chOff x="1085760" y="2438280"/>
            <a:chExt cx="2724120" cy="304920"/>
          </a:xfrm>
        </p:grpSpPr>
        <p:sp>
          <p:nvSpPr>
            <p:cNvPr id="576" name=""/>
            <p:cNvSpPr/>
            <p:nvPr/>
          </p:nvSpPr>
          <p:spPr>
            <a:xfrm>
              <a:off x="1085760" y="2743200"/>
              <a:ext cx="27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023920" y="2438280"/>
              <a:ext cx="9907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n Hook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4140360" y="4641840"/>
            <a:ext cx="1066680" cy="471600"/>
            <a:chOff x="4140360" y="4641840"/>
            <a:chExt cx="1066680" cy="471600"/>
          </a:xfrm>
        </p:grpSpPr>
        <p:sp>
          <p:nvSpPr>
            <p:cNvPr id="579" name=""/>
            <p:cNvSpPr/>
            <p:nvPr/>
          </p:nvSpPr>
          <p:spPr>
            <a:xfrm>
              <a:off x="4602240" y="496080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40360" y="464184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02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2909880" y="1066680"/>
            <a:ext cx="961920" cy="304920"/>
            <a:chOff x="2909880" y="1066680"/>
            <a:chExt cx="961920" cy="304920"/>
          </a:xfrm>
        </p:grpSpPr>
        <p:sp>
          <p:nvSpPr>
            <p:cNvPr id="582" name=""/>
            <p:cNvSpPr/>
            <p:nvPr/>
          </p:nvSpPr>
          <p:spPr>
            <a:xfrm>
              <a:off x="2990880" y="1371600"/>
              <a:ext cx="81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909880" y="10666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728640" y="617220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87680" y="61722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363920" y="6172200"/>
            <a:ext cx="628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800840" y="617220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164200" y="6172200"/>
            <a:ext cx="584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4952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8776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2624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1804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838320" y="3809880"/>
            <a:ext cx="1600200" cy="304920"/>
            <a:chOff x="3838320" y="3809880"/>
            <a:chExt cx="1600200" cy="304920"/>
          </a:xfrm>
        </p:grpSpPr>
        <p:sp>
          <p:nvSpPr>
            <p:cNvPr id="594" name=""/>
            <p:cNvSpPr/>
            <p:nvPr/>
          </p:nvSpPr>
          <p:spPr>
            <a:xfrm>
              <a:off x="4191120" y="38098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Line Release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3838320" y="4114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4124160" y="1900080"/>
            <a:ext cx="1067040" cy="471600"/>
            <a:chOff x="4124160" y="1900080"/>
            <a:chExt cx="1067040" cy="471600"/>
          </a:xfrm>
        </p:grpSpPr>
        <p:sp>
          <p:nvSpPr>
            <p:cNvPr id="597" name=""/>
            <p:cNvSpPr/>
            <p:nvPr/>
          </p:nvSpPr>
          <p:spPr>
            <a:xfrm>
              <a:off x="4586400" y="221940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24160" y="1900080"/>
              <a:ext cx="106704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146480" y="1440000"/>
            <a:ext cx="1067040" cy="471240"/>
            <a:chOff x="4146480" y="1440000"/>
            <a:chExt cx="1067040" cy="471240"/>
          </a:xfrm>
        </p:grpSpPr>
        <p:sp>
          <p:nvSpPr>
            <p:cNvPr id="600" name=""/>
            <p:cNvSpPr/>
            <p:nvPr/>
          </p:nvSpPr>
          <p:spPr>
            <a:xfrm>
              <a:off x="4146480" y="1440000"/>
              <a:ext cx="1067040" cy="3045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ake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608360" y="175896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085760" y="2901960"/>
            <a:ext cx="2743200" cy="298440"/>
            <a:chOff x="1085760" y="2901960"/>
            <a:chExt cx="2743200" cy="298440"/>
          </a:xfrm>
        </p:grpSpPr>
        <p:sp>
          <p:nvSpPr>
            <p:cNvPr id="603" name=""/>
            <p:cNvSpPr/>
            <p:nvPr/>
          </p:nvSpPr>
          <p:spPr>
            <a:xfrm>
              <a:off x="1940040" y="2901960"/>
              <a:ext cx="1171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85760" y="32004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146480" y="3263760"/>
            <a:ext cx="1067040" cy="471600"/>
            <a:chOff x="4146480" y="3263760"/>
            <a:chExt cx="1067040" cy="471600"/>
          </a:xfrm>
        </p:grpSpPr>
        <p:sp>
          <p:nvSpPr>
            <p:cNvPr id="606" name=""/>
            <p:cNvSpPr/>
            <p:nvPr/>
          </p:nvSpPr>
          <p:spPr>
            <a:xfrm>
              <a:off x="4608360" y="358308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46480" y="3263760"/>
              <a:ext cx="106704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152960" y="4184640"/>
            <a:ext cx="1066680" cy="471600"/>
            <a:chOff x="4152960" y="4184640"/>
            <a:chExt cx="1066680" cy="471600"/>
          </a:xfrm>
        </p:grpSpPr>
        <p:sp>
          <p:nvSpPr>
            <p:cNvPr id="609" name=""/>
            <p:cNvSpPr/>
            <p:nvPr/>
          </p:nvSpPr>
          <p:spPr>
            <a:xfrm>
              <a:off x="4152960" y="418464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614840" y="450360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5334120" y="5181480"/>
            <a:ext cx="961920" cy="304920"/>
            <a:chOff x="5334120" y="5181480"/>
            <a:chExt cx="961920" cy="304920"/>
          </a:xfrm>
        </p:grpSpPr>
        <p:sp>
          <p:nvSpPr>
            <p:cNvPr id="612" name=""/>
            <p:cNvSpPr/>
            <p:nvPr/>
          </p:nvSpPr>
          <p:spPr>
            <a:xfrm>
              <a:off x="5334120" y="518148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art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5482800" y="5486400"/>
              <a:ext cx="73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5479920" y="5645160"/>
            <a:ext cx="2667240" cy="298440"/>
            <a:chOff x="5479920" y="5645160"/>
            <a:chExt cx="2667240" cy="298440"/>
          </a:xfrm>
        </p:grpSpPr>
        <p:sp>
          <p:nvSpPr>
            <p:cNvPr id="615" name=""/>
            <p:cNvSpPr/>
            <p:nvPr/>
          </p:nvSpPr>
          <p:spPr>
            <a:xfrm>
              <a:off x="5479920" y="59436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95880" y="5645160"/>
              <a:ext cx="11718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7791-F659-4A4D-871A-3768ECF094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11D0C-8EA7-437E-A816-8B6B7A7F16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723960" y="53352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83000" y="533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359240" y="533520"/>
            <a:ext cx="62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796160" y="53352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159520" y="533520"/>
            <a:ext cx="583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44480" y="5335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8272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21560" y="533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913360" y="533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30080" y="228600"/>
            <a:ext cx="7772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tension (SL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T) Call Trace 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825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0574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987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82572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67676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6264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2326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14708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161200" y="9144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486400" y="1073160"/>
            <a:ext cx="2666880" cy="298440"/>
            <a:chOff x="5486400" y="1073160"/>
            <a:chExt cx="2666880" cy="298440"/>
          </a:xfrm>
        </p:grpSpPr>
        <p:sp>
          <p:nvSpPr>
            <p:cNvPr id="638" name=""/>
            <p:cNvSpPr/>
            <p:nvPr/>
          </p:nvSpPr>
          <p:spPr>
            <a:xfrm>
              <a:off x="5486400" y="13716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664320" y="1073160"/>
              <a:ext cx="961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n Hoo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728640" y="6172200"/>
            <a:ext cx="717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487680" y="61722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363920" y="6172200"/>
            <a:ext cx="628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800840" y="6172200"/>
            <a:ext cx="723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C/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164200" y="6172200"/>
            <a:ext cx="584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4952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68776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26240" y="6172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T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918040" y="6172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146480" y="2806560"/>
            <a:ext cx="1067040" cy="471600"/>
            <a:chOff x="4146480" y="2806560"/>
            <a:chExt cx="1067040" cy="471600"/>
          </a:xfrm>
        </p:grpSpPr>
        <p:sp>
          <p:nvSpPr>
            <p:cNvPr id="650" name=""/>
            <p:cNvSpPr/>
            <p:nvPr/>
          </p:nvSpPr>
          <p:spPr>
            <a:xfrm>
              <a:off x="4146480" y="2806560"/>
              <a:ext cx="106704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608360" y="312588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5257800" y="1981080"/>
            <a:ext cx="1171440" cy="304920"/>
            <a:chOff x="5257800" y="1981080"/>
            <a:chExt cx="1171440" cy="304920"/>
          </a:xfrm>
        </p:grpSpPr>
        <p:sp>
          <p:nvSpPr>
            <p:cNvPr id="653" name=""/>
            <p:cNvSpPr/>
            <p:nvPr/>
          </p:nvSpPr>
          <p:spPr>
            <a:xfrm>
              <a:off x="5257800" y="1981080"/>
              <a:ext cx="1171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Tone Lo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51480" y="2286000"/>
              <a:ext cx="7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470560" y="2438280"/>
            <a:ext cx="2682720" cy="304920"/>
            <a:chOff x="5470560" y="2438280"/>
            <a:chExt cx="2682720" cy="304920"/>
          </a:xfrm>
        </p:grpSpPr>
        <p:sp>
          <p:nvSpPr>
            <p:cNvPr id="656" name=""/>
            <p:cNvSpPr/>
            <p:nvPr/>
          </p:nvSpPr>
          <p:spPr>
            <a:xfrm>
              <a:off x="6324480" y="2438280"/>
              <a:ext cx="11718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Stop Rcv Dg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70560" y="2743200"/>
              <a:ext cx="268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4138560" y="1438200"/>
            <a:ext cx="1066680" cy="471600"/>
            <a:chOff x="4138560" y="1438200"/>
            <a:chExt cx="1066680" cy="471600"/>
          </a:xfrm>
        </p:grpSpPr>
        <p:sp>
          <p:nvSpPr>
            <p:cNvPr id="659" name=""/>
            <p:cNvSpPr/>
            <p:nvPr/>
          </p:nvSpPr>
          <p:spPr>
            <a:xfrm>
              <a:off x="4138560" y="1438200"/>
              <a:ext cx="1066680" cy="304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Cut 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00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600440" y="1757520"/>
              <a:ext cx="152640" cy="1522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8502480" y="645804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5F55-D7E1-440C-B696-1678C8912E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03D3-940E-4CFF-BB6A-55EC233553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How to use Trace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RS232C Cabl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erminal Emulato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Hyper Termina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upported in Window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Log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s10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uper-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657600" y="1371600"/>
            <a:ext cx="5200560" cy="409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4FDEA-F8E3-4329-8F89-DB240B7157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Message Sample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343400" cy="518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tl a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AE-&gt;CA&gt; [01][22] EVT:OffHook.... [00/00] 00 00 00 00 00 00 00 00 00 00 1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01 &lt;SW-&gt;SW&gt; [bb][01] Make Switching. [ff/ff]    00c0 &lt;-- 000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1] Start Tone Lock [00/00] 00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AE&gt; [01][94] CMD:StartRcvDgt [00/00] ff ff ff ff ff ff ff ff ff ff ad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MF&gt; [02][95] CMD:DTMF AsnReq [00/00] 00 01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SW-&gt;SW&gt; [bb][01] Make Switching. [00/00]    0001 &lt;-- 00c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MF-&gt;CA&gt; [02][23] EVT:StartDial.. [02/00] 00 00 00 00 00 00 00 00 00 00 0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AE&gt; [01][95] CMD:StopRcvDgt. [02/00] ff ff ff ff ff ff ff ff ff ff ac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SW-&gt;SW&gt; [bb][00] Cut Switching.. [02/00]    00c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2] Stop Tone Lock. [02/00] ff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3] Start Dgt Lock. [02/00] 0d 01 2c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MF-&gt;CA&gt; [02][24] EVT:RcvDigit... [02/00] 01 00 00 00 00 00 00 00 00 00 19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MF-&gt;CA&gt; [02][24] EVT:RcvDigit... [02/00] 0a 00 00 00 00 00 00 00 00 00 1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MF-&gt;CA&gt; [02][24] EVT:RcvDigit... [02/00] 0a 00 00 00 00 00 00 00 00 00 1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MF-&gt;CA&gt; [02][24] EVT:RcvDigit... [02/00] 04 00 00 00 00 00 00 00 00 00 16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AE&gt; [01][95] CMD:StopRcvDgt. [02/00] ff ff ff ff ff ff ff ff ff ff ac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MF&gt; [02][96] CMD:DTMF RlsReq [02/00] 00 01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01 &lt;SW-&gt;SW&gt; [bb][00] Cut Switching.. [ff/ff]    000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4] Stop Dgt Lock.. [02/00] ff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05 &lt;SW-&gt;SW&gt; [bb][01] Make Switching. [ff/ff]    00c0 &lt;-- 000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1] Start Tone Lock [02/00] 09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1] Start Tone Lock [02/00] 09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CA&gt; [00][06] Give Ring...... [00/00] 00 00 00 c4 00 00 00 00 00 00 c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TM&gt; [00][87] Start Ring Lock [04/00] 00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AE&gt; [01][91] CMD:SendRing... [04/00] 0c 0a 28 0a 28 0a 28 0a 28 00 c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90] TONLock TimeOut [05/00] 09 09 a8 01 44 3e b8 01 44 2e c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04 &lt;SW-&gt;SW&gt; [bb][01] Make Switching. [ff/ff]    00c0 &lt;-- 000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1] Start Tone Lock [05/00] 0b ff ff ff ff ff ff ff ff ff ff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394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fff &lt;CA-&gt;DE&gt; [0b][aa] Init Time/Date. [ff/ff] 01 04 12 10 1a 1c 03 ff ff ff a5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1523880"/>
            <a:ext cx="434340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AE-&gt;CA&gt; [01][22] EVT:OffHook.... [04/00] 00 00 00 00 00 00 00 00 00 00 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AE&gt; [01][92] CMD:StopRing... [04/00] ff ff ff ff ff ff ff ff ff ff a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TM&gt; [00][88] Stop Ring Lock. [04/00] ff ff ff ff ff ff ff ff ff ff 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AE&gt; [01][94] CMD:StartRcvDgt [06/00] ff ff ff ff ff ff ff ff ff ff a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CA&gt; [00][02] Line Answer.... [05/00] 00 00 00 00 00 00 00 00 00 00 c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SW-&gt;SW&gt; [bb][00] Cut Switching.. [05/00]    00c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TM&gt; [00][82] Stop Tone Lock. [05/00] ff ff ff ff ff ff ff ff ff ff 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SW-&gt;SW&gt; [bb][01] Make Switching. [06/00]    00c0 &lt;-- 00c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SW-&gt;SW&gt; [bb][01] Make Switching. [05/00]    00c4 &lt;-- 00c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AE-&gt;CA&gt; [01][21] EVT:OnHook..... [06/00] 00 00 00 00 00 00 00 00 00 00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CA-&gt;AE&gt; [01][95] CMD:StopRcvDgt. [06/00] ff ff ff ff ff ff ff ff ff ff 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0 &lt;SW-&gt;SW&gt; [bb][00] Cut Switching.. [06/00]    00c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CA&gt; [00][01] Line Release... [06/00] 90 ff ff 00 00 00 00 00 00 00 c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SW-&gt;SW&gt; [bb][00] Cut Switching.. [06/00]    00c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02 &lt;SW-&gt;SW&gt; [bb][01] Make Switching. [ff/ff]    00c4 &lt;-- 0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TM&gt; [00][81] Start Tone Lock [06/00] 33 ff ff ff ff ff ff ff ff ff 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AE&gt; [01][95] CMD:StopRcvDgt. [06/00] ff ff ff ff ff ff ff ff ff ff a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AE-&gt;CA&gt; [01][21] EVT:OnHook..... [01/00] 00 00 00 00 00 00 00 00 00 00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SW-&gt;SW&gt; [bb][00] Cut Switching.. [01/00]    00c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TM&gt; [00][82] Stop Tone Lock. [01/00] ff ff ff ff ff ff ff ff ff ff 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CA-&gt;AE&gt; [01][95] CMD:StopRcvDgt. [01/00] ff ff ff ff ff ff ff ff ff ff a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E0c4 &lt;SW-&gt;SW&gt; [bb][00] Cut Switching.. [01/00]    00c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바탕체"/>
                <a:ea typeface="바탕체"/>
              </a:rPr>
              <a:t>CALL_MON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62C8-D5B7-42AE-919A-8F5A41F641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Message Format 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176560"/>
            <a:ext cx="8686800" cy="42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E      : Extension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P : PRI Digital Trunk / I_IUTC_TERM BRI Trunk / QSI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B : BRI St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E : Extens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/>
              <a:buChar char="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 : Trunk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0c0  : Port Numb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004040" y="1627200"/>
            <a:ext cx="6908760" cy="3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체"/>
              </a:rPr>
              <a:t>E0c0 &lt;AE-&gt;CA&gt; [01][22] EVT:OffHook.... [00/00] 00 00 00 00 00 00 00 00 00 00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38360"/>
            <a:ext cx="380880" cy="30492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2920" y="1628640"/>
            <a:ext cx="304920" cy="304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4D5A-F537-44E4-806F-EB7269FEAF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Message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38080" y="3009960"/>
          <a:ext cx="6096240" cy="24001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  <a:ea typeface="굴림체"/>
                        </a:rPr>
                        <a:t>A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SL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IM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WIT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SL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TM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ROADCA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127240"/>
            <a:ext cx="868680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AE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 CA  : SL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 Cal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1150200" y="1627200"/>
            <a:ext cx="6908760" cy="3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체"/>
              </a:rPr>
              <a:t>E0c0 &lt;AE-&gt;CA&gt; [01][22] EVT:OffHook.... [00/00] 00 00 00 00 00 00 00 00 00 00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600200"/>
            <a:ext cx="838080" cy="380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E291-A937-49B3-BF89-00DB7C4E7A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Message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150200" y="1341360"/>
            <a:ext cx="6908760" cy="3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체"/>
              </a:rPr>
              <a:t>E0c0 &lt;AE-&gt;CA&gt; [01][22] EVT:OffHook.... [00/00] 00 00 00 00 00 00 00 00 00 00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1295280"/>
            <a:ext cx="914400" cy="3812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905120"/>
            <a:ext cx="1828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체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Device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체"/>
              </a:rPr>
              <a:t>&amp;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666880" y="1790640"/>
            <a:ext cx="6172200" cy="4648320"/>
            <a:chOff x="2666880" y="1790640"/>
            <a:chExt cx="6172200" cy="4648320"/>
          </a:xfrm>
        </p:grpSpPr>
        <p:grpSp>
          <p:nvGrpSpPr>
            <p:cNvPr id="113" name=""/>
            <p:cNvGrpSpPr/>
            <p:nvPr/>
          </p:nvGrpSpPr>
          <p:grpSpPr>
            <a:xfrm>
              <a:off x="2669760" y="1791360"/>
              <a:ext cx="6165720" cy="4646160"/>
              <a:chOff x="2669760" y="1791360"/>
              <a:chExt cx="6165720" cy="464616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2669760" y="1791360"/>
                <a:ext cx="1334880" cy="189720"/>
                <a:chOff x="2669760" y="1791360"/>
                <a:chExt cx="1334880" cy="1897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669760" y="1791360"/>
                  <a:ext cx="1334880" cy="18972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" name=""/>
                <p:cNvGrpSpPr/>
                <p:nvPr/>
              </p:nvGrpSpPr>
              <p:grpSpPr>
                <a:xfrm>
                  <a:off x="2669760" y="1791360"/>
                  <a:ext cx="1334880" cy="189720"/>
                  <a:chOff x="2669760" y="1791360"/>
                  <a:chExt cx="1334880" cy="18972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2732040" y="1791360"/>
                    <a:ext cx="1209960" cy="18972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바탕"/>
                      </a:rPr>
                      <a:t>Device Typ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2669760" y="1791360"/>
                    <a:ext cx="1334880" cy="18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" name=""/>
              <p:cNvGrpSpPr/>
              <p:nvPr/>
            </p:nvGrpSpPr>
            <p:grpSpPr>
              <a:xfrm>
                <a:off x="4004640" y="1791360"/>
                <a:ext cx="1001160" cy="189720"/>
                <a:chOff x="4004640" y="1791360"/>
                <a:chExt cx="1001160" cy="1897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4004640" y="1791360"/>
                  <a:ext cx="1001160" cy="18972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4004640" y="1791360"/>
                  <a:ext cx="1001160" cy="189720"/>
                  <a:chOff x="4004640" y="1791360"/>
                  <a:chExt cx="1001160" cy="1897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4067280" y="1791360"/>
                    <a:ext cx="875880" cy="18972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바탕"/>
                      </a:rPr>
                      <a:t>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4004640" y="1791360"/>
                    <a:ext cx="1001160" cy="18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4" name=""/>
              <p:cNvGrpSpPr/>
              <p:nvPr/>
            </p:nvGrpSpPr>
            <p:grpSpPr>
              <a:xfrm>
                <a:off x="5006160" y="1791360"/>
                <a:ext cx="3829320" cy="189720"/>
                <a:chOff x="5006160" y="1791360"/>
                <a:chExt cx="3829320" cy="189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006160" y="1791360"/>
                  <a:ext cx="3829320" cy="18972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" name=""/>
                <p:cNvGrpSpPr/>
                <p:nvPr/>
              </p:nvGrpSpPr>
              <p:grpSpPr>
                <a:xfrm>
                  <a:off x="5006160" y="1791360"/>
                  <a:ext cx="3829320" cy="189720"/>
                  <a:chOff x="5006160" y="1791360"/>
                  <a:chExt cx="3829320" cy="18972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5068440" y="1791360"/>
                    <a:ext cx="3704040" cy="18972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1" lang="zh-CN" sz="1000" spc="-1" strike="noStrike">
                        <a:solidFill>
                          <a:srgbClr val="000000"/>
                        </a:solidFill>
                        <a:latin typeface="Times New Roman"/>
                        <a:ea typeface="바탕"/>
                      </a:rPr>
                      <a:t>설명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5006160" y="1791360"/>
                    <a:ext cx="3829320" cy="18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3600" rIns="936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9" name=""/>
              <p:cNvGrpSpPr/>
              <p:nvPr/>
            </p:nvGrpSpPr>
            <p:grpSpPr>
              <a:xfrm>
                <a:off x="2669760" y="1981080"/>
                <a:ext cx="1334880" cy="185400"/>
                <a:chOff x="2669760" y="1981080"/>
                <a:chExt cx="1334880" cy="1854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732040" y="19810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ASL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669760" y="19810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004640" y="1981080"/>
                <a:ext cx="1001160" cy="185400"/>
                <a:chOff x="4004640" y="1981080"/>
                <a:chExt cx="1001160" cy="1854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067280" y="19810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004640" y="19810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5006160" y="1981080"/>
                <a:ext cx="3829320" cy="185400"/>
                <a:chOff x="5006160" y="1981080"/>
                <a:chExt cx="3829320" cy="185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068440" y="19810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nalogue Subscriber Line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006160" y="19810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669760" y="2166840"/>
                <a:ext cx="1334880" cy="185760"/>
                <a:chOff x="2669760" y="2166840"/>
                <a:chExt cx="1334880" cy="1857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732040" y="216684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TM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669760" y="216684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004640" y="2166840"/>
                <a:ext cx="1001160" cy="185760"/>
                <a:chOff x="4004640" y="2166840"/>
                <a:chExt cx="1001160" cy="185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067280" y="216684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004640" y="216684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5006160" y="2166840"/>
                <a:ext cx="3829320" cy="185760"/>
                <a:chOff x="5006160" y="2166840"/>
                <a:chExt cx="3829320" cy="185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5068440" y="216684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TMF Receiver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006160" y="216684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669760" y="2352600"/>
                <a:ext cx="1334880" cy="185400"/>
                <a:chOff x="2669760" y="2352600"/>
                <a:chExt cx="1334880" cy="1854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732040" y="235260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WTIC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669760" y="235260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004640" y="2352600"/>
                <a:ext cx="1001160" cy="185400"/>
                <a:chOff x="4004640" y="2352600"/>
                <a:chExt cx="1001160" cy="1854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067280" y="235260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04640" y="235260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006160" y="2352600"/>
                <a:ext cx="3829320" cy="185400"/>
                <a:chOff x="5006160" y="2352600"/>
                <a:chExt cx="3829320" cy="1854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068440" y="235260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WTIC2 Device (DECT 1~64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006160" y="235260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669760" y="2538360"/>
                <a:ext cx="1334880" cy="185400"/>
                <a:chOff x="2669760" y="2538360"/>
                <a:chExt cx="1334880" cy="1854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732040" y="253836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ATD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669760" y="253836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004640" y="2538360"/>
                <a:ext cx="1001160" cy="185400"/>
                <a:chOff x="4004640" y="2538360"/>
                <a:chExt cx="1001160" cy="1854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067280" y="253836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004640" y="253836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006160" y="2538360"/>
                <a:ext cx="3829320" cy="185400"/>
                <a:chOff x="5006160" y="2538360"/>
                <a:chExt cx="3829320" cy="1854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068440" y="253836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ttendant Controller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006160" y="253836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669760" y="2724120"/>
                <a:ext cx="1334880" cy="185760"/>
                <a:chOff x="2669760" y="2724120"/>
                <a:chExt cx="1334880" cy="1857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732040" y="272412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RMF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669760" y="272412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004640" y="2724120"/>
                <a:ext cx="1001160" cy="185760"/>
                <a:chOff x="4004640" y="2724120"/>
                <a:chExt cx="1001160" cy="1857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067280" y="272412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004640" y="272412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006160" y="2724120"/>
                <a:ext cx="3829320" cy="185760"/>
                <a:chOff x="5006160" y="2724120"/>
                <a:chExt cx="3829320" cy="1857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068440" y="272412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R2_MFC Signal (MFRS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006160" y="272412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669760" y="2909880"/>
                <a:ext cx="1334880" cy="185400"/>
                <a:chOff x="2669760" y="2909880"/>
                <a:chExt cx="1334880" cy="1854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732040" y="29098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TC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669760" y="29098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004640" y="2909880"/>
                <a:ext cx="1001160" cy="185400"/>
                <a:chOff x="4004640" y="2909880"/>
                <a:chExt cx="1001160" cy="1854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067280" y="29098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004640" y="29098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006160" y="2909880"/>
                <a:ext cx="3829320" cy="185400"/>
                <a:chOff x="5006160" y="2909880"/>
                <a:chExt cx="3829320" cy="1854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068440" y="29098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CAS Digital Trunk (E1/T1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006160" y="29098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669760" y="3095280"/>
                <a:ext cx="1334880" cy="185400"/>
                <a:chOff x="2669760" y="3095280"/>
                <a:chExt cx="1334880" cy="1854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732040" y="30952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LK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669760" y="30952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004640" y="3095280"/>
                <a:ext cx="1001160" cy="185400"/>
                <a:chOff x="4004640" y="3095280"/>
                <a:chExt cx="1001160" cy="1854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067280" y="30952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004640" y="30952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5006160" y="3095280"/>
                <a:ext cx="3829320" cy="185400"/>
                <a:chOff x="5006160" y="3095280"/>
                <a:chExt cx="3829320" cy="1854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068440" y="30952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LKD D-Te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006160" y="30952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2669760" y="3281040"/>
                <a:ext cx="1334880" cy="185760"/>
                <a:chOff x="2669760" y="3281040"/>
                <a:chExt cx="1334880" cy="1857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2732040" y="328104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SL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669760" y="328104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004640" y="3281040"/>
                <a:ext cx="1001160" cy="185760"/>
                <a:chOff x="4004640" y="3281040"/>
                <a:chExt cx="1001160" cy="1857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067280" y="328104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004640" y="328104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006160" y="3281040"/>
                <a:ext cx="3829320" cy="185760"/>
                <a:chOff x="5006160" y="3281040"/>
                <a:chExt cx="3829320" cy="1857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068440" y="328104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SLC (LGP or LKD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006160" y="328104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2669760" y="3466800"/>
                <a:ext cx="1334880" cy="185400"/>
                <a:chOff x="2669760" y="3466800"/>
                <a:chExt cx="1334880" cy="1854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2732040" y="346680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VP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669760" y="346680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004640" y="3466800"/>
                <a:ext cx="1001160" cy="185400"/>
                <a:chOff x="4004640" y="3466800"/>
                <a:chExt cx="1001160" cy="1854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067280" y="346680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004640" y="346680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006160" y="3466800"/>
                <a:ext cx="3829320" cy="185400"/>
                <a:chOff x="5006160" y="3466800"/>
                <a:chExt cx="3829320" cy="1854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068440" y="346680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Voice Server Processor Modu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006160" y="346680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669760" y="3652560"/>
                <a:ext cx="1334880" cy="185400"/>
                <a:chOff x="2669760" y="3652560"/>
                <a:chExt cx="1334880" cy="1854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732040" y="365256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TPR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669760" y="365256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004640" y="3652560"/>
                <a:ext cx="1001160" cy="185400"/>
                <a:chOff x="4004640" y="3652560"/>
                <a:chExt cx="1001160" cy="1854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067280" y="365256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0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004640" y="365256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5006160" y="3652560"/>
                <a:ext cx="3829320" cy="185400"/>
                <a:chOff x="5006160" y="3652560"/>
                <a:chExt cx="3829320" cy="1854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5068440" y="365256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PRI Digital Trunk (E1/T1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006160" y="365256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2669760" y="3838320"/>
                <a:ext cx="1334880" cy="185760"/>
                <a:chOff x="2669760" y="3838320"/>
                <a:chExt cx="1334880" cy="1857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2732040" y="383832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BRIS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669760" y="383832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004640" y="3838320"/>
                <a:ext cx="1001160" cy="185760"/>
                <a:chOff x="4004640" y="3838320"/>
                <a:chExt cx="1001160" cy="1857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067280" y="383832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004640" y="383832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5006160" y="3838320"/>
                <a:ext cx="3829320" cy="185760"/>
                <a:chOff x="5006160" y="3838320"/>
                <a:chExt cx="3829320" cy="1857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068440" y="383832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BRI Station and Trunk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006160" y="383832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669760" y="4024080"/>
                <a:ext cx="1334880" cy="185400"/>
                <a:chOff x="2669760" y="4024080"/>
                <a:chExt cx="1334880" cy="1854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732040" y="40240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APT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669760" y="40240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4004640" y="4024080"/>
                <a:ext cx="1001160" cy="185400"/>
                <a:chOff x="4004640" y="4024080"/>
                <a:chExt cx="1001160" cy="1854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067280" y="40240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004640" y="40240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5006160" y="4024080"/>
                <a:ext cx="3829320" cy="185400"/>
                <a:chOff x="5006160" y="4024080"/>
                <a:chExt cx="3829320" cy="1854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5068440" y="40240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nalogue PSTN Trunk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006160" y="40240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669760" y="4209480"/>
                <a:ext cx="1334880" cy="185400"/>
                <a:chOff x="2669760" y="4209480"/>
                <a:chExt cx="1334880" cy="1854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732040" y="42094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ALT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669760" y="42094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004640" y="4209480"/>
                <a:ext cx="1001160" cy="185400"/>
                <a:chOff x="4004640" y="4209480"/>
                <a:chExt cx="1001160" cy="1854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067280" y="42094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004640" y="42094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5006160" y="4209480"/>
                <a:ext cx="3829320" cy="185400"/>
                <a:chOff x="5006160" y="4209480"/>
                <a:chExt cx="3829320" cy="1854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068440" y="42094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nalogue Leased Trunk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006160" y="42094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2669760" y="4395240"/>
                <a:ext cx="1334880" cy="185760"/>
                <a:chOff x="2669760" y="4395240"/>
                <a:chExt cx="1334880" cy="1857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2732040" y="439524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TVM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669760" y="439524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004640" y="4395240"/>
                <a:ext cx="1001160" cy="185760"/>
                <a:chOff x="4004640" y="4395240"/>
                <a:chExt cx="1001160" cy="1857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067280" y="439524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004640" y="439524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006160" y="4395240"/>
                <a:ext cx="3829320" cy="185760"/>
                <a:chOff x="5006160" y="4395240"/>
                <a:chExt cx="3829320" cy="1857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068440" y="439524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NIC-DTCAS External VMS Interface Boar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06160" y="439524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2669760" y="4581000"/>
                <a:ext cx="1334880" cy="185400"/>
                <a:chOff x="2669760" y="4581000"/>
                <a:chExt cx="1334880" cy="1854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2732040" y="458100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DTRU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669760" y="458100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004640" y="4581000"/>
                <a:ext cx="1001160" cy="185400"/>
                <a:chOff x="4004640" y="4581000"/>
                <a:chExt cx="1001160" cy="1854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4067280" y="458100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004640" y="458100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006160" y="4581000"/>
                <a:ext cx="3829320" cy="185400"/>
                <a:chOff x="5006160" y="4581000"/>
                <a:chExt cx="3829320" cy="18540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068440" y="458100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Russia Digital Trunk(E1)  : 001010 KH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006160" y="458100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2669760" y="4766760"/>
                <a:ext cx="1334880" cy="185400"/>
                <a:chOff x="2669760" y="4766760"/>
                <a:chExt cx="1334880" cy="18540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2732040" y="476676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SHUTT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669760" y="476676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4004640" y="4766760"/>
                <a:ext cx="1001160" cy="185400"/>
                <a:chOff x="4004640" y="4766760"/>
                <a:chExt cx="1001160" cy="1854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067280" y="476676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004640" y="476676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5006160" y="4766760"/>
                <a:ext cx="3829320" cy="185400"/>
                <a:chOff x="5006160" y="4766760"/>
                <a:chExt cx="3829320" cy="1854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68440" y="476676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Shuttle using RMFC        : 001010 KH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006160" y="476676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669760" y="4952160"/>
                <a:ext cx="1334880" cy="185760"/>
                <a:chOff x="2669760" y="4952160"/>
                <a:chExt cx="1334880" cy="1857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732040" y="495216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RC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69760" y="495216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004640" y="4952160"/>
                <a:ext cx="1001160" cy="185760"/>
                <a:chOff x="4004640" y="4952160"/>
                <a:chExt cx="1001160" cy="1857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067280" y="495216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8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004640" y="495216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006160" y="4952160"/>
                <a:ext cx="3829320" cy="185760"/>
                <a:chOff x="5006160" y="4952160"/>
                <a:chExt cx="3829320" cy="1857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068440" y="495216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Router Circuit for NC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06160" y="495216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2669760" y="5138280"/>
                <a:ext cx="1334880" cy="185400"/>
                <a:chOff x="2669760" y="5138280"/>
                <a:chExt cx="1334880" cy="1854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732040" y="51382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PS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669760" y="51382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4004640" y="5138280"/>
                <a:ext cx="1001160" cy="185400"/>
                <a:chOff x="4004640" y="5138280"/>
                <a:chExt cx="1001160" cy="1854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4067280" y="51382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004640" y="51382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5006160" y="5138280"/>
                <a:ext cx="3829320" cy="185400"/>
                <a:chOff x="5006160" y="5138280"/>
                <a:chExt cx="3829320" cy="1854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068440" y="51382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Packet switch module for NC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006160" y="51382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2669760" y="5323680"/>
                <a:ext cx="1334880" cy="185400"/>
                <a:chOff x="2669760" y="5323680"/>
                <a:chExt cx="1334880" cy="1854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732040" y="532368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PS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669760" y="532368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004640" y="5323680"/>
                <a:ext cx="1001160" cy="185400"/>
                <a:chOff x="4004640" y="5323680"/>
                <a:chExt cx="1001160" cy="1854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067280" y="532368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004640" y="532368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006160" y="5323680"/>
                <a:ext cx="3829320" cy="185400"/>
                <a:chOff x="5006160" y="5323680"/>
                <a:chExt cx="3829320" cy="1854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068440" y="532368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Packet switch circuit for NC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006160" y="532368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669760" y="5509440"/>
                <a:ext cx="1334880" cy="185760"/>
                <a:chOff x="2669760" y="5509440"/>
                <a:chExt cx="1334880" cy="18576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732040" y="550944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ITG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669760" y="550944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004640" y="5509440"/>
                <a:ext cx="1001160" cy="185760"/>
                <a:chOff x="4004640" y="5509440"/>
                <a:chExt cx="1001160" cy="1857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067280" y="550944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004640" y="550944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006160" y="5509440"/>
                <a:ext cx="3829320" cy="185760"/>
                <a:chOff x="5006160" y="5509440"/>
                <a:chExt cx="3829320" cy="1857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5068440" y="550944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Internet Telephone Gateway Circui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006160" y="550944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2669760" y="5695200"/>
                <a:ext cx="1334880" cy="185400"/>
                <a:chOff x="2669760" y="5695200"/>
                <a:chExt cx="1334880" cy="1854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2732040" y="569520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LKD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669760" y="569520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004640" y="5695200"/>
                <a:ext cx="1001160" cy="185400"/>
                <a:chOff x="4004640" y="5695200"/>
                <a:chExt cx="1001160" cy="1854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067280" y="569520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004640" y="569520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006160" y="5695200"/>
                <a:ext cx="3829320" cy="185400"/>
                <a:chOff x="5006160" y="5695200"/>
                <a:chExt cx="3829320" cy="1854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068440" y="569520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LKD2 D-Te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006160" y="569520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2669760" y="5880960"/>
                <a:ext cx="1334880" cy="185400"/>
                <a:chOff x="2669760" y="5880960"/>
                <a:chExt cx="1334880" cy="1854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732040" y="588096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WTI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669760" y="588096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4004640" y="5880960"/>
                <a:ext cx="1001160" cy="185400"/>
                <a:chOff x="4004640" y="5880960"/>
                <a:chExt cx="1001160" cy="1854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4067280" y="588096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004640" y="588096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006160" y="5880960"/>
                <a:ext cx="3829320" cy="185400"/>
                <a:chOff x="5006160" y="5880960"/>
                <a:chExt cx="3829320" cy="1854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5068440" y="588096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WTIC Device (DECT 1~96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006160" y="588096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2669760" y="6066360"/>
                <a:ext cx="1334880" cy="185760"/>
                <a:chOff x="2669760" y="6066360"/>
                <a:chExt cx="1334880" cy="1857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732040" y="6066360"/>
                  <a:ext cx="120996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AP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669760" y="6066360"/>
                  <a:ext cx="133488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4004640" y="6066360"/>
                <a:ext cx="1001160" cy="185760"/>
                <a:chOff x="4004640" y="6066360"/>
                <a:chExt cx="1001160" cy="1857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067280" y="6066360"/>
                  <a:ext cx="8758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1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004640" y="6066360"/>
                  <a:ext cx="100116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006160" y="6066360"/>
                <a:ext cx="3829320" cy="185760"/>
                <a:chOff x="5006160" y="6066360"/>
                <a:chExt cx="3829320" cy="1857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068440" y="6066360"/>
                  <a:ext cx="370404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ko-KR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pplication Processor Modul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006160" y="6066360"/>
                  <a:ext cx="3829320" cy="18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669760" y="6252120"/>
                <a:ext cx="1334880" cy="185400"/>
                <a:chOff x="2669760" y="6252120"/>
                <a:chExt cx="1334880" cy="1854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732040" y="6252120"/>
                  <a:ext cx="1209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D_MAX_N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669760" y="6252120"/>
                  <a:ext cx="133488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004640" y="6252120"/>
                <a:ext cx="1001160" cy="185400"/>
                <a:chOff x="4004640" y="6252120"/>
                <a:chExt cx="1001160" cy="1854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067280" y="6252120"/>
                  <a:ext cx="87588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x2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004640" y="6252120"/>
                  <a:ext cx="100116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006160" y="6252120"/>
                <a:ext cx="3829320" cy="185400"/>
                <a:chOff x="5006160" y="6252120"/>
                <a:chExt cx="3829320" cy="1854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5068440" y="6252120"/>
                  <a:ext cx="37040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evice Boundar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006160" y="6252120"/>
                  <a:ext cx="3829320" cy="18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600" rIns="936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5" name=""/>
            <p:cNvSpPr/>
            <p:nvPr/>
          </p:nvSpPr>
          <p:spPr>
            <a:xfrm>
              <a:off x="2666880" y="1790640"/>
              <a:ext cx="6172200" cy="46483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D12E-CCB5-4258-9026-79F49AF0AB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File Message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[22]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: Function Cod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EVT:Off_Hook..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: Function Code (22) Descrip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[00/00]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: Main State / Sub Stat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체"/>
              </a:rPr>
              <a:t>00 01 01 ca 8e 64 01 ff 24 7e a9 : Data(10Bytes) + Check_Sum(1Byte)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1150200" y="1398600"/>
            <a:ext cx="6908760" cy="3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체"/>
              </a:rPr>
              <a:t>E0c0 &lt;AE-&gt;CA&gt; [01][22] EVT:OffHook.... [00/00] 00 00 00 00 00 00 00 00 00 00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A81CE-4314-4333-8A41-518EE5DEF3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Command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5867640" cy="51055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80880" y="1295280"/>
            <a:ext cx="2210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help / 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3886200"/>
            <a:ext cx="2210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exit / 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0A66-C4DC-4ADA-860C-C4E48ABE39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520" y="37800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race Command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L  a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All Por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L port#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Port#1 ………. Port#8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DV no#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Device from No.1 ~ No.8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M no#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Message from No.1 ~ No.8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TL c (port#1 … port#8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ISDN(QSIG) Message All Por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(QTL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     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( or port#1...#7) with the Complete Mod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TL f (port#1..#7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ISDN(QSIG) Message All Port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(QTL)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(or port#1...#7) with the Call Flow Mode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PBTL 1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Trace ISDN Message in the form of PB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TLN port#1.port#8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Signal Trace port#1 ..... port#8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TDV no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Signal Trace Device No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0713-0608-484C-B83E-A82B14C28D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абин Михаил</cp:lastModifiedBy>
  <dcterms:modified xsi:type="dcterms:W3CDTF">2001-09-07T05:28:22Z</dcterms:modified>
  <cp:revision>1</cp:revision>
  <dc:subject/>
  <dc:title>TRACE </dc:title>
</cp:coreProperties>
</file>