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53355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619200"/>
            <a:ext cx="4815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969696"/>
                </a:solidFill>
                <a:latin typeface="돋움"/>
                <a:ea typeface="돋움"/>
              </a:rPr>
              <a:t>●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IGITAL KEY TELEPHONE / HOTEL OPERATION                                                     KD, KD/E, LKD S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00280"/>
            <a:ext cx="441972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44680" y="7446960"/>
            <a:ext cx="644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AE39D5-5EA5-4844-9A15-246D7542801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79440" y="793800"/>
            <a:ext cx="921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066680" y="3000240"/>
            <a:ext cx="38736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hotel nam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hotel name (up to 24 digits) with the code as belo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66680" y="2987640"/>
            <a:ext cx="0" cy="2346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5440" y="28195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35240" y="28195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9862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4320" y="5083200"/>
            <a:ext cx="379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400" y="1044720"/>
            <a:ext cx="45201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GDK hotel S/W has a number of features that have been designed specifically for hotel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hospitality applications. The additional features that are available, add value to the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ered to guests and increase the efficiency of staff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section is aimed at the system manager and anyone else that requires a detail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 of the hotel facilities and their operation. These features are additional to the norm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ice features and refer to the other sections in this user guide.  It is available for GDK-162/100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PII Hotel S/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1760" y="22417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 Hotel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494080"/>
            <a:ext cx="439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registering or changing the name of hotel. In check-out or displaying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rge, the registered hotel name is printed out in the heading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3840" y="54864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-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3760" y="5765760"/>
            <a:ext cx="439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System Attendant to view the status of a room and check-in a gues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checking in a guest without changing the Room Status, the following default values wi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applied to the room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est 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Not assig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om Day &amp; Night CO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arm Call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Not assig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com Enable/Disabl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Internal call is not allow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om to Room Call Group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System Attendant assigned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horization Cod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Not assign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-paid Call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 Charge Ra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System Attendant assigned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hold" descr=""/>
          <p:cNvPicPr/>
          <p:nvPr/>
        </p:nvPicPr>
        <p:blipFill>
          <a:blip r:embed="rId1"/>
          <a:stretch/>
        </p:blipFill>
        <p:spPr>
          <a:xfrm>
            <a:off x="514440" y="50371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52" name="trans" descr=""/>
          <p:cNvPicPr/>
          <p:nvPr/>
        </p:nvPicPr>
        <p:blipFill>
          <a:blip r:embed="rId2"/>
          <a:stretch/>
        </p:blipFill>
        <p:spPr>
          <a:xfrm>
            <a:off x="488880" y="3056040"/>
            <a:ext cx="428760" cy="31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958680" y="3597120"/>
          <a:ext cx="3124440" cy="1555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8680" y="3597120"/>
                    <a:ext cx="312444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97080" y="793800"/>
            <a:ext cx="1703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Rate Assig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1690560"/>
            <a:ext cx="4038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ssign a range of rooms the same room rate,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te bin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1668600"/>
            <a:ext cx="0" cy="998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5440" y="15001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35240" y="15001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6668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360" y="1066680"/>
            <a:ext cx="44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system attendant to assign room rate among 20 different ones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vidual rooms. This information is included in the Total Room Charge Bill which is printed 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SMDR and on check-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7440" y="3154320"/>
            <a:ext cx="42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case a guest checks in and checks out in the same day, part time fee may be char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ording to the room type or hotel policy. Each room type may have up to 6 fields for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erent part time range and fee.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29163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e for Part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3762360"/>
            <a:ext cx="40388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/change fee for part time table at system attendant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fee for part time (00~31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ime range. (Press Flex. BTN 1 and dial the time with 4 digits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change rate for the part time. (Press Flex. BTN 2 and dial fixed 3 dig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000 to 100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eras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instead of dial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3759120"/>
            <a:ext cx="0" cy="1346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440" y="35910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35240" y="35910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37576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66680" y="6265800"/>
            <a:ext cx="403884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insert Internal Speed Directory at Front Desk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delete a name in the internal speed directory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entering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66680" y="6253200"/>
            <a:ext cx="0" cy="1355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5440" y="60847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35240" y="60847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62514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6040" y="5575320"/>
            <a:ext cx="45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will automatically build an internal directory of registered service stations and gu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ying at the hotel from the name information that is entered when they check-in. Once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 has been added to the list, it is possible to choose a name from the list for dialing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ferring of calls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53229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 Internal Speed Dire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speed" descr=""/>
          <p:cNvPicPr/>
          <p:nvPr/>
        </p:nvPicPr>
        <p:blipFill>
          <a:blip r:embed="rId1"/>
          <a:stretch/>
        </p:blipFill>
        <p:spPr>
          <a:xfrm>
            <a:off x="480960" y="475632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301" name="hold" descr=""/>
          <p:cNvPicPr/>
          <p:nvPr/>
        </p:nvPicPr>
        <p:blipFill>
          <a:blip r:embed="rId2"/>
          <a:stretch/>
        </p:blipFill>
        <p:spPr>
          <a:xfrm>
            <a:off x="525600" y="22906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02" name="hold" descr=""/>
          <p:cNvPicPr/>
          <p:nvPr/>
        </p:nvPicPr>
        <p:blipFill>
          <a:blip r:embed="rId3"/>
          <a:stretch/>
        </p:blipFill>
        <p:spPr>
          <a:xfrm>
            <a:off x="517680" y="452448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303" name="hold" descr=""/>
          <p:cNvPicPr/>
          <p:nvPr/>
        </p:nvPicPr>
        <p:blipFill>
          <a:blip r:embed="rId4"/>
          <a:stretch/>
        </p:blipFill>
        <p:spPr>
          <a:xfrm>
            <a:off x="517680" y="68659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04" name="trans" descr=""/>
          <p:cNvPicPr/>
          <p:nvPr/>
        </p:nvPicPr>
        <p:blipFill>
          <a:blip r:embed="rId5"/>
          <a:stretch/>
        </p:blipFill>
        <p:spPr>
          <a:xfrm>
            <a:off x="488880" y="17654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305" name="trans" descr=""/>
          <p:cNvPicPr/>
          <p:nvPr/>
        </p:nvPicPr>
        <p:blipFill>
          <a:blip r:embed="rId6"/>
          <a:stretch/>
        </p:blipFill>
        <p:spPr>
          <a:xfrm>
            <a:off x="488880" y="3833640"/>
            <a:ext cx="428760" cy="314640"/>
          </a:xfrm>
          <a:prstGeom prst="rect">
            <a:avLst/>
          </a:prstGeom>
          <a:ln w="0">
            <a:noFill/>
          </a:ln>
        </p:spPr>
      </p:pic>
      <p:pic>
        <p:nvPicPr>
          <p:cNvPr id="306" name="trans" descr=""/>
          <p:cNvPicPr/>
          <p:nvPr/>
        </p:nvPicPr>
        <p:blipFill>
          <a:blip r:embed="rId7"/>
          <a:stretch/>
        </p:blipFill>
        <p:spPr>
          <a:xfrm>
            <a:off x="488880" y="632304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4921200" y="4170240"/>
            <a:ext cx="411120" cy="2992680"/>
          </a:xfrm>
          <a:custGeom>
            <a:avLst/>
            <a:gdLst>
              <a:gd name="textAreaLeft" fmla="*/ 19800 w 411120"/>
              <a:gd name="textAreaRight" fmla="*/ 391320 w 411120"/>
              <a:gd name="textAreaTop" fmla="*/ 19800 h 2992680"/>
              <a:gd name="textAreaBottom" fmla="*/ 2972880 h 2992680"/>
            </a:gdLst>
            <a:ahLst/>
            <a:rect l="textAreaLeft" t="textAreaTop" r="textAreaRight" b="textAreaBottom"/>
            <a:pathLst>
              <a:path w="21600" h="157115">
                <a:moveTo>
                  <a:pt x="3600" y="0"/>
                </a:moveTo>
                <a:arcTo wR="3600" hR="3600" stAng="16200000" swAng="-5400000"/>
                <a:lnTo>
                  <a:pt x="0" y="153515"/>
                </a:lnTo>
                <a:arcTo wR="3600" hR="3600" stAng="10800000" swAng="-5400000"/>
                <a:lnTo>
                  <a:pt x="18000" y="15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81600" y="495288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G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98160" y="793800"/>
            <a:ext cx="2365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o Internal Speed Director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1757520"/>
            <a:ext cx="403884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dial by name with Internal Speed Director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or internal speed dial directo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or dial digits to find a name, then the LCD displays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s one on each LCD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, dialing a character, the first matched name is display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for dial the name on line 1 or dial 2 and p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on line 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5440" y="1576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35240" y="1576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743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8120" y="1042920"/>
            <a:ext cx="45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will automatically build an internal directory of registered service stations and gu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ying at the hotel from the name information that is entered when they check-in. Once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 has been added to the list, it is possible to choose a name from the list for dialing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ferring of calls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1040" y="3494160"/>
            <a:ext cx="441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 Attendant can manipulate Hotel programming. If one multiple station enters hotel fe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(except PGM 71,78,79), the others cannot enter the programming mode.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ror tone is heard with ‘Invalid” message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32446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ple Front Desk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Hotel S/W version 5.5 or la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4905360"/>
            <a:ext cx="0" cy="974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5440" y="47372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35240" y="47372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49039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7920" y="4432320"/>
            <a:ext cx="45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o temporarily override toll restriction and makes a toll call from toll restri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one. It is activated by entering feature code and the password before accessing a CO li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3800" y="4897440"/>
            <a:ext cx="31082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ctivate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t is available on a guest station or service st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passwo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 a CO line and dial tone will be hea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417024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New Cabina Call </a:t>
            </a:r>
            <a:r>
              <a:rPr b="0" i="1" lang="ko-KR" sz="800" spc="-1" strike="noStrike">
                <a:solidFill>
                  <a:srgbClr val="000000"/>
                </a:solidFill>
                <a:latin typeface="Arial"/>
              </a:rPr>
              <a:t>(Hotel S/W version 5.5 or la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610884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ef SMDR Print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Hotel S/W version 5.5 or lat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6673680"/>
            <a:ext cx="0" cy="806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5440" y="65055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35240" y="65055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66722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6360" y="6353280"/>
            <a:ext cx="38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brief SMDR for room or service station can be printed by Front-desk stat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9560" y="6665760"/>
            <a:ext cx="15418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print SMDR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station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vol" descr=""/>
          <p:cNvPicPr/>
          <p:nvPr/>
        </p:nvPicPr>
        <p:blipFill>
          <a:blip r:embed="rId1"/>
          <a:stretch/>
        </p:blipFill>
        <p:spPr>
          <a:xfrm>
            <a:off x="372960" y="2165400"/>
            <a:ext cx="719280" cy="179280"/>
          </a:xfrm>
          <a:prstGeom prst="rect">
            <a:avLst/>
          </a:prstGeom>
          <a:ln w="0">
            <a:noFill/>
          </a:ln>
        </p:spPr>
      </p:pic>
      <p:pic>
        <p:nvPicPr>
          <p:cNvPr id="332" name="speed" descr=""/>
          <p:cNvPicPr/>
          <p:nvPr/>
        </p:nvPicPr>
        <p:blipFill>
          <a:blip r:embed="rId2"/>
          <a:stretch/>
        </p:blipFill>
        <p:spPr>
          <a:xfrm>
            <a:off x="504720" y="178452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333" name="hold" descr=""/>
          <p:cNvPicPr/>
          <p:nvPr/>
        </p:nvPicPr>
        <p:blipFill>
          <a:blip r:embed="rId3"/>
          <a:stretch/>
        </p:blipFill>
        <p:spPr>
          <a:xfrm>
            <a:off x="525600" y="25909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334" name="hold" descr=""/>
          <p:cNvPicPr/>
          <p:nvPr/>
        </p:nvPicPr>
        <p:blipFill>
          <a:blip r:embed="rId4"/>
          <a:stretch/>
        </p:blipFill>
        <p:spPr>
          <a:xfrm>
            <a:off x="533520" y="53910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335" name="trans" descr=""/>
          <p:cNvPicPr/>
          <p:nvPr/>
        </p:nvPicPr>
        <p:blipFill>
          <a:blip r:embed="rId5"/>
          <a:stretch/>
        </p:blipFill>
        <p:spPr>
          <a:xfrm>
            <a:off x="488880" y="49719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336" name="trans" descr=""/>
          <p:cNvPicPr/>
          <p:nvPr/>
        </p:nvPicPr>
        <p:blipFill>
          <a:blip r:embed="rId6"/>
          <a:stretch/>
        </p:blipFill>
        <p:spPr>
          <a:xfrm>
            <a:off x="496800" y="67406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337" name="hold" descr=""/>
          <p:cNvPicPr/>
          <p:nvPr/>
        </p:nvPicPr>
        <p:blipFill>
          <a:blip r:embed="rId7"/>
          <a:stretch/>
        </p:blipFill>
        <p:spPr>
          <a:xfrm>
            <a:off x="533520" y="715968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066680" y="1744560"/>
            <a:ext cx="0" cy="1227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43080" y="3895560"/>
            <a:ext cx="2514600" cy="1067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793800"/>
            <a:ext cx="1109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-I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81080" y="1244520"/>
            <a:ext cx="3733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eck in a guest with Standard Room Statu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3800" y="1212840"/>
            <a:ext cx="0" cy="996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7520" y="10396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13000" y="10396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200" y="120636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1760" y="243828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-In / Change a Guest's Room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7520" y="29718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3800" y="3139920"/>
            <a:ext cx="0" cy="2270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975040"/>
            <a:ext cx="558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6920" y="3165480"/>
            <a:ext cx="379404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Status Type (1~8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  Register/Change Guest Name (up to 12 digit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:  Change Room Day and Night Class of Servic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  Register/Change Alarm Call (wake-up) T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  Set Intercom Enable/Dis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  Set Room to Room Call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  Register/Change Authorization C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  Register/Change Pre-paid Call Cha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  Register/Change Call Charge Rate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(for only Room Status Type 1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0680" y="2690640"/>
            <a:ext cx="44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check in the guest and change the Room Status from the default values, you should ent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ollowing inform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6353280"/>
            <a:ext cx="38736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/change a guest's nam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register/change guest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guest's name with the character co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6340320"/>
            <a:ext cx="0" cy="1144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5440" y="6172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35240" y="61722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63388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0040" y="5862600"/>
            <a:ext cx="423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System Attendant to register/change a guest's name which will b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out on the guest's bill when checking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800" y="56260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 &amp; Change a Guest Nam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rans" descr=""/>
          <p:cNvPicPr/>
          <p:nvPr/>
        </p:nvPicPr>
        <p:blipFill>
          <a:blip r:embed="rId1"/>
          <a:stretch/>
        </p:blipFill>
        <p:spPr>
          <a:xfrm>
            <a:off x="488880" y="31161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76" name="speed" descr=""/>
          <p:cNvPicPr/>
          <p:nvPr/>
        </p:nvPicPr>
        <p:blipFill>
          <a:blip r:embed="rId2"/>
          <a:stretch/>
        </p:blipFill>
        <p:spPr>
          <a:xfrm>
            <a:off x="480960" y="161604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77" name="hold" descr=""/>
          <p:cNvPicPr/>
          <p:nvPr/>
        </p:nvPicPr>
        <p:blipFill>
          <a:blip r:embed="rId3"/>
          <a:stretch/>
        </p:blipFill>
        <p:spPr>
          <a:xfrm>
            <a:off x="501480" y="188136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78" name="speed" descr=""/>
          <p:cNvPicPr/>
          <p:nvPr/>
        </p:nvPicPr>
        <p:blipFill>
          <a:blip r:embed="rId4"/>
          <a:stretch/>
        </p:blipFill>
        <p:spPr>
          <a:xfrm>
            <a:off x="485640" y="345276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hold" descr=""/>
          <p:cNvPicPr/>
          <p:nvPr/>
        </p:nvPicPr>
        <p:blipFill>
          <a:blip r:embed="rId5"/>
          <a:stretch/>
        </p:blipFill>
        <p:spPr>
          <a:xfrm>
            <a:off x="549360" y="51055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80" name="speed" descr=""/>
          <p:cNvPicPr/>
          <p:nvPr/>
        </p:nvPicPr>
        <p:blipFill>
          <a:blip r:embed="rId6"/>
          <a:stretch/>
        </p:blipFill>
        <p:spPr>
          <a:xfrm>
            <a:off x="504720" y="665316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81" name="hold" descr=""/>
          <p:cNvPicPr/>
          <p:nvPr/>
        </p:nvPicPr>
        <p:blipFill>
          <a:blip r:embed="rId7"/>
          <a:stretch/>
        </p:blipFill>
        <p:spPr>
          <a:xfrm>
            <a:off x="525600" y="71629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82" name="trans" descr=""/>
          <p:cNvPicPr/>
          <p:nvPr/>
        </p:nvPicPr>
        <p:blipFill>
          <a:blip r:embed="rId8"/>
          <a:stretch/>
        </p:blipFill>
        <p:spPr>
          <a:xfrm>
            <a:off x="488880" y="129528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83" name="trans" descr=""/>
          <p:cNvPicPr/>
          <p:nvPr/>
        </p:nvPicPr>
        <p:blipFill>
          <a:blip r:embed="rId9"/>
          <a:stretch/>
        </p:blipFill>
        <p:spPr>
          <a:xfrm>
            <a:off x="488880" y="639144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03200" y="3133800"/>
            <a:ext cx="44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27680" y="4170240"/>
            <a:ext cx="411120" cy="2992680"/>
          </a:xfrm>
          <a:custGeom>
            <a:avLst/>
            <a:gdLst>
              <a:gd name="textAreaLeft" fmla="*/ 19800 w 411120"/>
              <a:gd name="textAreaRight" fmla="*/ 391320 w 411120"/>
              <a:gd name="textAreaTop" fmla="*/ 19800 h 2992680"/>
              <a:gd name="textAreaBottom" fmla="*/ 2972880 h 2992680"/>
            </a:gdLst>
            <a:ahLst/>
            <a:rect l="textAreaLeft" t="textAreaTop" r="textAreaRight" b="textAreaBottom"/>
            <a:pathLst>
              <a:path w="21600" h="157115">
                <a:moveTo>
                  <a:pt x="3600" y="0"/>
                </a:moveTo>
                <a:arcTo wR="3600" hR="3600" stAng="16200000" swAng="-5400000"/>
                <a:lnTo>
                  <a:pt x="0" y="153515"/>
                </a:lnTo>
                <a:arcTo wR="3600" hR="3600" stAng="10800000" swAng="-5400000"/>
                <a:lnTo>
                  <a:pt x="18000" y="15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81600" y="495288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G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71880" y="793800"/>
            <a:ext cx="3747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ass of Service (Outside Call Restriction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7720" y="1042920"/>
            <a:ext cx="449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a guest is checked into a room, the system will automatically remove any call barr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ions that are set when the room is vacant. The Class of Service is entered into the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us information as 2-digit, the first digit represents the COS for day mode and the seco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git the COS when the system is in night mode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812960"/>
            <a:ext cx="3873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ange the Class of Servic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change the Class of Ser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s Day and Night COS (1~7: 2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800360"/>
            <a:ext cx="0" cy="112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5440" y="16318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35240" y="16318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79856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1760" y="31561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est Alarm Call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408480"/>
            <a:ext cx="445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can set an alarm call for a guest from the Front Desk extension. The alarm call will ring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guest's phone and when the call is answered they will receive the system music on hol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larm will ring for 30 seconds and if there is no reply then it will wait for 90sec and 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ain. If there is no reply after the third attempt then a "WAKE UP FAIL' alarm will ring on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ant and the display will show the extension that the alarm call has failed 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251240"/>
            <a:ext cx="3873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an alarm call from the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Alarm Call time (HH:MM in 24-hour mode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(for one-time) or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(for continuou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4238640"/>
            <a:ext cx="0" cy="112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5440" y="40705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35240" y="40705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2372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6248520"/>
            <a:ext cx="3873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change the Intercom Restriction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the status is changed (toggle setting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6235560"/>
            <a:ext cx="0" cy="974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5440" y="6067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35240" y="6067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6234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5720" y="5894280"/>
            <a:ext cx="33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is possible to allow or restrict internal calls from a guest's extension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64192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Intercom Enable/ Disable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(Room Status Type 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speed" descr=""/>
          <p:cNvPicPr/>
          <p:nvPr/>
        </p:nvPicPr>
        <p:blipFill>
          <a:blip r:embed="rId1"/>
          <a:stretch/>
        </p:blipFill>
        <p:spPr>
          <a:xfrm>
            <a:off x="496800" y="210168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09" name="hold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10" name="speed" descr=""/>
          <p:cNvPicPr/>
          <p:nvPr/>
        </p:nvPicPr>
        <p:blipFill>
          <a:blip r:embed="rId3"/>
          <a:stretch/>
        </p:blipFill>
        <p:spPr>
          <a:xfrm>
            <a:off x="488880" y="454824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111" name="hold" descr=""/>
          <p:cNvPicPr/>
          <p:nvPr/>
        </p:nvPicPr>
        <p:blipFill>
          <a:blip r:embed="rId4"/>
          <a:stretch/>
        </p:blipFill>
        <p:spPr>
          <a:xfrm>
            <a:off x="522360" y="498636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12" name="speed" descr=""/>
          <p:cNvPicPr/>
          <p:nvPr/>
        </p:nvPicPr>
        <p:blipFill>
          <a:blip r:embed="rId5"/>
          <a:stretch/>
        </p:blipFill>
        <p:spPr>
          <a:xfrm>
            <a:off x="480960" y="655812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113" name="hold" descr=""/>
          <p:cNvPicPr/>
          <p:nvPr/>
        </p:nvPicPr>
        <p:blipFill>
          <a:blip r:embed="rId6"/>
          <a:stretch/>
        </p:blipFill>
        <p:spPr>
          <a:xfrm>
            <a:off x="501480" y="68547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114" name="trans" descr=""/>
          <p:cNvPicPr/>
          <p:nvPr/>
        </p:nvPicPr>
        <p:blipFill>
          <a:blip r:embed="rId7"/>
          <a:stretch/>
        </p:blipFill>
        <p:spPr>
          <a:xfrm>
            <a:off x="488880" y="18525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15" name="trans" descr=""/>
          <p:cNvPicPr/>
          <p:nvPr/>
        </p:nvPicPr>
        <p:blipFill>
          <a:blip r:embed="rId8"/>
          <a:stretch/>
        </p:blipFill>
        <p:spPr>
          <a:xfrm>
            <a:off x="488880" y="429732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16" name="trans" descr=""/>
          <p:cNvPicPr/>
          <p:nvPr/>
        </p:nvPicPr>
        <p:blipFill>
          <a:blip r:embed="rId9"/>
          <a:stretch/>
        </p:blipFill>
        <p:spPr>
          <a:xfrm>
            <a:off x="488880" y="6315120"/>
            <a:ext cx="428760" cy="3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72960" y="801720"/>
            <a:ext cx="290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to Room Call Group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1400" y="1042920"/>
            <a:ext cx="465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a large party of guests are checking into the hotel as a group then it is possible to allow call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tween these guests internally but not allow them to call any other guests in the hote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ystem will provide up to 100 groups, each of which can have any number of rooms included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1684440"/>
            <a:ext cx="38736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/change room to room call group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Room to Room Call Group Number (00~99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remove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671480"/>
            <a:ext cx="0" cy="112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5440" y="15033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35240" y="15033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700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1760" y="299232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thorization Cod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 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6600" y="3244680"/>
            <a:ext cx="4707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authorization codes can be used for 3 types of oper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 If restrictions have been set on the outside lines, then staff and guest will have to dial 9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llowed by a valid authorization code before they dial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 If you have Direct Inward System Access(DISA) configured on the system then outsid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ers into the switch could be allowed access to other outside lines for dialing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 It is possible to restrict outside calls from Service Stations unless an authorization code ha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en entered. It will prevent unauthorized calls being made from unattended Service Stations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343400"/>
            <a:ext cx="387360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/change authorization cod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or Staff Station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Authorization Code that you want to use (5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330800"/>
            <a:ext cx="0" cy="112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5440" y="41623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35240" y="41623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43290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6486480"/>
            <a:ext cx="3873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enter a pre-paid call charge against a guest's room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Pre-paid Call Charge (6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6473880"/>
            <a:ext cx="0" cy="1027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5440" y="63054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35240" y="63054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64720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4880" y="5915160"/>
            <a:ext cx="454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the guest checks in, a pre-paid call charge can be registered against that room and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stem will keep a check on how much the guest has spent on outside calls. The pre-paid lim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been reached then a warning tone will be sent to the guest and the call will be disconnec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720" y="56865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-paid Call Charg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speed" descr=""/>
          <p:cNvPicPr/>
          <p:nvPr/>
        </p:nvPicPr>
        <p:blipFill>
          <a:blip r:embed="rId1"/>
          <a:stretch/>
        </p:blipFill>
        <p:spPr>
          <a:xfrm>
            <a:off x="496800" y="198108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39" name="hold" descr=""/>
          <p:cNvPicPr/>
          <p:nvPr/>
        </p:nvPicPr>
        <p:blipFill>
          <a:blip r:embed="rId2"/>
          <a:stretch/>
        </p:blipFill>
        <p:spPr>
          <a:xfrm>
            <a:off x="533520" y="24433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140" name="speed" descr=""/>
          <p:cNvPicPr/>
          <p:nvPr/>
        </p:nvPicPr>
        <p:blipFill>
          <a:blip r:embed="rId3"/>
          <a:stretch/>
        </p:blipFill>
        <p:spPr>
          <a:xfrm>
            <a:off x="496800" y="474804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41" name="hold" descr=""/>
          <p:cNvPicPr/>
          <p:nvPr/>
        </p:nvPicPr>
        <p:blipFill>
          <a:blip r:embed="rId4"/>
          <a:stretch/>
        </p:blipFill>
        <p:spPr>
          <a:xfrm>
            <a:off x="509760" y="51814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42" name="speed" descr=""/>
          <p:cNvPicPr/>
          <p:nvPr/>
        </p:nvPicPr>
        <p:blipFill>
          <a:blip r:embed="rId5"/>
          <a:stretch/>
        </p:blipFill>
        <p:spPr>
          <a:xfrm>
            <a:off x="504720" y="677376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43" name="hold" descr=""/>
          <p:cNvPicPr/>
          <p:nvPr/>
        </p:nvPicPr>
        <p:blipFill>
          <a:blip r:embed="rId6"/>
          <a:stretch/>
        </p:blipFill>
        <p:spPr>
          <a:xfrm>
            <a:off x="533520" y="72151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44" name="trans" descr=""/>
          <p:cNvPicPr/>
          <p:nvPr/>
        </p:nvPicPr>
        <p:blipFill>
          <a:blip r:embed="rId7"/>
          <a:stretch/>
        </p:blipFill>
        <p:spPr>
          <a:xfrm>
            <a:off x="488880" y="172728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45" name="trans" descr=""/>
          <p:cNvPicPr/>
          <p:nvPr/>
        </p:nvPicPr>
        <p:blipFill>
          <a:blip r:embed="rId8"/>
          <a:stretch/>
        </p:blipFill>
        <p:spPr>
          <a:xfrm>
            <a:off x="488880" y="439740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46" name="trans" descr=""/>
          <p:cNvPicPr/>
          <p:nvPr/>
        </p:nvPicPr>
        <p:blipFill>
          <a:blip r:embed="rId9"/>
          <a:stretch/>
        </p:blipFill>
        <p:spPr>
          <a:xfrm>
            <a:off x="496800" y="654372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921200" y="4170240"/>
            <a:ext cx="411120" cy="2992680"/>
          </a:xfrm>
          <a:custGeom>
            <a:avLst/>
            <a:gdLst>
              <a:gd name="textAreaLeft" fmla="*/ 19800 w 411120"/>
              <a:gd name="textAreaRight" fmla="*/ 391320 w 411120"/>
              <a:gd name="textAreaTop" fmla="*/ 19800 h 2992680"/>
              <a:gd name="textAreaBottom" fmla="*/ 2972880 h 2992680"/>
            </a:gdLst>
            <a:ahLst/>
            <a:rect l="textAreaLeft" t="textAreaTop" r="textAreaRight" b="textAreaBottom"/>
            <a:pathLst>
              <a:path w="21600" h="157115">
                <a:moveTo>
                  <a:pt x="3600" y="0"/>
                </a:moveTo>
                <a:arcTo wR="3600" hR="3600" stAng="16200000" swAng="-5400000"/>
                <a:lnTo>
                  <a:pt x="0" y="153515"/>
                </a:lnTo>
                <a:arcTo wR="3600" hR="3600" stAng="10800000" swAng="-5400000"/>
                <a:lnTo>
                  <a:pt x="18000" y="15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81600" y="495288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G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64680" y="793800"/>
            <a:ext cx="2228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l Charge Ra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Room Status Type 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640" y="1066680"/>
            <a:ext cx="430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system attendant to register Call Charge rate to rooms while check-in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447920"/>
            <a:ext cx="40388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ssign Call Charge Rat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and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Call Charge Rate (0~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If call charge rate is not assigned, SMDR call charge is applied and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-out, the assigned call charge is expired and changed to default val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434960"/>
            <a:ext cx="0" cy="1311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5440" y="1266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35240" y="12668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4335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1760" y="2971800"/>
            <a:ext cx="4406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by Liste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0320" y="3224160"/>
            <a:ext cx="44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guest can monitor his room at the other place in the hotel. Setting baby listening feature, yo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n monitor the room but, the inside of the room cannot hear of you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689280"/>
            <a:ext cx="403884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baby listening at a guest's room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-hook and dial the guest's room number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To cancel, on-hook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operate baby listening at the other place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f-hook and dial the guest's room number tw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3679920"/>
            <a:ext cx="0" cy="103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5440" y="3511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35240" y="3511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678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5904000"/>
            <a:ext cx="3873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</a:rPr>
              <a:t>To check out a gues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1 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Enter the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(To check out a guest with method of payment, 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and 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bin no.(credit card no.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If you wish to check out more than one guest, dial the next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 or hang u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5891040"/>
            <a:ext cx="0" cy="1347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5440" y="572292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35240" y="572292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8960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080" y="5160960"/>
            <a:ext cx="447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the guests leave the hotel, it is an easy operation to check them out. The system wil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omatically calculate their bill and print it out on the printer. Also, any room status sett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t are applied to the room will be reset to the default values. The system attendant can sel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ethod of payment among registered ones according to the guest's payment method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720" y="49402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ck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peed" descr=""/>
          <p:cNvPicPr/>
          <p:nvPr/>
        </p:nvPicPr>
        <p:blipFill>
          <a:blip r:embed="rId1"/>
          <a:stretch/>
        </p:blipFill>
        <p:spPr>
          <a:xfrm>
            <a:off x="504720" y="174960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171" name="hold" descr=""/>
          <p:cNvPicPr/>
          <p:nvPr/>
        </p:nvPicPr>
        <p:blipFill>
          <a:blip r:embed="rId2"/>
          <a:stretch/>
        </p:blipFill>
        <p:spPr>
          <a:xfrm>
            <a:off x="541440" y="21906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72" name="speed" descr=""/>
          <p:cNvPicPr/>
          <p:nvPr/>
        </p:nvPicPr>
        <p:blipFill>
          <a:blip r:embed="rId3"/>
          <a:stretch/>
        </p:blipFill>
        <p:spPr>
          <a:xfrm>
            <a:off x="496800" y="6324480"/>
            <a:ext cx="378000" cy="378000"/>
          </a:xfrm>
          <a:prstGeom prst="rect">
            <a:avLst/>
          </a:prstGeom>
          <a:ln w="0">
            <a:noFill/>
          </a:ln>
        </p:spPr>
      </p:pic>
      <p:pic>
        <p:nvPicPr>
          <p:cNvPr id="173" name="hold" descr=""/>
          <p:cNvPicPr/>
          <p:nvPr/>
        </p:nvPicPr>
        <p:blipFill>
          <a:blip r:embed="rId4"/>
          <a:stretch/>
        </p:blipFill>
        <p:spPr>
          <a:xfrm>
            <a:off x="533520" y="661680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174" name="trans" descr=""/>
          <p:cNvPicPr/>
          <p:nvPr/>
        </p:nvPicPr>
        <p:blipFill>
          <a:blip r:embed="rId5"/>
          <a:stretch/>
        </p:blipFill>
        <p:spPr>
          <a:xfrm>
            <a:off x="488880" y="15159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75" name="trans" descr=""/>
          <p:cNvPicPr/>
          <p:nvPr/>
        </p:nvPicPr>
        <p:blipFill>
          <a:blip r:embed="rId6"/>
          <a:stretch/>
        </p:blipFill>
        <p:spPr>
          <a:xfrm>
            <a:off x="488880" y="597060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176" name="mon" descr=""/>
          <p:cNvPicPr/>
          <p:nvPr/>
        </p:nvPicPr>
        <p:blipFill>
          <a:blip r:embed="rId7"/>
          <a:stretch/>
        </p:blipFill>
        <p:spPr>
          <a:xfrm>
            <a:off x="561960" y="6939000"/>
            <a:ext cx="262080" cy="2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75480" y="793800"/>
            <a:ext cx="2136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Charge Display &amp; Prin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4560" y="106668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a guest checks out or asks for the status of their bill, then it is possible to either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urrent bill on the LCD of the phone or print it out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1555920"/>
            <a:ext cx="40388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how the current total bill for the guest in the attendant display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 will show the following informatio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542960"/>
            <a:ext cx="0" cy="1660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5440" y="13748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35240" y="13748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5415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2313000"/>
            <a:ext cx="1676520" cy="31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Times New Roman"/>
                <a:ea typeface="바탕체"/>
              </a:rPr>
              <a:t>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바탕체"/>
              </a:rPr>
              <a:t>TOTAL ROOM CHA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바탕체"/>
              </a:rPr>
              <a:t>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바탕체"/>
              </a:rPr>
              <a:t>115 (01)                               60.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91400" y="2409840"/>
            <a:ext cx="892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바탕체"/>
              </a:rPr>
              <a:t>Total room char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48040" y="2506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55160" y="2698920"/>
            <a:ext cx="374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rint out the total charges without any details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print out the total bill for a room, 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 an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71720" y="3917880"/>
            <a:ext cx="38732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print out the Room Statu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ange of Room Numbers to be print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71720" y="3905280"/>
            <a:ext cx="0" cy="898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480" y="37368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39920" y="37368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920" y="3903840"/>
            <a:ext cx="441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49560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nting a Guest's Room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1760" y="5329080"/>
            <a:ext cx="41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do not want guests to be able to dial each other unless they are transferred by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ant then, it is possible to block single or multiple rooms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5791320"/>
            <a:ext cx="4038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enable intercom call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ange of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disable intercom call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ange of Room Numb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778360"/>
            <a:ext cx="0" cy="1660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5440" y="56102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35240" y="56102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57769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50925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com Call Enable/Di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hold" descr=""/>
          <p:cNvPicPr/>
          <p:nvPr/>
        </p:nvPicPr>
        <p:blipFill>
          <a:blip r:embed="rId1"/>
          <a:stretch/>
        </p:blipFill>
        <p:spPr>
          <a:xfrm>
            <a:off x="525600" y="27241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02" name="hold" descr=""/>
          <p:cNvPicPr/>
          <p:nvPr/>
        </p:nvPicPr>
        <p:blipFill>
          <a:blip r:embed="rId2"/>
          <a:stretch/>
        </p:blipFill>
        <p:spPr>
          <a:xfrm>
            <a:off x="533520" y="440388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03" name="hold" descr=""/>
          <p:cNvPicPr/>
          <p:nvPr/>
        </p:nvPicPr>
        <p:blipFill>
          <a:blip r:embed="rId3"/>
          <a:stretch/>
        </p:blipFill>
        <p:spPr>
          <a:xfrm>
            <a:off x="525600" y="628164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04" name="trans" descr=""/>
          <p:cNvPicPr/>
          <p:nvPr/>
        </p:nvPicPr>
        <p:blipFill>
          <a:blip r:embed="rId4"/>
          <a:stretch/>
        </p:blipFill>
        <p:spPr>
          <a:xfrm>
            <a:off x="488880" y="160020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05" name="trans" descr=""/>
          <p:cNvPicPr/>
          <p:nvPr/>
        </p:nvPicPr>
        <p:blipFill>
          <a:blip r:embed="rId5"/>
          <a:stretch/>
        </p:blipFill>
        <p:spPr>
          <a:xfrm>
            <a:off x="488880" y="39704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06" name="trans" descr=""/>
          <p:cNvPicPr/>
          <p:nvPr/>
        </p:nvPicPr>
        <p:blipFill>
          <a:blip r:embed="rId6"/>
          <a:stretch/>
        </p:blipFill>
        <p:spPr>
          <a:xfrm>
            <a:off x="488880" y="584208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921200" y="4170240"/>
            <a:ext cx="411120" cy="2992680"/>
          </a:xfrm>
          <a:custGeom>
            <a:avLst/>
            <a:gdLst>
              <a:gd name="textAreaLeft" fmla="*/ 19800 w 411120"/>
              <a:gd name="textAreaRight" fmla="*/ 391320 w 411120"/>
              <a:gd name="textAreaTop" fmla="*/ 19800 h 2992680"/>
              <a:gd name="textAreaBottom" fmla="*/ 2972880 h 2992680"/>
            </a:gdLst>
            <a:ahLst/>
            <a:rect l="textAreaLeft" t="textAreaTop" r="textAreaRight" b="textAreaBottom"/>
            <a:pathLst>
              <a:path w="21600" h="157115">
                <a:moveTo>
                  <a:pt x="3600" y="0"/>
                </a:moveTo>
                <a:arcTo wR="3600" hR="3600" stAng="16200000" swAng="-5400000"/>
                <a:lnTo>
                  <a:pt x="0" y="153515"/>
                </a:lnTo>
                <a:arcTo wR="3600" hR="3600" stAng="10800000" swAng="-5400000"/>
                <a:lnTo>
                  <a:pt x="18000" y="15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81600" y="495288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G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4920" y="1042920"/>
            <a:ext cx="44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By guest's request, system attendant can enable one-time CO call to intercom only station.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this time, calling station's COS is temporally changed to charged station's COS. The guest c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make only one external call for request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1650960"/>
            <a:ext cx="40388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</a:rPr>
              <a:t>To enable one-time outside call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1 8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room number that the call will be made fro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room number that the call will be charged t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639800"/>
            <a:ext cx="0" cy="1050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5440" y="147168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35240" y="147168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3836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3657600"/>
            <a:ext cx="3873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ko-KR" sz="900" spc="-1" strike="noStrike">
                <a:solidFill>
                  <a:srgbClr val="000000"/>
                </a:solidFill>
                <a:latin typeface="Arial"/>
              </a:rPr>
              <a:t>To set the LCD language type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5 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range of room number to be chang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Dial the language code (0~22/24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3637080"/>
            <a:ext cx="0" cy="2458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5440" y="34686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35240" y="34686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6352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3200" y="3132000"/>
            <a:ext cx="43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efault language is English and if the language is changed then, it will be reset to defau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the guest checks out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720" y="288288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ge LCD Display Langu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1960" y="790560"/>
            <a:ext cx="170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e-Time CO Call En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39760" y="4535640"/>
            <a:ext cx="2743200" cy="758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495680"/>
            <a:ext cx="38736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Language C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0: Engl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1: Kore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2: Ital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4: Swed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5: Norwegi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6: Finnis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7: Dutc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8: Spani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: Dan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: Germ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: Estoni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: Russi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 (GDK-162) / 24 (GDK-100/FPII): Portugue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In Hotel S/W Version 5.5 or later,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: For National Langu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 For Engli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: For the second National Langu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hold" descr=""/>
          <p:cNvPicPr/>
          <p:nvPr/>
        </p:nvPicPr>
        <p:blipFill>
          <a:blip r:embed="rId1"/>
          <a:stretch/>
        </p:blipFill>
        <p:spPr>
          <a:xfrm>
            <a:off x="533520" y="223848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26" name="hold" descr=""/>
          <p:cNvPicPr/>
          <p:nvPr/>
        </p:nvPicPr>
        <p:blipFill>
          <a:blip r:embed="rId2"/>
          <a:stretch/>
        </p:blipFill>
        <p:spPr>
          <a:xfrm>
            <a:off x="533520" y="422928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27" name="trans" descr=""/>
          <p:cNvPicPr/>
          <p:nvPr/>
        </p:nvPicPr>
        <p:blipFill>
          <a:blip r:embed="rId3"/>
          <a:stretch/>
        </p:blipFill>
        <p:spPr>
          <a:xfrm>
            <a:off x="488880" y="17193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28" name="trans" descr=""/>
          <p:cNvPicPr/>
          <p:nvPr/>
        </p:nvPicPr>
        <p:blipFill>
          <a:blip r:embed="rId4"/>
          <a:stretch/>
        </p:blipFill>
        <p:spPr>
          <a:xfrm>
            <a:off x="488880" y="3718080"/>
            <a:ext cx="428760" cy="3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65400" y="793800"/>
            <a:ext cx="856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h Ala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7080" y="1058760"/>
            <a:ext cx="441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ystem has a facility which can be used to ensure that the front desk is notified when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est is in trouble. If the handset is left off-hook for a period of time then, an alarm will ring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ption and the Front Desk staff can take appropriate action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1698480"/>
            <a:ext cx="387360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bath alarm device from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range to be set the bath alarm de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lease bath alarm device from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station range to be set the bath alarm devic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685880"/>
            <a:ext cx="0" cy="1666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5440" y="1517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35240" y="15177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16844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50840" y="4484520"/>
            <a:ext cx="40388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'Clean' at a guest station by mai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'Dirty' at a guest station by maid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50840" y="4456080"/>
            <a:ext cx="0" cy="2706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9600" y="42879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19400" y="42879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5040" y="44546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6280" y="3870360"/>
            <a:ext cx="44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a guest has checked out of a room, the maid status is automatically changed to 'Dirty'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fore, when the maid has finished cleaning the room, he/she can change the maid stat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'Clean' from the guest's extension.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720" y="362916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id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5530680"/>
            <a:ext cx="40388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'Clean' by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6308640"/>
            <a:ext cx="40388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'Dirty' by 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hold" descr=""/>
          <p:cNvPicPr/>
          <p:nvPr/>
        </p:nvPicPr>
        <p:blipFill>
          <a:blip r:embed="rId1"/>
          <a:stretch/>
        </p:blipFill>
        <p:spPr>
          <a:xfrm>
            <a:off x="517680" y="21906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46" name="hold" descr=""/>
          <p:cNvPicPr/>
          <p:nvPr/>
        </p:nvPicPr>
        <p:blipFill>
          <a:blip r:embed="rId2"/>
          <a:stretch/>
        </p:blipFill>
        <p:spPr>
          <a:xfrm>
            <a:off x="501480" y="679932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247" name="trans" descr=""/>
          <p:cNvPicPr/>
          <p:nvPr/>
        </p:nvPicPr>
        <p:blipFill>
          <a:blip r:embed="rId3"/>
          <a:stretch/>
        </p:blipFill>
        <p:spPr>
          <a:xfrm>
            <a:off x="488880" y="177336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48" name="trans" descr=""/>
          <p:cNvPicPr/>
          <p:nvPr/>
        </p:nvPicPr>
        <p:blipFill>
          <a:blip r:embed="rId4"/>
          <a:stretch/>
        </p:blipFill>
        <p:spPr>
          <a:xfrm>
            <a:off x="488880" y="4530600"/>
            <a:ext cx="428760" cy="314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921200" y="4170240"/>
            <a:ext cx="411120" cy="2992680"/>
          </a:xfrm>
          <a:custGeom>
            <a:avLst/>
            <a:gdLst>
              <a:gd name="textAreaLeft" fmla="*/ 19800 w 411120"/>
              <a:gd name="textAreaRight" fmla="*/ 391320 w 411120"/>
              <a:gd name="textAreaTop" fmla="*/ 19800 h 2992680"/>
              <a:gd name="textAreaBottom" fmla="*/ 2972880 h 2992680"/>
            </a:gdLst>
            <a:ahLst/>
            <a:rect l="textAreaLeft" t="textAreaTop" r="textAreaRight" b="textAreaBottom"/>
            <a:pathLst>
              <a:path w="21600" h="157115">
                <a:moveTo>
                  <a:pt x="3600" y="0"/>
                </a:moveTo>
                <a:arcTo wR="3600" hR="3600" stAng="16200000" swAng="-5400000"/>
                <a:lnTo>
                  <a:pt x="0" y="153515"/>
                </a:lnTo>
                <a:arcTo wR="3600" hR="3600" stAng="10800000" swAng="-5400000"/>
                <a:lnTo>
                  <a:pt x="18000" y="15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81600" y="4952880"/>
            <a:ext cx="347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Operation(GD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13280" y="797040"/>
            <a:ext cx="207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ister Bar &amp; Mini-Bar Cha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1673280"/>
            <a:ext cx="4038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register bar charge at Service Station or mini-bar charge a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ystem Attendan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room number of guests to be charg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Product Code (2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Product Cost (up to 6 digit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1660680"/>
            <a:ext cx="0" cy="1355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5440" y="149220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35240" y="149220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65888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1760" y="1058760"/>
            <a:ext cx="441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Guest may pay for charge at service station or mini-bar in time of check-out. Bar termin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operator registers guest's charge using the following procedure. Mini-bar charge of each ro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</a:rPr>
              <a:t>is registered by only system attendant (Front Desk service station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4132440"/>
            <a:ext cx="403884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set Room to Room Call Group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Group Number (00~99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the room r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remove from group as above, 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fter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4111560"/>
            <a:ext cx="0" cy="1158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5440" y="394344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35240" y="394344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411012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920" y="3510000"/>
            <a:ext cx="44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ish to split the hotel rooms into groups for internal calls, this can be done from syste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ndant. Once the groups have been set up then only guests in the same group can call e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internally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6720" y="328464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to Room Call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6307200"/>
            <a:ext cx="40388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o assign room rate at the system attendant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/PG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the room rate bin n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ter room cost and na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al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/SA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6284880"/>
            <a:ext cx="0" cy="1030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5440" y="6116760"/>
            <a:ext cx="407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5240" y="6116760"/>
            <a:ext cx="6030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6283440"/>
            <a:ext cx="441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360" y="5683320"/>
            <a:ext cx="448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is feature allows the system attendant to assign room rate among 20 different ones t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vidual rooms. This information is included in the Total Room Charge Bill which is printed 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the SMDR and on check-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5450040"/>
            <a:ext cx="44071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om Rate As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speed" descr=""/>
          <p:cNvPicPr/>
          <p:nvPr/>
        </p:nvPicPr>
        <p:blipFill>
          <a:blip r:embed="rId1"/>
          <a:stretch/>
        </p:blipFill>
        <p:spPr>
          <a:xfrm>
            <a:off x="504720" y="2459160"/>
            <a:ext cx="37800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hold" descr=""/>
          <p:cNvPicPr/>
          <p:nvPr/>
        </p:nvPicPr>
        <p:blipFill>
          <a:blip r:embed="rId2"/>
          <a:stretch/>
        </p:blipFill>
        <p:spPr>
          <a:xfrm>
            <a:off x="525600" y="272412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74" name="hold" descr=""/>
          <p:cNvPicPr/>
          <p:nvPr/>
        </p:nvPicPr>
        <p:blipFill>
          <a:blip r:embed="rId3"/>
          <a:stretch/>
        </p:blipFill>
        <p:spPr>
          <a:xfrm>
            <a:off x="525600" y="47242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75" name="hold" descr=""/>
          <p:cNvPicPr/>
          <p:nvPr/>
        </p:nvPicPr>
        <p:blipFill>
          <a:blip r:embed="rId4"/>
          <a:stretch/>
        </p:blipFill>
        <p:spPr>
          <a:xfrm>
            <a:off x="533520" y="691524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76" name="trans" descr=""/>
          <p:cNvPicPr/>
          <p:nvPr/>
        </p:nvPicPr>
        <p:blipFill>
          <a:blip r:embed="rId5"/>
          <a:stretch/>
        </p:blipFill>
        <p:spPr>
          <a:xfrm>
            <a:off x="488880" y="186372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77" name="trans" descr=""/>
          <p:cNvPicPr/>
          <p:nvPr/>
        </p:nvPicPr>
        <p:blipFill>
          <a:blip r:embed="rId6"/>
          <a:stretch/>
        </p:blipFill>
        <p:spPr>
          <a:xfrm>
            <a:off x="488880" y="4197240"/>
            <a:ext cx="428760" cy="314280"/>
          </a:xfrm>
          <a:prstGeom prst="rect">
            <a:avLst/>
          </a:prstGeom>
          <a:ln w="0">
            <a:noFill/>
          </a:ln>
        </p:spPr>
      </p:pic>
      <p:pic>
        <p:nvPicPr>
          <p:cNvPr id="278" name="trans" descr=""/>
          <p:cNvPicPr/>
          <p:nvPr/>
        </p:nvPicPr>
        <p:blipFill>
          <a:blip r:embed="rId7"/>
          <a:stretch/>
        </p:blipFill>
        <p:spPr>
          <a:xfrm>
            <a:off x="488880" y="6367320"/>
            <a:ext cx="428760" cy="3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7:41:16Z</dcterms:created>
  <dc:creator>황재희</dc:creator>
  <dc:description/>
  <dc:language>en-US</dc:language>
  <cp:lastModifiedBy>manual_temp</cp:lastModifiedBy>
  <cp:lastPrinted>2001-04-24T06:13:29Z</cp:lastPrinted>
  <dcterms:modified xsi:type="dcterms:W3CDTF">2004-11-01T05:30:26Z</dcterms:modified>
  <cp:revision>42</cp:revision>
  <dc:subject/>
  <dc:title>Hotel Operation</dc:title>
</cp:coreProperties>
</file>