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5335588" cy="8002588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619200"/>
            <a:ext cx="4815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969696"/>
                </a:solidFill>
                <a:latin typeface="돋움"/>
                <a:ea typeface="돋움"/>
              </a:rPr>
              <a:t>●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GITAL KEY TELEPHONE / ATTENDANT OPERATION                                          KD, KD/E, LKD S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800280"/>
            <a:ext cx="441972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36760" y="7407360"/>
            <a:ext cx="644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B4B93BC-D580-4194-BF8A-28AEACCD82D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5.pn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package" Target="../embeddings/oleObject1.docx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5.png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79800" y="793800"/>
            <a:ext cx="97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ke-up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084320" y="1195560"/>
            <a:ext cx="387360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</a:rPr>
              <a:t>To register wake-up call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4 1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 </a:t>
            </a:r>
            <a:r>
              <a:rPr b="1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0 4 2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the station range. In case of one station, dial the station number tw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After hearing confirmation tone, enter 4-digit wake-up time (HHmm) i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24-hour mode. (HH= 00~23, mm= 00~5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 for one-day, or dial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and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 fo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until cance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066680" y="1208160"/>
            <a:ext cx="0" cy="62499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9600" y="10350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35240" y="10350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2016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4320" y="2486160"/>
            <a:ext cx="3657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display, you'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79360" y="2814480"/>
            <a:ext cx="1221120" cy="815040"/>
            <a:chOff x="1179360" y="2814480"/>
            <a:chExt cx="1221120" cy="815040"/>
          </a:xfrm>
        </p:grpSpPr>
        <p:sp>
          <p:nvSpPr>
            <p:cNvPr id="47" name=""/>
            <p:cNvSpPr/>
            <p:nvPr/>
          </p:nvSpPr>
          <p:spPr>
            <a:xfrm>
              <a:off x="1370160" y="2814480"/>
              <a:ext cx="850680" cy="78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93480" y="2838240"/>
              <a:ext cx="9198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TD PROGRA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TION PROGRA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CD BRIGHTNES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ING VOLU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PEAKER VOLU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71600" y="338112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65120" y="336996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2846160"/>
              <a:ext cx="18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87640" y="346032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82680" y="2846160"/>
              <a:ext cx="18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71880" y="335412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12840" y="2286000"/>
            <a:ext cx="3792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 using display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4320" y="3662280"/>
            <a:ext cx="373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. On the display, you'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179360" y="3871800"/>
            <a:ext cx="1239840" cy="815400"/>
            <a:chOff x="1179360" y="3871800"/>
            <a:chExt cx="1239840" cy="815400"/>
          </a:xfrm>
        </p:grpSpPr>
        <p:sp>
          <p:nvSpPr>
            <p:cNvPr id="58" name=""/>
            <p:cNvSpPr/>
            <p:nvPr/>
          </p:nvSpPr>
          <p:spPr>
            <a:xfrm>
              <a:off x="1370160" y="3871800"/>
              <a:ext cx="869760" cy="78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73400" y="3895560"/>
              <a:ext cx="83592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WAKE-UP S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WAKE-UP ERAS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PASSWORD ERAS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CHG DATE MO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CHG TIME MO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71600" y="443880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65120" y="442764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79360" y="3903840"/>
              <a:ext cx="18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87640" y="451800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01760" y="3903840"/>
              <a:ext cx="18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0600" y="441180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5920" y="2476440"/>
            <a:ext cx="441468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09760" y="19051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8880" y="124308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76400" y="4903920"/>
            <a:ext cx="3657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display, you'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171440" y="5245200"/>
            <a:ext cx="1220760" cy="815040"/>
            <a:chOff x="1171440" y="5245200"/>
            <a:chExt cx="1220760" cy="815040"/>
          </a:xfrm>
        </p:grpSpPr>
        <p:sp>
          <p:nvSpPr>
            <p:cNvPr id="71" name=""/>
            <p:cNvSpPr/>
            <p:nvPr/>
          </p:nvSpPr>
          <p:spPr>
            <a:xfrm>
              <a:off x="1362240" y="5245200"/>
              <a:ext cx="850680" cy="78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85560" y="5268960"/>
              <a:ext cx="9198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TD PROGRA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TION PROGRA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CD BRIGHTNES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ING VOLU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PEAKER VOLU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63680" y="581184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57200" y="580068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71440" y="5276880"/>
              <a:ext cx="18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79720" y="589104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4760" y="5276880"/>
              <a:ext cx="18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63600" y="578484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04920" y="4703760"/>
            <a:ext cx="379224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76400" y="6080040"/>
            <a:ext cx="3733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 an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key 4 time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display, you'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171440" y="6402240"/>
            <a:ext cx="1227240" cy="815400"/>
            <a:chOff x="1171440" y="6402240"/>
            <a:chExt cx="1227240" cy="815400"/>
          </a:xfrm>
        </p:grpSpPr>
        <p:sp>
          <p:nvSpPr>
            <p:cNvPr id="82" name=""/>
            <p:cNvSpPr/>
            <p:nvPr/>
          </p:nvSpPr>
          <p:spPr>
            <a:xfrm>
              <a:off x="1362240" y="6402240"/>
              <a:ext cx="850680" cy="78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62960" y="6426360"/>
              <a:ext cx="7686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CHNG DATE/TI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SET WAKE U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DISBL WAKE U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LCD DATE MO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LCD TIME MO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63680" y="696924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57200" y="695808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71440" y="6434280"/>
              <a:ext cx="18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79720" y="704844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81240" y="643428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70080" y="694224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78000" y="4894200"/>
            <a:ext cx="441468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8120" y="7194600"/>
            <a:ext cx="169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SET WAKE-UP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066680" y="1231920"/>
            <a:ext cx="0" cy="5632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75560" y="10857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06520" y="10857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720" y="123840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6560" y="793800"/>
            <a:ext cx="3099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Print out Accumulated SMDR Records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Cont'd)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77840" y="1452600"/>
            <a:ext cx="3657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display, you wi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173240" y="1757520"/>
            <a:ext cx="1220760" cy="815040"/>
            <a:chOff x="1173240" y="1757520"/>
            <a:chExt cx="1220760" cy="815040"/>
          </a:xfrm>
        </p:grpSpPr>
        <p:sp>
          <p:nvSpPr>
            <p:cNvPr id="313" name=""/>
            <p:cNvSpPr/>
            <p:nvPr/>
          </p:nvSpPr>
          <p:spPr>
            <a:xfrm>
              <a:off x="1363680" y="1757520"/>
              <a:ext cx="850680" cy="78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87000" y="1781280"/>
              <a:ext cx="9198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TD PROGRA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TION PROGRA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CD BRIGHTNES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ING VOLU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PEAKER VOLU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65120" y="232416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58640" y="231300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73240" y="178920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81160" y="240336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176200" y="1789200"/>
              <a:ext cx="18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165400" y="229716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20760" y="1282680"/>
            <a:ext cx="3792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8000" y="1468440"/>
            <a:ext cx="441324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876920" y="1905120"/>
            <a:ext cx="457200" cy="2057400"/>
            <a:chOff x="4876920" y="1905120"/>
            <a:chExt cx="457200" cy="2057400"/>
          </a:xfrm>
        </p:grpSpPr>
        <p:sp>
          <p:nvSpPr>
            <p:cNvPr id="324" name=""/>
            <p:cNvSpPr/>
            <p:nvPr/>
          </p:nvSpPr>
          <p:spPr>
            <a:xfrm>
              <a:off x="4917960" y="1905120"/>
              <a:ext cx="416160" cy="2012760"/>
            </a:xfrm>
            <a:custGeom>
              <a:avLst/>
              <a:gdLst>
                <a:gd name="textAreaLeft" fmla="*/ 20160 w 416160"/>
                <a:gd name="textAreaRight" fmla="*/ 396000 w 416160"/>
                <a:gd name="textAreaTop" fmla="*/ 20160 h 2012760"/>
                <a:gd name="textAreaBottom" fmla="*/ 1992600 h 2012760"/>
              </a:gdLst>
              <a:ahLst/>
              <a:rect l="textAreaLeft" t="textAreaTop" r="textAreaRight" b="textAreaBottom"/>
              <a:pathLst>
                <a:path w="21600" h="104397">
                  <a:moveTo>
                    <a:pt x="3600" y="0"/>
                  </a:moveTo>
                  <a:arcTo wR="3600" hR="3600" stAng="16200000" swAng="-5400000"/>
                  <a:lnTo>
                    <a:pt x="0" y="100797"/>
                  </a:lnTo>
                  <a:arcTo wR="3600" hR="3600" stAng="10800000" swAng="-5400000"/>
                  <a:lnTo>
                    <a:pt x="18000" y="1043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76920" y="2219400"/>
              <a:ext cx="35064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</a:rPr>
                <a:t>Attendant Ope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1077840" y="2579760"/>
            <a:ext cx="3954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ATD PROGRAM key. On the display, you wi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87560" y="3998880"/>
            <a:ext cx="3657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or account group basi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 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1 1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desire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ccount group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o be prin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ccumulated SMDR records will be printed 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the printer connected to KSU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86320" y="4253040"/>
            <a:ext cx="109296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DK-300/300E : 01~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DK-100/24/20 : 01~2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DK-162 : 01~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01~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4834080"/>
            <a:ext cx="3738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 using display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81080" y="5033880"/>
            <a:ext cx="36576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the 4th menu key from the main menu to select FEATURE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▼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) key 4 time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Select ACT GRP PRT SMDR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Enter the account group to be printe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73040" y="5011560"/>
            <a:ext cx="4329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14440" y="42991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514440" y="548316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581040" y="5141880"/>
            <a:ext cx="162000" cy="2491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82680" y="5791320"/>
            <a:ext cx="3738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79640" y="5991120"/>
            <a:ext cx="36576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Select ATD PROGRAM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Select GRP PRT SMDR key.</a:t>
            </a: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Enter the account group to be printe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1600" y="5969160"/>
            <a:ext cx="4329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512640" y="6369120"/>
            <a:ext cx="324000" cy="323640"/>
          </a:xfrm>
          <a:prstGeom prst="rect">
            <a:avLst/>
          </a:prstGeom>
          <a:ln w="0">
            <a:noFill/>
          </a:ln>
        </p:spPr>
      </p:pic>
      <p:grpSp>
        <p:nvGrpSpPr>
          <p:cNvPr id="339" name=""/>
          <p:cNvGrpSpPr/>
          <p:nvPr/>
        </p:nvGrpSpPr>
        <p:grpSpPr>
          <a:xfrm>
            <a:off x="1160640" y="2763720"/>
            <a:ext cx="1220760" cy="815400"/>
            <a:chOff x="1160640" y="2763720"/>
            <a:chExt cx="1220760" cy="815400"/>
          </a:xfrm>
        </p:grpSpPr>
        <p:sp>
          <p:nvSpPr>
            <p:cNvPr id="340" name=""/>
            <p:cNvSpPr/>
            <p:nvPr/>
          </p:nvSpPr>
          <p:spPr>
            <a:xfrm>
              <a:off x="1351080" y="2763720"/>
              <a:ext cx="850680" cy="78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76920" y="2787480"/>
              <a:ext cx="90324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STA PRT SM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STA DEL SM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GRP PRT SM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GRP DEL SM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DISP CALL CHR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52520" y="333072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346040" y="331956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60640" y="279576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68560" y="340992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63600" y="2795760"/>
              <a:ext cx="18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52800" y="330372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077840" y="3573360"/>
            <a:ext cx="365760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STA PRT SMDR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desired station range to be prin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>
            <a:off x="504720" y="3746520"/>
            <a:ext cx="324000" cy="3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73760" y="10335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14600" y="103680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3800" y="1208160"/>
            <a:ext cx="0" cy="5541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1960" y="793800"/>
            <a:ext cx="1733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Erase SMDR Records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840" y="2111400"/>
            <a:ext cx="33573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 using display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 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81080" y="2289240"/>
            <a:ext cx="36576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4th menu key from the main menu to select FEATURE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key 4 tim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STA DEL SMDR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station range to be eras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1206360"/>
            <a:ext cx="442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1760" y="2301840"/>
            <a:ext cx="439884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514440" y="27478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581040" y="2386080"/>
            <a:ext cx="162000" cy="24912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304920" y="3048120"/>
            <a:ext cx="3657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 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079640" y="3225960"/>
            <a:ext cx="36576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FEATURE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ATD PROGRAM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STA DEL SMDR key.</a:t>
            </a: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station range to be eras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3840" y="3238560"/>
            <a:ext cx="439884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506520" y="3657600"/>
            <a:ext cx="323640" cy="324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076400" y="3968640"/>
            <a:ext cx="37940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or call account group basi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 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1 1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desired account gro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MDR records will be erased for all stations in the range.)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8960" y="4722840"/>
            <a:ext cx="366264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 using display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 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081080" y="4905360"/>
            <a:ext cx="36576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4th menu key from the main menu to select FEATURE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key 4 tim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ACT GRP DEL SMDR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account group to be eras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3200" y="4913280"/>
            <a:ext cx="43974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509760" y="43434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5"/>
          <a:stretch/>
        </p:blipFill>
        <p:spPr>
          <a:xfrm>
            <a:off x="506520" y="53341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6"/>
          <a:stretch/>
        </p:blipFill>
        <p:spPr>
          <a:xfrm>
            <a:off x="573120" y="5008680"/>
            <a:ext cx="162000" cy="2491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04920" y="5724360"/>
            <a:ext cx="3657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 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73160" y="5902200"/>
            <a:ext cx="36576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FEATURE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ATD PROGRAM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GRP DEL SMDR key.</a:t>
            </a: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station range to be eras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3840" y="5915160"/>
            <a:ext cx="439884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7"/>
          <a:stretch/>
        </p:blipFill>
        <p:spPr>
          <a:xfrm>
            <a:off x="506520" y="6305400"/>
            <a:ext cx="323640" cy="3240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079640" y="1203480"/>
            <a:ext cx="379404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</a:rPr>
              <a:t>For station basi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* 2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0112, </a:t>
            </a:r>
            <a:br>
              <a:rPr sz="800"/>
            </a:br>
            <a:r>
              <a:rPr b="1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DK-16/20W:</a:t>
            </a:r>
            <a:r>
              <a:rPr b="1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TRANS/PGM  *82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Enter the desired station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(SMDR records will be erased for all stations in the range.)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8"/>
          <a:srcRect l="7341" t="10310" r="8842" b="13247"/>
          <a:stretch/>
        </p:blipFill>
        <p:spPr>
          <a:xfrm>
            <a:off x="507960" y="1727280"/>
            <a:ext cx="271440" cy="2476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3733920" y="1187280"/>
            <a:ext cx="116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GDK 16:  Above V4.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W    : Above V3.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73760" y="10335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514600" y="103680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63800" y="1208160"/>
            <a:ext cx="0" cy="2678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2320" y="793800"/>
            <a:ext cx="2091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Erase SMDR Records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Cont'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77840" y="1219320"/>
            <a:ext cx="326556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display call charg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 4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1 1 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station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0760" y="1832040"/>
            <a:ext cx="3738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 using display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81080" y="2001960"/>
            <a:ext cx="36576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4th menu key from the main menu to select FEATURE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key 4 tim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DISP CALL CHARGE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desired station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1206360"/>
            <a:ext cx="442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9680" y="2016000"/>
            <a:ext cx="43909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506520" y="15238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06520" y="247176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568440" y="2112840"/>
            <a:ext cx="161640" cy="2494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04920" y="2803680"/>
            <a:ext cx="3657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 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73160" y="2981160"/>
            <a:ext cx="36576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FEATURE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ATD PROGRAM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DISP CALL CHRG key.</a:t>
            </a: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desired station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3840" y="2994120"/>
            <a:ext cx="439884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506520" y="3416400"/>
            <a:ext cx="323640" cy="32364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465840" y="44798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514600" y="448308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77840" y="4719600"/>
            <a:ext cx="379404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7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station number and enter the name using the code shown below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8840" y="6951600"/>
            <a:ext cx="151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3200" y="464184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5"/>
          <a:srcRect l="0" t="13640" r="0" b="0"/>
          <a:stretch/>
        </p:blipFill>
        <p:spPr>
          <a:xfrm>
            <a:off x="488880" y="4691160"/>
            <a:ext cx="428760" cy="2714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6"/>
          <a:stretch/>
        </p:blipFill>
        <p:spPr>
          <a:xfrm>
            <a:off x="514440" y="6915240"/>
            <a:ext cx="323640" cy="32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1981080" y="5181480"/>
          <a:ext cx="1295640" cy="1782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5181480"/>
                    <a:ext cx="129564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393840" y="425448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 by Name (for ICM)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66680" y="4645080"/>
            <a:ext cx="0" cy="2678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4876920" y="1905120"/>
            <a:ext cx="457200" cy="2057400"/>
            <a:chOff x="4876920" y="1905120"/>
            <a:chExt cx="457200" cy="2057400"/>
          </a:xfrm>
        </p:grpSpPr>
        <p:sp>
          <p:nvSpPr>
            <p:cNvPr id="406" name=""/>
            <p:cNvSpPr/>
            <p:nvPr/>
          </p:nvSpPr>
          <p:spPr>
            <a:xfrm>
              <a:off x="4917960" y="1905120"/>
              <a:ext cx="416160" cy="2012760"/>
            </a:xfrm>
            <a:custGeom>
              <a:avLst/>
              <a:gdLst>
                <a:gd name="textAreaLeft" fmla="*/ 20160 w 416160"/>
                <a:gd name="textAreaRight" fmla="*/ 396000 w 416160"/>
                <a:gd name="textAreaTop" fmla="*/ 20160 h 2012760"/>
                <a:gd name="textAreaBottom" fmla="*/ 1992600 h 2012760"/>
              </a:gdLst>
              <a:ahLst/>
              <a:rect l="textAreaLeft" t="textAreaTop" r="textAreaRight" b="textAreaBottom"/>
              <a:pathLst>
                <a:path w="21600" h="104397">
                  <a:moveTo>
                    <a:pt x="3600" y="0"/>
                  </a:moveTo>
                  <a:arcTo wR="3600" hR="3600" stAng="16200000" swAng="-5400000"/>
                  <a:lnTo>
                    <a:pt x="0" y="100797"/>
                  </a:lnTo>
                  <a:arcTo wR="3600" hR="3600" stAng="10800000" swAng="-5400000"/>
                  <a:lnTo>
                    <a:pt x="18000" y="1043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76920" y="2219400"/>
              <a:ext cx="35064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</a:rPr>
                <a:t>Attendant Ope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65840" y="10508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63800" y="1219320"/>
            <a:ext cx="0" cy="4038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14600" y="105408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03200" y="121284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7200" y="797040"/>
            <a:ext cx="212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 by Name (for ICM)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Cont'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73160" y="1461960"/>
            <a:ext cx="395604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key 3 times. On the display, you'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168560" y="1951200"/>
            <a:ext cx="1220760" cy="815040"/>
            <a:chOff x="1168560" y="1951200"/>
            <a:chExt cx="1220760" cy="815040"/>
          </a:xfrm>
        </p:grpSpPr>
        <p:sp>
          <p:nvSpPr>
            <p:cNvPr id="415" name=""/>
            <p:cNvSpPr/>
            <p:nvPr/>
          </p:nvSpPr>
          <p:spPr>
            <a:xfrm>
              <a:off x="1359000" y="1951200"/>
              <a:ext cx="850680" cy="78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83400" y="1974960"/>
              <a:ext cx="921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USER DIAL NA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AUTO DAY-NIGH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251784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53960" y="250668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68560" y="198288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76480" y="259704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1880" y="198288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160720" y="249084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1078560" y="2760840"/>
            <a:ext cx="2970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station number and enter the name using the cod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0760" y="1263600"/>
            <a:ext cx="32814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 using display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9680" y="1460520"/>
            <a:ext cx="43909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514440" y="28195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573120" y="1679400"/>
            <a:ext cx="162000" cy="2494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077840" y="3352680"/>
            <a:ext cx="395604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key 6 times. On the display, you'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160640" y="3819600"/>
            <a:ext cx="1220760" cy="815040"/>
            <a:chOff x="1160640" y="3819600"/>
            <a:chExt cx="1220760" cy="815040"/>
          </a:xfrm>
        </p:grpSpPr>
        <p:sp>
          <p:nvSpPr>
            <p:cNvPr id="430" name=""/>
            <p:cNvSpPr/>
            <p:nvPr/>
          </p:nvSpPr>
          <p:spPr>
            <a:xfrm>
              <a:off x="1351080" y="3819600"/>
              <a:ext cx="850680" cy="78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75840" y="3843360"/>
              <a:ext cx="90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STA CLI AL DE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REC VMIB ANN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CANCEL FEA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REG STA NA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DISABLE CO OU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52520" y="438624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46040" y="437508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160640" y="385128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68560" y="446580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163600" y="3851280"/>
              <a:ext cx="18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52800" y="435924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081800" y="4629240"/>
            <a:ext cx="297000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REG STA NAME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station number and enter the name using the cod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2840" y="3132000"/>
            <a:ext cx="35733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01760" y="3328920"/>
            <a:ext cx="43909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506520" y="478152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4"/>
          <a:stretch/>
        </p:blipFill>
        <p:spPr>
          <a:xfrm>
            <a:off x="565200" y="3548160"/>
            <a:ext cx="162000" cy="2491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393840" y="551340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ed Message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5840" y="57913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06680" y="579420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076400" y="6019920"/>
            <a:ext cx="36417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 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5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number of the desired message (11~20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desired message using the code in Dial by Na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68480" y="5965920"/>
            <a:ext cx="0" cy="925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5"/>
          <a:srcRect l="0" t="20221" r="0" b="0"/>
          <a:stretch/>
        </p:blipFill>
        <p:spPr>
          <a:xfrm>
            <a:off x="488880" y="6014880"/>
            <a:ext cx="428760" cy="25092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6"/>
          <a:stretch/>
        </p:blipFill>
        <p:spPr>
          <a:xfrm>
            <a:off x="506520" y="6458040"/>
            <a:ext cx="323640" cy="32364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95280" y="596412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72960" y="801720"/>
            <a:ext cx="290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 Outgoing Disabl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79640" y="2340000"/>
            <a:ext cx="3657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key once. On the display, you'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n LDK-300/300E/100/24/20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key 6 times.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81800" y="3870360"/>
            <a:ext cx="3259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DISABLE CO OUT key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desired outside line button.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5840" y="10206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68480" y="1189080"/>
            <a:ext cx="0" cy="3230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06680" y="102384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076400" y="1217520"/>
            <a:ext cx="364176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disable outgoing calls a CO lin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7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desired outside line button. (Confirmation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hearing confirmation tone, selected outside line button is disab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eat the process to enable the CO li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5280" y="118728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0760" y="2139840"/>
            <a:ext cx="320508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 using display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22280" y="2324160"/>
            <a:ext cx="4329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077840" y="5445000"/>
            <a:ext cx="29718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ctivate temporary COS chang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2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station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66680" y="5446800"/>
            <a:ext cx="0" cy="1563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65840" y="52736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97160" y="52736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7360" y="544032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62880" y="4978440"/>
            <a:ext cx="454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tation user can change the class of service to lower class temporarily to prevent unauthoriz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 of the station by oth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77840" y="6149880"/>
            <a:ext cx="29718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move temporary COS chang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2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station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3840" y="471168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mporary COS Chang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506520" y="58672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506520" y="66340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488880" y="126360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488880" y="548964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488880" y="620712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6"/>
          <a:stretch/>
        </p:blipFill>
        <p:spPr>
          <a:xfrm>
            <a:off x="573120" y="2558880"/>
            <a:ext cx="162000" cy="249480"/>
          </a:xfrm>
          <a:prstGeom prst="rect">
            <a:avLst/>
          </a:prstGeom>
          <a:ln w="0">
            <a:noFill/>
          </a:ln>
        </p:spPr>
      </p:pic>
      <p:grpSp>
        <p:nvGrpSpPr>
          <p:cNvPr id="475" name=""/>
          <p:cNvGrpSpPr/>
          <p:nvPr/>
        </p:nvGrpSpPr>
        <p:grpSpPr>
          <a:xfrm>
            <a:off x="1168560" y="2940120"/>
            <a:ext cx="2869920" cy="965520"/>
            <a:chOff x="1168560" y="2940120"/>
            <a:chExt cx="2869920" cy="965520"/>
          </a:xfrm>
        </p:grpSpPr>
        <p:sp>
          <p:nvSpPr>
            <p:cNvPr id="476" name=""/>
            <p:cNvSpPr/>
            <p:nvPr/>
          </p:nvSpPr>
          <p:spPr>
            <a:xfrm>
              <a:off x="1359000" y="2940120"/>
              <a:ext cx="850680" cy="78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83400" y="2963880"/>
              <a:ext cx="9291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DISABLE CO OU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STA MSG ERAS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SET ICMBOX MS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CLOCK S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INTERCOM ONLY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360440" y="350676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53960" y="349560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168560" y="297180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176480" y="358632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171880" y="297180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160720" y="347976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008160" y="2946240"/>
              <a:ext cx="851040" cy="78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933280" y="2970360"/>
              <a:ext cx="90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STA CLI AL DE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REC VMIB ANN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CANCEL FEA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REG STA NA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DISABLE CO OU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09960" y="351324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03480" y="350208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817720" y="2978280"/>
              <a:ext cx="18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26000" y="359244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21040" y="2978280"/>
              <a:ext cx="187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09880" y="348624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754720" y="3705120"/>
              <a:ext cx="1276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&lt;LDK-300/300E/100/24/20&gt;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4876920" y="1905120"/>
            <a:ext cx="457200" cy="2057400"/>
            <a:chOff x="4876920" y="1905120"/>
            <a:chExt cx="457200" cy="2057400"/>
          </a:xfrm>
        </p:grpSpPr>
        <p:sp>
          <p:nvSpPr>
            <p:cNvPr id="494" name=""/>
            <p:cNvSpPr/>
            <p:nvPr/>
          </p:nvSpPr>
          <p:spPr>
            <a:xfrm>
              <a:off x="4917960" y="1905120"/>
              <a:ext cx="416160" cy="2012760"/>
            </a:xfrm>
            <a:custGeom>
              <a:avLst/>
              <a:gdLst>
                <a:gd name="textAreaLeft" fmla="*/ 20160 w 416160"/>
                <a:gd name="textAreaRight" fmla="*/ 396000 w 416160"/>
                <a:gd name="textAreaTop" fmla="*/ 20160 h 2012760"/>
                <a:gd name="textAreaBottom" fmla="*/ 1992600 h 2012760"/>
              </a:gdLst>
              <a:ahLst/>
              <a:rect l="textAreaLeft" t="textAreaTop" r="textAreaRight" b="textAreaBottom"/>
              <a:pathLst>
                <a:path w="21600" h="104397">
                  <a:moveTo>
                    <a:pt x="3600" y="0"/>
                  </a:moveTo>
                  <a:arcTo wR="3600" hR="3600" stAng="16200000" swAng="-5400000"/>
                  <a:lnTo>
                    <a:pt x="0" y="100797"/>
                  </a:lnTo>
                  <a:arcTo wR="3600" hR="3600" stAng="10800000" swAng="-5400000"/>
                  <a:lnTo>
                    <a:pt x="18000" y="1043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76920" y="2219400"/>
              <a:ext cx="35064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</a:rPr>
                <a:t>Attendant Ope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465840" y="25527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498760" y="255600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81080" y="2754360"/>
            <a:ext cx="3641760" cy="22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tart the traffic analysis at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7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top the traffic analysis at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7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print the result of traffic analysis at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7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bort printing at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7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073160" y="2727360"/>
            <a:ext cx="0" cy="2606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4040" y="1041480"/>
            <a:ext cx="449604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The system will monitor the system and record various traffic data which can be printed up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request. The information can be used to determine whether the circuits installed in the 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are adequat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When enabled, it will continue to monitor the traffic until disabled. The traffic data is collect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and sent to the RS232C port upon request. The collected traffic data contains two types o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traffic data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The first type is peg counts which give an actual count of the number of times a particula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operation has occurred. Peg counts are given in absolute values from 00000 to 99999.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second type of data is usage times which give the average percent occupancy of a device, i.e.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stations, CO lines, DTMF receivers, etc. Usage times are given in seconds from 00000 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99999. Counts and times are cumulative from the time the monitoring is activated, and ar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reset by initiating the start up procedure agai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7360" y="272556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65760" y="79200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ffic Analysis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522360" y="31240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488880" y="2814480"/>
            <a:ext cx="428760" cy="3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534240" y="18288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66800" y="183204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85760" y="2006640"/>
            <a:ext cx="3641760" cy="30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print all summary at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 1 2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Measurement Time typ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print all summary traffic report periodically at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 1 2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cancel periodic printing of all summary traffic report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 1 2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print the traffic repor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 1 2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Attendant Traffic Report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 1 2 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Call Summary Re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 1 2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Call Hourly Re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 1 2 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H/W Unit Usage Summary Re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 1 2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CO Traffic Re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 1 2 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CO Traffic Hourly Repo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66680" y="2003400"/>
            <a:ext cx="0" cy="3216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5760" y="200196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5560" y="792000"/>
            <a:ext cx="280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ffic Analysis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Cont'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70520" y="60832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0" y="608652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066680" y="6257880"/>
            <a:ext cx="0" cy="728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70080" y="5800680"/>
            <a:ext cx="4239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The attendant can cancel the features, DND CALL FORWARD and preselected messag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activating at other stat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066680" y="6259680"/>
            <a:ext cx="2333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 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7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desired station range to be cance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93840" y="556272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rasing Station Message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rcRect l="0" t="16176" r="0" b="0"/>
          <a:stretch/>
        </p:blipFill>
        <p:spPr>
          <a:xfrm>
            <a:off x="488880" y="6283440"/>
            <a:ext cx="428760" cy="2635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590400" y="2463840"/>
            <a:ext cx="324000" cy="3236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3"/>
          <a:stretch/>
        </p:blipFill>
        <p:spPr>
          <a:xfrm>
            <a:off x="514440" y="662004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557280" y="2039760"/>
            <a:ext cx="428400" cy="3146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380880" y="625644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71160" y="1039680"/>
            <a:ext cx="4517280" cy="81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ystem can monitor and print various system activate based on the attendant’s request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raffic-monitoring program is activated only when enabled and will continue accumulat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tistics until disabled. The traffic data is output to the RS-232C port upon manual request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ystem will support the following traffic reports; Attendant Traffic Report, Call Summar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ort, Call Hourly Report, H/W Unit Usage Summary Report, CO Traffic Report and CO Traff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urly Repor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876920" y="1905120"/>
            <a:ext cx="457200" cy="2057400"/>
            <a:chOff x="4876920" y="1905120"/>
            <a:chExt cx="457200" cy="2057400"/>
          </a:xfrm>
        </p:grpSpPr>
        <p:sp>
          <p:nvSpPr>
            <p:cNvPr id="524" name=""/>
            <p:cNvSpPr/>
            <p:nvPr/>
          </p:nvSpPr>
          <p:spPr>
            <a:xfrm>
              <a:off x="4917960" y="1905120"/>
              <a:ext cx="416160" cy="2012760"/>
            </a:xfrm>
            <a:custGeom>
              <a:avLst/>
              <a:gdLst>
                <a:gd name="textAreaLeft" fmla="*/ 20160 w 416160"/>
                <a:gd name="textAreaRight" fmla="*/ 396000 w 416160"/>
                <a:gd name="textAreaTop" fmla="*/ 20160 h 2012760"/>
                <a:gd name="textAreaBottom" fmla="*/ 1992600 h 2012760"/>
              </a:gdLst>
              <a:ahLst/>
              <a:rect l="textAreaLeft" t="textAreaTop" r="textAreaRight" b="textAreaBottom"/>
              <a:pathLst>
                <a:path w="21600" h="104397">
                  <a:moveTo>
                    <a:pt x="3600" y="0"/>
                  </a:moveTo>
                  <a:arcTo wR="3600" hR="3600" stAng="16200000" swAng="-5400000"/>
                  <a:lnTo>
                    <a:pt x="0" y="100797"/>
                  </a:lnTo>
                  <a:arcTo wR="3600" hR="3600" stAng="10800000" swAng="-5400000"/>
                  <a:lnTo>
                    <a:pt x="18000" y="1043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76920" y="2219400"/>
              <a:ext cx="35064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</a:rPr>
                <a:t>Attendant Ope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220760" y="2398680"/>
            <a:ext cx="2181240" cy="2989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14680" y="2471760"/>
            <a:ext cx="1285920" cy="1889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020600" y="2057400"/>
            <a:ext cx="2522880" cy="33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Type (00~2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DK-162   GDK-FPII/100              Langu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0                  0 0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1                  0 1              Kore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2                  0 2              Itali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3                  0 3              English for Large LC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4                  0 4              Swedis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5                  0 5              Norwegi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6                  0 6              Finnis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7                  0 7              Du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8                  0 8              Spanis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9                  0 9              Korean for Large LC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0                  1 0              Danis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 .                   1 1              Germ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 .                   1 2              German for Large LC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3                  1 3              Estonia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2                  1 4              Estonia for Large LC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4                  1 5              Swedish for Large LC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5                  1 6              Italy for Large LC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6                  1 7              Norway for Large LCD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7                  1 8              Finnish for Large LC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8                  1 9              Dutch for Large LC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 0                  2 0              Russi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9                   2 1              Spanish for Large LC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 1                  2 2              Russian for Large LC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1                  2 3              Danish for Large LC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 2                  2 4              Portuguese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. .                   2 5              Portuguese for Large LCD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25440" y="2544840"/>
            <a:ext cx="2170080" cy="144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57440" y="2422440"/>
            <a:ext cx="1440" cy="29448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79520" y="2411280"/>
            <a:ext cx="1800" cy="29448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77000" y="10350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493720" y="103824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680" y="1228680"/>
            <a:ext cx="440532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066680" y="1227240"/>
            <a:ext cx="0" cy="5592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96000" y="797040"/>
            <a:ext cx="17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endant LCD Languag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67040" y="1271520"/>
            <a:ext cx="255816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change the LCD language at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7 </a:t>
            </a:r>
            <a:r>
              <a:rPr b="1" i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station range to be chang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language type with the following codes.</a:t>
            </a: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GDK-16/20W: English / Each Nation’s Langu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506520" y="19000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488880" y="134784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3429000" y="2165400"/>
            <a:ext cx="161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DK-300/300E/100/24/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Type (00~1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282840" y="2390760"/>
            <a:ext cx="1663920" cy="21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DK-300/300E      Langu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/100/24/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0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1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tali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2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Finnis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3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u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4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Swedis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5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anis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6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Norwegi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7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Hungari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8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 9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Fren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0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ortugue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1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Spanis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2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Kore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3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ston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 4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ussi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506760" y="2749680"/>
            <a:ext cx="129384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91120" y="2476440"/>
            <a:ext cx="0" cy="18828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8800" y="5486400"/>
            <a:ext cx="35053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GDK16 / 20W (16: 4.0XX &amp; 20W: 3.0XX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81080" y="5759280"/>
            <a:ext cx="3657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change the LCD language at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1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station range to be chang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language ( English / Each Nation’s Languag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7720" y="5676840"/>
            <a:ext cx="43992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3"/>
          <a:stretch/>
        </p:blipFill>
        <p:spPr>
          <a:xfrm>
            <a:off x="590400" y="630540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565200" y="5775480"/>
            <a:ext cx="428400" cy="3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473760" y="12398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46280" y="124308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71720" y="1430280"/>
            <a:ext cx="3794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et ICM box music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7 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music channel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0~9, LDK-300/300E: 01~12, LDK-100:01~11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DK-24/20:1~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0520" y="1041480"/>
            <a:ext cx="3214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attendant can select the music channel source to an ICM box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0880" y="14130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0000" y="801720"/>
            <a:ext cx="2940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com Box BGM Selection by Attendant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063800" y="1420920"/>
            <a:ext cx="0" cy="5665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71720" y="2435400"/>
            <a:ext cx="36576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 key. On the display, you will see the following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1166760" y="2762280"/>
            <a:ext cx="1239840" cy="815400"/>
            <a:chOff x="1166760" y="2762280"/>
            <a:chExt cx="1239840" cy="815400"/>
          </a:xfrm>
        </p:grpSpPr>
        <p:sp>
          <p:nvSpPr>
            <p:cNvPr id="558" name=""/>
            <p:cNvSpPr/>
            <p:nvPr/>
          </p:nvSpPr>
          <p:spPr>
            <a:xfrm>
              <a:off x="1357200" y="2762280"/>
              <a:ext cx="870120" cy="78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90960" y="2786400"/>
              <a:ext cx="988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WAKE-UP S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WAKE-UP ERAS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PASSWORD ERAS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CHG DATE MO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CHG TIME MOD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359000" y="332928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52160" y="331812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166760" y="279432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75040" y="340848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189160" y="279432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78000" y="330228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328680" y="2235240"/>
            <a:ext cx="3792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 using display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7600" y="2435400"/>
            <a:ext cx="4383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079640" y="3597120"/>
            <a:ext cx="3657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ke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once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'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181160" y="3911760"/>
            <a:ext cx="1220760" cy="815040"/>
            <a:chOff x="1181160" y="3911760"/>
            <a:chExt cx="1220760" cy="815040"/>
          </a:xfrm>
        </p:grpSpPr>
        <p:sp>
          <p:nvSpPr>
            <p:cNvPr id="570" name=""/>
            <p:cNvSpPr/>
            <p:nvPr/>
          </p:nvSpPr>
          <p:spPr>
            <a:xfrm>
              <a:off x="1371600" y="3911760"/>
              <a:ext cx="851040" cy="78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296000" y="3935520"/>
              <a:ext cx="9291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DISABLE CO OU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STA MSG ERAS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SET ICMBOX MS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CLOCK S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INTERCOM ONLY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73040" y="4478400"/>
              <a:ext cx="84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66560" y="446724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81160" y="394344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189080" y="455760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84480" y="394344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73320" y="445140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1077840" y="4746600"/>
            <a:ext cx="36576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SET ICMBOX MS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Music type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 : No mus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~9 : Music from channel 1~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514440" y="19051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488880" y="150804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3"/>
          <a:stretch/>
        </p:blipFill>
        <p:spPr>
          <a:xfrm>
            <a:off x="573120" y="3581280"/>
            <a:ext cx="162000" cy="24948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1076400" y="5715000"/>
            <a:ext cx="36576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 key. On the display, you will see the following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1158840" y="6067440"/>
            <a:ext cx="1220760" cy="815400"/>
            <a:chOff x="1158840" y="6067440"/>
            <a:chExt cx="1220760" cy="815400"/>
          </a:xfrm>
        </p:grpSpPr>
        <p:sp>
          <p:nvSpPr>
            <p:cNvPr id="584" name=""/>
            <p:cNvSpPr/>
            <p:nvPr/>
          </p:nvSpPr>
          <p:spPr>
            <a:xfrm>
              <a:off x="1349280" y="6067440"/>
              <a:ext cx="851040" cy="787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275480" y="6091560"/>
              <a:ext cx="90324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STA PRT SM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STA DEL SM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GRP PRT SM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GRP DEL SM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DISP CALL CHR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51080" y="663444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344240" y="662328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58840" y="609948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167120" y="671364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162160" y="609948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51000" y="660744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320760" y="5514840"/>
            <a:ext cx="3792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09680" y="5715000"/>
            <a:ext cx="4383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4"/>
          <a:stretch/>
        </p:blipFill>
        <p:spPr>
          <a:xfrm>
            <a:off x="498600" y="5176800"/>
            <a:ext cx="323640" cy="324000"/>
          </a:xfrm>
          <a:prstGeom prst="rect">
            <a:avLst/>
          </a:prstGeom>
          <a:ln w="0">
            <a:noFill/>
          </a:ln>
        </p:spPr>
      </p:pic>
      <p:grpSp>
        <p:nvGrpSpPr>
          <p:cNvPr id="595" name=""/>
          <p:cNvGrpSpPr/>
          <p:nvPr/>
        </p:nvGrpSpPr>
        <p:grpSpPr>
          <a:xfrm>
            <a:off x="4876920" y="1905120"/>
            <a:ext cx="457200" cy="2057400"/>
            <a:chOff x="4876920" y="1905120"/>
            <a:chExt cx="457200" cy="2057400"/>
          </a:xfrm>
        </p:grpSpPr>
        <p:sp>
          <p:nvSpPr>
            <p:cNvPr id="596" name=""/>
            <p:cNvSpPr/>
            <p:nvPr/>
          </p:nvSpPr>
          <p:spPr>
            <a:xfrm>
              <a:off x="4917960" y="1905120"/>
              <a:ext cx="416160" cy="2012760"/>
            </a:xfrm>
            <a:custGeom>
              <a:avLst/>
              <a:gdLst>
                <a:gd name="textAreaLeft" fmla="*/ 20160 w 416160"/>
                <a:gd name="textAreaRight" fmla="*/ 396000 w 416160"/>
                <a:gd name="textAreaTop" fmla="*/ 20160 h 2012760"/>
                <a:gd name="textAreaBottom" fmla="*/ 1992600 h 2012760"/>
              </a:gdLst>
              <a:ahLst/>
              <a:rect l="textAreaLeft" t="textAreaTop" r="textAreaRight" b="textAreaBottom"/>
              <a:pathLst>
                <a:path w="21600" h="104397">
                  <a:moveTo>
                    <a:pt x="3600" y="0"/>
                  </a:moveTo>
                  <a:arcTo wR="3600" hR="3600" stAng="16200000" swAng="-5400000"/>
                  <a:lnTo>
                    <a:pt x="0" y="100797"/>
                  </a:lnTo>
                  <a:arcTo wR="3600" hR="3600" stAng="10800000" swAng="-5400000"/>
                  <a:lnTo>
                    <a:pt x="18000" y="1043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876920" y="2219400"/>
              <a:ext cx="35064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</a:rPr>
                <a:t>Attendant Ope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076400" y="2436840"/>
            <a:ext cx="3657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Select the ICMBX MSC S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the Music type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00 : No mus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LDK-300/300E: 01~12 ( Music from channel 1~12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LDK-100: 01~11 ( Music from channel 1~11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LDK-24/20: 1~8 ( Music from channel 1~8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077840" y="1227240"/>
            <a:ext cx="3657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ke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times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'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173240" y="1579680"/>
            <a:ext cx="1220760" cy="815040"/>
            <a:chOff x="1173240" y="1579680"/>
            <a:chExt cx="1220760" cy="815040"/>
          </a:xfrm>
        </p:grpSpPr>
        <p:sp>
          <p:nvSpPr>
            <p:cNvPr id="601" name=""/>
            <p:cNvSpPr/>
            <p:nvPr/>
          </p:nvSpPr>
          <p:spPr>
            <a:xfrm>
              <a:off x="1363680" y="1579680"/>
              <a:ext cx="851040" cy="78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288800" y="1603440"/>
              <a:ext cx="8694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AUTO D/N/W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ICMBX BGM SE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BGM TO EXT 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BGM TO EXT 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BGM TO EXT 3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365120" y="2146320"/>
              <a:ext cx="84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358640" y="213516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173240" y="161136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181160" y="222552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176560" y="161136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65400" y="211932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596880" y="1268280"/>
            <a:ext cx="162000" cy="2494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473760" y="10144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6280" y="101772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0880" y="11872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63800" y="1195560"/>
            <a:ext cx="0" cy="2271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60000" y="801720"/>
            <a:ext cx="3328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com Box BGM Selection by Attendant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Cont'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5560" y="38782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492280" y="388152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7360" y="4038480"/>
            <a:ext cx="439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081080" y="4059360"/>
            <a:ext cx="3795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marL="95400" indent="-95400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et External Page Port music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7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(External Port 1),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7 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(External Port 2), or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7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(External Port 3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music channel (LDK-300/300E:01~12, LDK-100:01~11, LDK-24/20:1~8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65240" y="4029120"/>
            <a:ext cx="0" cy="3362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84120" y="3639960"/>
            <a:ext cx="449280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ernal Page Port BGM Selection by Attendant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Only in LDK-300/300E/100/24/2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076400" y="5105520"/>
            <a:ext cx="381312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 key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ke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 times. The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 will see the following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20760" y="4905360"/>
            <a:ext cx="3792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09680" y="5105520"/>
            <a:ext cx="4383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1173240" y="5559480"/>
            <a:ext cx="1220760" cy="815040"/>
            <a:chOff x="1173240" y="5559480"/>
            <a:chExt cx="1220760" cy="815040"/>
          </a:xfrm>
        </p:grpSpPr>
        <p:sp>
          <p:nvSpPr>
            <p:cNvPr id="625" name=""/>
            <p:cNvSpPr/>
            <p:nvPr/>
          </p:nvSpPr>
          <p:spPr>
            <a:xfrm>
              <a:off x="1363680" y="5559480"/>
              <a:ext cx="851040" cy="78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288800" y="5583240"/>
              <a:ext cx="8694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AUTO D/N/W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ICMBX BGM SE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BGM TO EXT 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BGM TO EXT 2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BGM TO EXT 3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65120" y="6126120"/>
              <a:ext cx="84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358640" y="611496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73240" y="559116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81160" y="620532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176560" y="559116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165400" y="609912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565200" y="5210280"/>
            <a:ext cx="162000" cy="24912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1065600" y="6397560"/>
            <a:ext cx="260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BGM TO EXT 1~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Music type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0 : No mus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DK-300/300E : 01~12 ( Music from channel 1~1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DK-100 : 01~11 ( Music from channel 1~1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DK-24/20: 1~8 ( Music from channel 1~8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3"/>
          <a:stretch/>
        </p:blipFill>
        <p:spPr>
          <a:xfrm>
            <a:off x="514440" y="306720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14440" y="7108920"/>
            <a:ext cx="32364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79800" y="793800"/>
            <a:ext cx="1400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ke-up Call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nt’d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200240"/>
            <a:ext cx="0" cy="3429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9600" y="10350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35240" y="10350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2016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81080" y="1219320"/>
            <a:ext cx="3962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Enter the station range (XXX-YYY) to receive wake-up c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Enter 4-digit wake-up time (HHmm) in 24-hour m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 for one-day, or dial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and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 fo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until cance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84320" y="1752480"/>
            <a:ext cx="3716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cancel wake-up call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4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nfirmation tone is heard an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is lighting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station range to be cancele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 (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will be extinguishe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840" y="2590920"/>
            <a:ext cx="343368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 using display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73520" y="2781360"/>
            <a:ext cx="2620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WAKE-UP ERASE key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station range to be canceled (XXX~YYY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1760" y="2781360"/>
            <a:ext cx="4329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14440" y="14479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4440" y="226692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09760" y="32004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88880" y="181764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1680" y="3578400"/>
            <a:ext cx="366084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71000" y="3768840"/>
            <a:ext cx="3066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 an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key 4 time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DISBL WAKE UP key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station range to be canceled (XXX~YYY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0600" y="3768840"/>
            <a:ext cx="4329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498600" y="4191120"/>
            <a:ext cx="323640" cy="323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917960" y="1905120"/>
            <a:ext cx="416160" cy="2012760"/>
          </a:xfrm>
          <a:custGeom>
            <a:avLst/>
            <a:gdLst>
              <a:gd name="textAreaLeft" fmla="*/ 20160 w 416160"/>
              <a:gd name="textAreaRight" fmla="*/ 396000 w 416160"/>
              <a:gd name="textAreaTop" fmla="*/ 20160 h 2012760"/>
              <a:gd name="textAreaBottom" fmla="*/ 1992600 h 2012760"/>
            </a:gdLst>
            <a:ahLst/>
            <a:rect l="textAreaLeft" t="textAreaTop" r="textAreaRight" b="textAreaBottom"/>
            <a:pathLst>
              <a:path w="21600" h="104397">
                <a:moveTo>
                  <a:pt x="3600" y="0"/>
                </a:moveTo>
                <a:arcTo wR="3600" hR="3600" stAng="16200000" swAng="-5400000"/>
                <a:lnTo>
                  <a:pt x="0" y="100797"/>
                </a:lnTo>
                <a:arcTo wR="3600" hR="3600" stAng="10800000" swAng="-5400000"/>
                <a:lnTo>
                  <a:pt x="18000" y="104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2219400"/>
            <a:ext cx="35064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Attendant Ope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465840" y="37069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90480" y="371016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0880" y="38671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066680" y="3873600"/>
            <a:ext cx="0" cy="630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2320" y="10396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490840" y="10396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0880" y="120636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077840" y="1238400"/>
            <a:ext cx="38102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desired DSS station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ng up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to terminate the call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066680" y="1212840"/>
            <a:ext cx="0" cy="6523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5920" y="205740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king a 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65840" y="23335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90480" y="233676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079640" y="2495520"/>
            <a:ext cx="3794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marL="98280" indent="-98280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eak in normal voice tone to announce messag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ng up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066680" y="2492280"/>
            <a:ext cx="0" cy="735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0880" y="24955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78000" y="3429000"/>
            <a:ext cx="442260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ferring an Outside Line to Another S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79640" y="3882960"/>
            <a:ext cx="379404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marL="98280" indent="-98280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le connecting an outside line, press the desired DSS station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 can wait to announce the transfer o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ng up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1600" y="793800"/>
            <a:ext cx="407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endant DSS Operation /Placing an Intercom Call from the D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65840" y="49831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490480" y="498636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0880" y="51436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079640" y="5162400"/>
            <a:ext cx="379404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ft handset or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programmed INTERCOM GROUP CALL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call is connected to an idle station in the gro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066680" y="5141880"/>
            <a:ext cx="0" cy="555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0880" y="5907240"/>
            <a:ext cx="44197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riding a Key Telephone in Do Not Distur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73760" y="61452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490480" y="614844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0880" y="63054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079640" y="6296040"/>
            <a:ext cx="379404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DSS button of the station to be overridden. (DND tone or busy tone i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rd.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programmed OVERRIDE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66680" y="6303960"/>
            <a:ext cx="0" cy="1157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0880" y="4756320"/>
            <a:ext cx="4407120" cy="241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76920" y="4756320"/>
            <a:ext cx="1610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com Group Cal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＊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76400" y="6929280"/>
            <a:ext cx="379404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DSS button of the station to be overridden. (DND tone or busy tone i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rd.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* to override the station in DND or in bus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12840" y="6754680"/>
            <a:ext cx="32814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  GDK-16/20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01760" y="6951600"/>
            <a:ext cx="439092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4876920" y="1905120"/>
            <a:ext cx="457200" cy="2057400"/>
            <a:chOff x="4876920" y="1905120"/>
            <a:chExt cx="457200" cy="2057400"/>
          </a:xfrm>
        </p:grpSpPr>
        <p:sp>
          <p:nvSpPr>
            <p:cNvPr id="672" name=""/>
            <p:cNvSpPr/>
            <p:nvPr/>
          </p:nvSpPr>
          <p:spPr>
            <a:xfrm>
              <a:off x="4917960" y="1905120"/>
              <a:ext cx="416160" cy="2012760"/>
            </a:xfrm>
            <a:custGeom>
              <a:avLst/>
              <a:gdLst>
                <a:gd name="textAreaLeft" fmla="*/ 20160 w 416160"/>
                <a:gd name="textAreaRight" fmla="*/ 396000 w 416160"/>
                <a:gd name="textAreaTop" fmla="*/ 20160 h 2012760"/>
                <a:gd name="textAreaBottom" fmla="*/ 1992600 h 2012760"/>
              </a:gdLst>
              <a:ahLst/>
              <a:rect l="textAreaLeft" t="textAreaTop" r="textAreaRight" b="textAreaBottom"/>
              <a:pathLst>
                <a:path w="21600" h="104397">
                  <a:moveTo>
                    <a:pt x="3600" y="0"/>
                  </a:moveTo>
                  <a:arcTo wR="3600" hR="3600" stAng="16200000" swAng="-5400000"/>
                  <a:lnTo>
                    <a:pt x="0" y="100797"/>
                  </a:lnTo>
                  <a:arcTo wR="3600" hR="3600" stAng="10800000" swAng="-5400000"/>
                  <a:lnTo>
                    <a:pt x="18000" y="1043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876920" y="2219400"/>
              <a:ext cx="35064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</a:rPr>
                <a:t>Attendant Ope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81600" y="793800"/>
            <a:ext cx="2363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endant Programming Menu 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1240" y="1041480"/>
            <a:ext cx="424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attendant can program some features with this table by pressing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appropriate cod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16160" y="4254480"/>
            <a:ext cx="1042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63760" y="4254480"/>
            <a:ext cx="90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175280" y="4254480"/>
            <a:ext cx="604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0880" y="1447920"/>
            <a:ext cx="4394160" cy="203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71240" y="1447920"/>
            <a:ext cx="633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ttendant Ma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67800" y="15462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66280" y="1447920"/>
            <a:ext cx="40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ttenda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411920" y="1546200"/>
            <a:ext cx="52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ub Menu - 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464560" y="1447920"/>
            <a:ext cx="40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ttenda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364840" y="1546200"/>
            <a:ext cx="444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ub Menu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864520" y="1546200"/>
            <a:ext cx="12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- II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24760" y="1496880"/>
            <a:ext cx="39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30800" y="1496880"/>
            <a:ext cx="32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emar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174760" y="1657440"/>
            <a:ext cx="672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1] PRINT SMD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285640" y="1746360"/>
            <a:ext cx="492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STA BAS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298680" y="1693800"/>
            <a:ext cx="822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N# (+ END STN#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283280" y="169380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174040" y="1868400"/>
            <a:ext cx="983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2] DELETE (STA BAS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98680" y="1868400"/>
            <a:ext cx="822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N# (+ END STN#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83280" y="186840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174760" y="2001960"/>
            <a:ext cx="672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3] PRINT SMD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86000" y="2084400"/>
            <a:ext cx="51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GRP BAS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83560" y="204624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RP# (+ END GRP#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83280" y="204624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74760" y="2225520"/>
            <a:ext cx="100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4] DELETE (GRP BAS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283560" y="2225520"/>
            <a:ext cx="85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RP# (+ END GRP#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283280" y="222552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172600" y="2362320"/>
            <a:ext cx="743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5] DISPLAY C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297520" y="24433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83280" y="240516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75840" y="2579760"/>
            <a:ext cx="874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6] ABORT PRINT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603600" y="2579760"/>
            <a:ext cx="21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83280" y="257976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76200" y="2736720"/>
            <a:ext cx="88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7] PRINT LOST C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283280" y="273672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264680" y="2313000"/>
            <a:ext cx="38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1] SMD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75480" y="2889360"/>
            <a:ext cx="966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8] DELETE LOST C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83280" y="288936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175120" y="303372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1] PRINT 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96800" y="3112920"/>
            <a:ext cx="453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327840" y="3068640"/>
            <a:ext cx="76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alysis Time Ty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283280" y="307512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175120" y="3225960"/>
            <a:ext cx="56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2] PRINT 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98600" y="3306600"/>
            <a:ext cx="429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ERIOD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327840" y="3219480"/>
            <a:ext cx="76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alysis Time Ty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349800" y="3308400"/>
            <a:ext cx="723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, Print Time (Hour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283280" y="326700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175120" y="3422520"/>
            <a:ext cx="880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3] ABORT PERIOD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5640" y="3510000"/>
            <a:ext cx="266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06840" y="3457440"/>
            <a:ext cx="21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83280" y="345744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174760" y="3638520"/>
            <a:ext cx="58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4] PRINT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286000" y="3719520"/>
            <a:ext cx="372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AFF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327840" y="3673440"/>
            <a:ext cx="76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alysis Time Ty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283280" y="367344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174760" y="3848040"/>
            <a:ext cx="633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5] PRINT C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96800" y="3929040"/>
            <a:ext cx="453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606840" y="3889440"/>
            <a:ext cx="21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283280" y="388944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174760" y="4051440"/>
            <a:ext cx="633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6] PRINT C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98240" y="4132440"/>
            <a:ext cx="369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HOUR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606840" y="4092480"/>
            <a:ext cx="21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283280" y="409248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75120" y="4281480"/>
            <a:ext cx="919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7] PRINT H/W U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323160" y="4281480"/>
            <a:ext cx="76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alysis Time Ty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83280" y="428148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175480" y="4427640"/>
            <a:ext cx="54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8] PRINT 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92120" y="4508640"/>
            <a:ext cx="453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321360" y="4462560"/>
            <a:ext cx="76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alysis Time Ty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83280" y="445608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00680" y="3151080"/>
            <a:ext cx="36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1]PRI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265400" y="3862440"/>
            <a:ext cx="49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2] TRAFF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175480" y="4626000"/>
            <a:ext cx="93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9] PRINT CO HOUR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404160" y="4632480"/>
            <a:ext cx="392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nter C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91160" y="4632480"/>
            <a:ext cx="220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rp #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283280" y="462600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266840" y="4757760"/>
            <a:ext cx="74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1] SET ICM ON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383120" y="4842000"/>
            <a:ext cx="266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314520" y="4792680"/>
            <a:ext cx="226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N#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541680" y="47991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561840" y="4792680"/>
            <a:ext cx="572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+ END STN#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12200" y="4871880"/>
            <a:ext cx="29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2]C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265040" y="4962600"/>
            <a:ext cx="767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2] RESTORE CO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314520" y="4970520"/>
            <a:ext cx="226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N#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541680" y="49705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561840" y="4970520"/>
            <a:ext cx="572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+ END STN#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00680" y="5141880"/>
            <a:ext cx="819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3]AUTHORIZ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259280" y="5099040"/>
            <a:ext cx="50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1] 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387080" y="5191200"/>
            <a:ext cx="72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309840" y="5148360"/>
            <a:ext cx="822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N# (+ END STN#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226040" y="5099040"/>
            <a:ext cx="323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219560" y="5197320"/>
            <a:ext cx="526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ROUP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262520" y="5291280"/>
            <a:ext cx="50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1] 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389960" y="5381640"/>
            <a:ext cx="471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ATE/TI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494880" y="5327640"/>
            <a:ext cx="44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M/DD/Y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262760" y="534204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63960" y="5532480"/>
            <a:ext cx="729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2] SET WAKE 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305160" y="5532480"/>
            <a:ext cx="822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N# (+ END STN#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230720" y="5489640"/>
            <a:ext cx="323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218120" y="5567400"/>
            <a:ext cx="526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ROUP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60360" y="5681520"/>
            <a:ext cx="784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3] DISABLE WAK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91400" y="5778360"/>
            <a:ext cx="124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305160" y="5729400"/>
            <a:ext cx="822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N# (+ END STN#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228920" y="5675400"/>
            <a:ext cx="323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222800" y="5772240"/>
            <a:ext cx="526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ROUP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265760" y="5913360"/>
            <a:ext cx="849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4] LCD DATE M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310560" y="5913360"/>
            <a:ext cx="81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MDDYY/DDMMY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283280" y="591336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267560" y="6070680"/>
            <a:ext cx="82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5] LCD TIME M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542040" y="6070680"/>
            <a:ext cx="348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2H/24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283280" y="607068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11480" y="5781600"/>
            <a:ext cx="308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4]TI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265400" y="6232680"/>
            <a:ext cx="68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[6] USE PX TI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/D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549960" y="627048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N/OF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83280" y="6270480"/>
            <a:ext cx="42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IN AT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880" y="1447920"/>
            <a:ext cx="4400640" cy="499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236600" y="1447920"/>
            <a:ext cx="0" cy="498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122560" y="1447920"/>
            <a:ext cx="4680" cy="498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209760" y="1442880"/>
            <a:ext cx="0" cy="500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186080" y="1447920"/>
            <a:ext cx="6480" cy="499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71520" y="16477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80880" y="5105520"/>
            <a:ext cx="439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80880" y="5299200"/>
            <a:ext cx="439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233360" y="4952880"/>
            <a:ext cx="354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880" y="4753080"/>
            <a:ext cx="44071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127240" y="461628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127240" y="442584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127240" y="425448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27240" y="404496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127240" y="384192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27240" y="363204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127240" y="342252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127240" y="322596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127240" y="302904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20760" y="287028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120760" y="271152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120760" y="256536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120760" y="236232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20760" y="220968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27240" y="200016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27240" y="1866960"/>
            <a:ext cx="266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233360" y="5491080"/>
            <a:ext cx="354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231920" y="5662440"/>
            <a:ext cx="354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231920" y="5886360"/>
            <a:ext cx="354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231920" y="6048360"/>
            <a:ext cx="354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31920" y="6205680"/>
            <a:ext cx="354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239840" y="3029040"/>
            <a:ext cx="8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381600" y="793800"/>
            <a:ext cx="2757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endant Programming Menu Tabl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Cont'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41360" y="114300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1360" y="114300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281240" y="114300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441360" y="1139760"/>
            <a:ext cx="4360680" cy="3737160"/>
            <a:chOff x="441360" y="1139760"/>
            <a:chExt cx="4360680" cy="3737160"/>
          </a:xfrm>
        </p:grpSpPr>
        <p:sp>
          <p:nvSpPr>
            <p:cNvPr id="828" name=""/>
            <p:cNvSpPr/>
            <p:nvPr/>
          </p:nvSpPr>
          <p:spPr>
            <a:xfrm>
              <a:off x="452520" y="1147680"/>
              <a:ext cx="4349520" cy="2145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41360" y="1143000"/>
              <a:ext cx="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41360" y="1143000"/>
              <a:ext cx="43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282680" y="1143000"/>
              <a:ext cx="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257560" y="1143000"/>
              <a:ext cx="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95800" y="1143000"/>
              <a:ext cx="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200480" y="1143000"/>
              <a:ext cx="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00600" y="1143000"/>
              <a:ext cx="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1360" y="4871880"/>
              <a:ext cx="43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41360" y="1346040"/>
              <a:ext cx="43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282680" y="1542960"/>
              <a:ext cx="35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82680" y="1743120"/>
              <a:ext cx="35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82680" y="1943280"/>
              <a:ext cx="35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282680" y="2085840"/>
              <a:ext cx="35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41360" y="2284560"/>
              <a:ext cx="43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71600" y="1144440"/>
              <a:ext cx="74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10000"/>
                  </a:solidFill>
                  <a:latin typeface="Arial"/>
                </a:rPr>
                <a:t>Attendant Mai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10000"/>
                  </a:solidFill>
                  <a:latin typeface="Arial"/>
                </a:rPr>
                <a:t>MEN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570680" y="1144440"/>
              <a:ext cx="522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10000"/>
                  </a:solidFill>
                  <a:latin typeface="Arial"/>
                </a:rPr>
                <a:t>Attenda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10000"/>
                  </a:solidFill>
                  <a:latin typeface="Arial"/>
                </a:rPr>
                <a:t>Sub Menu - 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62040" y="11397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10000"/>
                  </a:solidFill>
                  <a:latin typeface="Arial"/>
                </a:rPr>
                <a:t>Attenda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10000"/>
                  </a:solidFill>
                  <a:latin typeface="Arial"/>
                </a:rPr>
                <a:t>Sub Menu - I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558240" y="1192320"/>
              <a:ext cx="39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10000"/>
                  </a:solidFill>
                  <a:latin typeface="Arial"/>
                </a:rPr>
                <a:t>Selec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344840" y="1192320"/>
              <a:ext cx="32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10000"/>
                  </a:solidFill>
                  <a:latin typeface="Arial"/>
                </a:rPr>
                <a:t>Remar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331280" y="1349280"/>
              <a:ext cx="875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1] PRESELECT MS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459800" y="1446120"/>
              <a:ext cx="17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AC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327120" y="1344600"/>
              <a:ext cx="822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STN# (+ END STN#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330360" y="1441440"/>
              <a:ext cx="633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+ MSG #(00-10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251240" y="1344600"/>
              <a:ext cx="32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MAIN 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249800" y="1441440"/>
              <a:ext cx="52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GROUP AT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331280" y="1547640"/>
              <a:ext cx="875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2] PRESELECT MS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459440" y="1644480"/>
              <a:ext cx="30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DEAC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327120" y="1596960"/>
              <a:ext cx="822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STN# (+ END STN#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251240" y="1547640"/>
              <a:ext cx="32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MAIN 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249800" y="1644480"/>
              <a:ext cx="52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GROUP AT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333800" y="1746360"/>
              <a:ext cx="730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3] CUSTOM MS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460520" y="1844640"/>
              <a:ext cx="192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RE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30360" y="1746360"/>
              <a:ext cx="581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MSG # (11-20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327480" y="1844640"/>
              <a:ext cx="671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+ MSG STREA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251240" y="1746360"/>
              <a:ext cx="32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MAIN 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249800" y="1844640"/>
              <a:ext cx="52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GROUP AT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332360" y="1967040"/>
              <a:ext cx="806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4] ERASE VM MS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333600" y="1967040"/>
              <a:ext cx="822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STN# (+ END STN#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58640" y="1768320"/>
              <a:ext cx="58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5] MESSAG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333080" y="2097000"/>
              <a:ext cx="838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5] ATD DEL ALL CL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372320" y="2178000"/>
              <a:ext cx="275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MS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66200" y="2290680"/>
              <a:ext cx="599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6] REC. VMI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91040" y="2387520"/>
              <a:ext cx="758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ANNOUNCEM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328560" y="2340000"/>
              <a:ext cx="848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VMIB ANNC# (01-70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211280" y="2346480"/>
              <a:ext cx="56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SYSTEM AT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324080" y="2489040"/>
              <a:ext cx="482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1] CANC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447920" y="257976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FEAT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327120" y="2538360"/>
              <a:ext cx="822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STN# (+ END STN#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251240" y="2489040"/>
              <a:ext cx="32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MAIN 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249800" y="2587680"/>
              <a:ext cx="52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GROUP AT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319400" y="2689200"/>
              <a:ext cx="762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2] RESISTER S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439640" y="2778120"/>
              <a:ext cx="256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NA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326400" y="2736720"/>
              <a:ext cx="582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STN# + NA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250160" y="2736720"/>
              <a:ext cx="42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MAIN AT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314720" y="2889360"/>
              <a:ext cx="497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3] DISABL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443240" y="2978280"/>
              <a:ext cx="63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CO OUTGO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325680" y="2936880"/>
              <a:ext cx="817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PRESSING CO BT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50160" y="2936880"/>
              <a:ext cx="42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MAIN AT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318680" y="3087720"/>
              <a:ext cx="61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4] AUTO R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445040" y="3176640"/>
              <a:ext cx="266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MO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326040" y="3135240"/>
              <a:ext cx="447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ATD/AU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314000" y="3286080"/>
              <a:ext cx="7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5] ICM BOX BG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326040" y="3286080"/>
              <a:ext cx="723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BGM CHANNEL #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325680" y="3382920"/>
              <a:ext cx="341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(01-12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50160" y="3335400"/>
              <a:ext cx="42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MAIN AT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313280" y="3486240"/>
              <a:ext cx="887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6] EXT PORT#1 BG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440000" y="3583080"/>
              <a:ext cx="23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EN/D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24600" y="3535200"/>
              <a:ext cx="799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ENABLE / DISABL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50160" y="3535200"/>
              <a:ext cx="42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MAIN AT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313280" y="3684600"/>
              <a:ext cx="887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7] EXT PORT#2 BG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440000" y="3782880"/>
              <a:ext cx="23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EN/D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24600" y="3733920"/>
              <a:ext cx="799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ENABLE / DISABL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250160" y="3733920"/>
              <a:ext cx="42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MAIN AT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3280" y="3898800"/>
              <a:ext cx="887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8] EXT PORT#3 BG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358640" y="3979800"/>
              <a:ext cx="309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EN/DI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324600" y="3932280"/>
              <a:ext cx="799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ENABLE / DISABL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250160" y="3932280"/>
              <a:ext cx="42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MAIN AT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310040" y="4122720"/>
              <a:ext cx="758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9] PREPAID CAL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64400" y="33861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7]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61520" y="3484440"/>
              <a:ext cx="784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SUPPLEMENTAR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310040" y="4262400"/>
              <a:ext cx="685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*] LCD DISPL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373760" y="4344840"/>
              <a:ext cx="54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  </a:t>
              </a: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LANGUAG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64040" y="4467240"/>
              <a:ext cx="42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*] BOAR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62600" y="4564080"/>
              <a:ext cx="764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SERVICE SWITC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325680" y="4467240"/>
              <a:ext cx="639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SLOT NUMB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28560" y="4564080"/>
              <a:ext cx="351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(01 – 27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64760" y="4672080"/>
              <a:ext cx="387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[#] WHT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61160" y="4768920"/>
              <a:ext cx="51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SUBSCRIB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27840" y="4729320"/>
              <a:ext cx="686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FLEX 1 – FLEX 9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428840" y="3381480"/>
              <a:ext cx="32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10000"/>
                  </a:solidFill>
                  <a:latin typeface="Arial"/>
                </a:rPr>
                <a:t>CH S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41360" y="2484360"/>
              <a:ext cx="43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282680" y="2685960"/>
              <a:ext cx="35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282680" y="2886120"/>
              <a:ext cx="35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282680" y="3081240"/>
              <a:ext cx="35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282680" y="3279600"/>
              <a:ext cx="35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282680" y="3486240"/>
              <a:ext cx="35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282680" y="3686040"/>
              <a:ext cx="35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282680" y="3881520"/>
              <a:ext cx="35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282680" y="4095720"/>
              <a:ext cx="35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282680" y="4248000"/>
              <a:ext cx="35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41360" y="4454640"/>
              <a:ext cx="43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41360" y="4672080"/>
              <a:ext cx="43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4876920" y="1905120"/>
            <a:ext cx="457200" cy="2057400"/>
            <a:chOff x="4876920" y="1905120"/>
            <a:chExt cx="457200" cy="2057400"/>
          </a:xfrm>
        </p:grpSpPr>
        <p:sp>
          <p:nvSpPr>
            <p:cNvPr id="932" name=""/>
            <p:cNvSpPr/>
            <p:nvPr/>
          </p:nvSpPr>
          <p:spPr>
            <a:xfrm>
              <a:off x="4917960" y="1905120"/>
              <a:ext cx="416160" cy="2012760"/>
            </a:xfrm>
            <a:custGeom>
              <a:avLst/>
              <a:gdLst>
                <a:gd name="textAreaLeft" fmla="*/ 20160 w 416160"/>
                <a:gd name="textAreaRight" fmla="*/ 396000 w 416160"/>
                <a:gd name="textAreaTop" fmla="*/ 20160 h 2012760"/>
                <a:gd name="textAreaBottom" fmla="*/ 1992600 h 2012760"/>
              </a:gdLst>
              <a:ahLst/>
              <a:rect l="textAreaLeft" t="textAreaTop" r="textAreaRight" b="textAreaBottom"/>
              <a:pathLst>
                <a:path w="21600" h="104397">
                  <a:moveTo>
                    <a:pt x="3600" y="0"/>
                  </a:moveTo>
                  <a:arcTo wR="3600" hR="3600" stAng="16200000" swAng="-5400000"/>
                  <a:lnTo>
                    <a:pt x="0" y="100797"/>
                  </a:lnTo>
                  <a:arcTo wR="3600" hR="3600" stAng="10800000" swAng="-5400000"/>
                  <a:lnTo>
                    <a:pt x="18000" y="1043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876920" y="2219400"/>
              <a:ext cx="35064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</a:rPr>
                <a:t>Attendant Ope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160" y="793800"/>
            <a:ext cx="125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tem Gree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1080" y="3362400"/>
            <a:ext cx="3871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#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o record with DKTU) button or * (to record with external MOH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 after hearing the mess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rd your greeting and hang up to finish the recording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delete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W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while the message is play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3800" y="1461960"/>
            <a:ext cx="0" cy="5989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1680" y="12891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13000" y="12891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2600" y="1033560"/>
            <a:ext cx="427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provides announcements for Hunt service (UCD/Circular/Terminal) or DISA and only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 attendant can record this messag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8680" y="3863880"/>
            <a:ext cx="10429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GDK-16/20W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82520" y="4033800"/>
            <a:ext cx="3733920" cy="34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nnouncement typ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1: System Greeting,  2: System Promp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announcement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source number (1: external MOH,  2: DKTU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to start record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 have 19 System Greetings and 9 Prompts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System Greetings (Announcement Type 1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: Day Time System Greet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: Night Time System Greet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 : Circular &amp; Terminal Hunt Group Greet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 : 1st UCD Group Announc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 : 2nd UCD Group Announc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 : Ring Group Announcement (GDK-16: version 4.0XX, 20W: version 3.0XX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7 : DVIB MOH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8 : SLT Message Waiting Indication Announc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GDK-16: version 4.0XX, 20W: version 3.0XX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 : Off-Net Forward Announcement (GDK-16: version 4.0XX, 20W: version 3.0XX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 : Group Overflow Announcement (GDK-16: version 4.0XX, 20W: version 3.0XX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1-19: CCR Announcement (GDK-16: version 4.0XX, 20W: version 3.0XX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System Prompts (Announcement Type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: Timeout Prompt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 : No Answer Prom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: Retry Prompt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7 : Transfer to Attendant Prom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 : Busy Prompt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8 : Authorization Code Prom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 : DND Prompt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 : Record Start Prom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 : Invalid Prom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delete announcement, dial the announcement number and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20221" r="0" b="14154"/>
          <a:stretch/>
        </p:blipFill>
        <p:spPr>
          <a:xfrm>
            <a:off x="496800" y="4097160"/>
            <a:ext cx="428760" cy="206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27040" y="4819680"/>
            <a:ext cx="324000" cy="324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1455840"/>
            <a:ext cx="442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1760" y="4054320"/>
            <a:ext cx="4329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81080" y="1441440"/>
            <a:ext cx="387180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DVU, dial 0 1 for announcement 1, dial 0 2 for announcement 2, or 0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announcement 3. (Announcement 3 is played back when the called part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busy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DVU, you have 31 (01~31) system greetings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~9 : for Hunt or company information with DIS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 : for Invalid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1 : for Time-out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2 : for Try again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3 : for Transfer to attendant messag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4 : for Leave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5 : for Record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 : for Enter authorization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7 : for MOH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8 : for Busy mess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 : for STA off-net announcement messag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rcRect l="0" t="14154" r="0" b="0"/>
          <a:stretch/>
        </p:blipFill>
        <p:spPr>
          <a:xfrm>
            <a:off x="496800" y="1495440"/>
            <a:ext cx="428760" cy="2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76480" y="2581200"/>
            <a:ext cx="3601800" cy="1760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3400" y="793800"/>
            <a:ext cx="2906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tem Greeting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LDK-300/300E/100/24/20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Cont'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81080" y="1434960"/>
            <a:ext cx="3871800" cy="29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  <a:ea typeface="돋움"/>
              </a:rPr>
              <a:t>To record system greeting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0 6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the announcement number (001~100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# button to record” is heard. Then press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 to start record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Record your greeting and 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 to finish the recording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To delete, 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 while the message is play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The System Prompt messages are 071~100 as defaul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71: VMIB MOH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86: Reserv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72: Reserved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87: Reserv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73: Invalid Number Prompt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88: Remote VMIB Control Main Menu Prom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74: Time out Prompt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89: Remote VMIB Sub-menu for digit 1 i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75: Retry Prompt                                           Main Menu Prom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76: Transfer to Attendant Prompt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90: Reserv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77: Reserved   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91: Reserv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78: Leave Message Prompt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92: Reserv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79: Record Start Prompt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93: Remote VMIB Sub-menu for digit 2 i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80: Authorization Code Prompt                     Main Menu Prom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81: Busy Prompt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94: Remote VMIB Sub-menu for digit 3 i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82: Reserved                                                Main Menu Prom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83: Station Off-net Forward Prompt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95: Remote VMIB Sub-menu for digit * i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84: DND Prompt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Main Menu Prom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85: No Answer Prompt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96: Leave Message after Tone Prom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0280"/>
                <a:tab algn="l" pos="190512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097~100: Reserv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3800" y="1195560"/>
            <a:ext cx="0" cy="3233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1680" y="10350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13000" y="10350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6800" y="1469880"/>
            <a:ext cx="428760" cy="314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03200" y="120168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3760" y="49928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43040" y="499428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3800" y="5159520"/>
            <a:ext cx="0" cy="2192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0040" y="4802040"/>
            <a:ext cx="4374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the attendant to set the Time/Date without entering Admin Programming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5168880"/>
            <a:ext cx="3646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# 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Enter Date + Time. Enter as YYMMDDHHm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(YY= Year 00~99, MM= Month 01~12, DD= Date 01~31, HH= Hour 00~23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mm= minute 00~5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If there is no need to change date or time, press *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(YYMMDD + * or * + HH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720" y="6272280"/>
            <a:ext cx="3792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GDK-16/20W , LDK-300/300E/100/24/20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9800" y="6456240"/>
            <a:ext cx="43293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53360" y="6458040"/>
            <a:ext cx="377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100/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24/20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: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4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Date as MMDDYY (6 digits)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ime as military format (4 digits)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there is no need to change date or time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to go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next ste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88880" y="5135400"/>
            <a:ext cx="428760" cy="314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14440" y="5952960"/>
            <a:ext cx="323640" cy="324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85920" y="5165640"/>
            <a:ext cx="441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4572000"/>
            <a:ext cx="4419720" cy="241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400" y="4572000"/>
            <a:ext cx="1385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endant Clock 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14440" y="2028960"/>
            <a:ext cx="323640" cy="323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28680" y="1251000"/>
            <a:ext cx="203364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1760" y="1441440"/>
            <a:ext cx="439884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7960" y="1905120"/>
            <a:ext cx="416160" cy="2012760"/>
          </a:xfrm>
          <a:custGeom>
            <a:avLst/>
            <a:gdLst>
              <a:gd name="textAreaLeft" fmla="*/ 20160 w 416160"/>
              <a:gd name="textAreaRight" fmla="*/ 396000 w 416160"/>
              <a:gd name="textAreaTop" fmla="*/ 20160 h 2012760"/>
              <a:gd name="textAreaBottom" fmla="*/ 1992600 h 2012760"/>
            </a:gdLst>
            <a:ahLst/>
            <a:rect l="textAreaLeft" t="textAreaTop" r="textAreaRight" b="textAreaBottom"/>
            <a:pathLst>
              <a:path w="21600" h="104397">
                <a:moveTo>
                  <a:pt x="3600" y="0"/>
                </a:moveTo>
                <a:arcTo wR="3600" hR="3600" stAng="16200000" swAng="-5400000"/>
                <a:lnTo>
                  <a:pt x="0" y="100797"/>
                </a:lnTo>
                <a:arcTo wR="3600" hR="3600" stAng="10800000" swAng="-5400000"/>
                <a:lnTo>
                  <a:pt x="18000" y="104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2219400"/>
            <a:ext cx="35064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Attendant Ope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88160" y="10350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1187280"/>
            <a:ext cx="0" cy="5823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04880" y="103824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87560" y="1231920"/>
            <a:ext cx="364176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change the date format on the LC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 5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4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format toggles between DDMMYY and MMDDYY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YY : year, MM : month, DD : d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941480"/>
            <a:ext cx="32814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 using display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1720" y="2125800"/>
            <a:ext cx="365760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display, you'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3840" y="119556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9800" y="2125800"/>
            <a:ext cx="43293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8520" y="781200"/>
            <a:ext cx="187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ging Time/Date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166760" y="2573280"/>
            <a:ext cx="1246320" cy="815400"/>
            <a:chOff x="1166760" y="2573280"/>
            <a:chExt cx="1246320" cy="815400"/>
          </a:xfrm>
        </p:grpSpPr>
        <p:sp>
          <p:nvSpPr>
            <p:cNvPr id="162" name=""/>
            <p:cNvSpPr/>
            <p:nvPr/>
          </p:nvSpPr>
          <p:spPr>
            <a:xfrm>
              <a:off x="1357200" y="2573280"/>
              <a:ext cx="870120" cy="78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90960" y="2597040"/>
              <a:ext cx="98856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WAKE-UP S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WAKE-UP ERAS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PASSWORD ERAS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CHG DATE MO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CHG TIME MOD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59000" y="313992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52160" y="312912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66760" y="260496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75040" y="321948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95640" y="260496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84480" y="311292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054080" y="3387600"/>
            <a:ext cx="27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CHG DATE MODE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format toggles between DDMMYY and MMDDYY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YY : year, MM : month, DD : d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8880" y="127152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80880" y="3886200"/>
            <a:ext cx="3657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1600" y="4070520"/>
            <a:ext cx="4329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4080" y="6353280"/>
            <a:ext cx="27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LCD DATE MODE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format toggles between DDMMYY and MMDDYY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YY : year, MM : month, DD : d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062240"/>
            <a:ext cx="3657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display, you'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162080" y="4403880"/>
            <a:ext cx="1220760" cy="815040"/>
            <a:chOff x="1162080" y="4403880"/>
            <a:chExt cx="1220760" cy="815040"/>
          </a:xfrm>
        </p:grpSpPr>
        <p:sp>
          <p:nvSpPr>
            <p:cNvPr id="177" name=""/>
            <p:cNvSpPr/>
            <p:nvPr/>
          </p:nvSpPr>
          <p:spPr>
            <a:xfrm>
              <a:off x="1352520" y="4403880"/>
              <a:ext cx="851040" cy="78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76200" y="4427640"/>
              <a:ext cx="9198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TD PROGRA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TION PROGRA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CD BRIGHTNES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ING VOLU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PEAKER VOLU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53960" y="4970520"/>
              <a:ext cx="84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47480" y="495936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62080" y="443556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70360" y="504972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65400" y="443556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54240" y="494352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066680" y="5238720"/>
            <a:ext cx="37339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 an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key 4 time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display, you'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162080" y="5560920"/>
            <a:ext cx="1227240" cy="815400"/>
            <a:chOff x="1162080" y="5560920"/>
            <a:chExt cx="1227240" cy="815400"/>
          </a:xfrm>
        </p:grpSpPr>
        <p:sp>
          <p:nvSpPr>
            <p:cNvPr id="187" name=""/>
            <p:cNvSpPr/>
            <p:nvPr/>
          </p:nvSpPr>
          <p:spPr>
            <a:xfrm>
              <a:off x="1352520" y="5560920"/>
              <a:ext cx="851040" cy="78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53240" y="5584680"/>
              <a:ext cx="7686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CHNG DATE/TIM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SET WAKE U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DISBL WAKE UP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LCD DATE MO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&gt;LCD TIME MOD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53960" y="6127920"/>
              <a:ext cx="84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47480" y="611676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62080" y="559260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70360" y="620712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71880" y="559260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60720" y="610092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88160" y="10191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1177920"/>
            <a:ext cx="0" cy="23479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04880" y="102240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81080" y="1173240"/>
            <a:ext cx="364176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change the time format on the LC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 6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/100/24/20: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 4 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format toggles between 12-hour mode and 24-hour mod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YY : year, MM : month, DD : dat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3840" y="117936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400" y="785880"/>
            <a:ext cx="2302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ging Time/Date Format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6800" y="123192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071720" y="2036880"/>
            <a:ext cx="3657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 key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1280" y="2287440"/>
            <a:ext cx="2592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CHG TIME MODE key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format toggles between 12 and 24-hour m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852560"/>
            <a:ext cx="3792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 using display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9800" y="2036880"/>
            <a:ext cx="43293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3800" y="2798640"/>
            <a:ext cx="3657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5th menu key from the main menu to select PROGRA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ATD PROGRAM key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own(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key 4 times.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53360" y="3049560"/>
            <a:ext cx="2592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he LCD TIME MODE key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format toggles between 12 and 24-hour m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2960" y="2614680"/>
            <a:ext cx="379260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 LDK-300/300E/100/24/20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880" y="2798640"/>
            <a:ext cx="432936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3811680"/>
            <a:ext cx="4419720" cy="241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8880" y="3809880"/>
            <a:ext cx="35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Set Current Time 1 Hour Early/La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nly in GDK-16/20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3760" y="40561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43040" y="405756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3800" y="4222800"/>
            <a:ext cx="0" cy="1166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0200" y="4232160"/>
            <a:ext cx="20041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et the current time 1 hour early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＊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et the current time 1 hour lat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</a:rPr>
              <a:t>＊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42292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88880" y="429264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917960" y="1905120"/>
            <a:ext cx="416160" cy="2012760"/>
          </a:xfrm>
          <a:custGeom>
            <a:avLst/>
            <a:gdLst>
              <a:gd name="textAreaLeft" fmla="*/ 20160 w 416160"/>
              <a:gd name="textAreaRight" fmla="*/ 396000 w 416160"/>
              <a:gd name="textAreaTop" fmla="*/ 20160 h 2012760"/>
              <a:gd name="textAreaBottom" fmla="*/ 1992600 h 2012760"/>
            </a:gdLst>
            <a:ahLst/>
            <a:rect l="textAreaLeft" t="textAreaTop" r="textAreaRight" b="textAreaBottom"/>
            <a:pathLst>
              <a:path w="21600" h="104397">
                <a:moveTo>
                  <a:pt x="3600" y="0"/>
                </a:moveTo>
                <a:arcTo wR="3600" hR="3600" stAng="16200000" swAng="-5400000"/>
                <a:lnTo>
                  <a:pt x="0" y="100797"/>
                </a:lnTo>
                <a:arcTo wR="3600" hR="3600" stAng="10800000" swAng="-5400000"/>
                <a:lnTo>
                  <a:pt x="18000" y="104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2219400"/>
            <a:ext cx="35064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Attendant Ope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0880" y="4038480"/>
            <a:ext cx="4419720" cy="241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7000" y="13413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49520" y="134460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76400" y="1528920"/>
            <a:ext cx="379404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tore system speed number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peed number bi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phone numbers to be stor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peed number bi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desired outside line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phone numbers to be stor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use system speed number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peed number bi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4760" y="1031760"/>
            <a:ext cx="4453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group of speed dial numbers can be stored within the system for access by allowed sta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numbers provide speedy access to often used outgoing CO dialing number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62160" y="1841400"/>
            <a:ext cx="12812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DK-300 : 2000~49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DK-300E : 2000~69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DK-100/24 : 2000~34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DK-20:2000~24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DK-162 : 200~9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200~3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200~3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/20W : 21~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3800" y="1515960"/>
            <a:ext cx="0" cy="2297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96800" y="171612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rcRect l="0" t="18199" r="0" b="12132"/>
          <a:stretch/>
        </p:blipFill>
        <p:spPr>
          <a:xfrm>
            <a:off x="504720" y="1552680"/>
            <a:ext cx="428760" cy="2188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514440" y="2143080"/>
            <a:ext cx="323640" cy="32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80880" y="150804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6200" y="798480"/>
            <a:ext cx="131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tem Speed D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7080" y="4040280"/>
            <a:ext cx="1351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endant Intru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9600" y="44546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8480" y="4622760"/>
            <a:ext cx="0" cy="2830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06680" y="445788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76400" y="4611600"/>
            <a:ext cx="4016160" cy="28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ssign a flexible key as the Intrusion but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t available in GDK-16/20W)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desired flexible key to be register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ctivate attendant intrusion (LDK-300/300E/100/24/20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GDK-162/100/FPII)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DSS button corresponding to the busy station you wish to call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Busy tone is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ATD INTRUSION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ntrusion warning tone is heard in the busy station, then a 3-w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erence is set up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ctivate attendant intrusion (GDK-16/20W)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CO button you wish to conver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f intrusion is allowed by Admin program, then 3 way conversation is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. If intrusion is not allowed, busy tone will be heard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 Base Program (Main Menu 5) - System Attribute (Sub Menu 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Privacy (Terminal Menu 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1520" y="427212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ndant may intrude into any station which is in conversation with a CO lin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462132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514440" y="524844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488880" y="4854600"/>
            <a:ext cx="42876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72240" y="793800"/>
            <a:ext cx="3573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y/On-demand/Night Mode Service (Manual/Automati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76400" y="2021040"/>
            <a:ext cx="379404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ctivate/deactivate Day/Night/On-demand mode manually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W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at attendant stati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n,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W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 is flashing. (The system is placed into On-de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pressing the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one more, then the system is placed into Nigh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e m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demand mode is not activated automatical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7000" y="18144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19280" y="18144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9810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76400" y="3016080"/>
            <a:ext cx="3809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</a:rPr>
              <a:t>To change Day/Night mode automatically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# 9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Enter DAY TIME + NIGHT TIME, or DAY TIME + * or  * + NIGHT TIME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(Enter as HHmm (HH= hour 00~23, mm= minute 00~59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r>
              <a:rPr b="0" lang="ko-KR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5240" y="1974960"/>
            <a:ext cx="0" cy="2004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2240" y="1035000"/>
            <a:ext cx="4348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attendant station can be placed into night service mode allowing ring assignments 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swering privileges to station not having the privileges in the day mode. Or, can be pla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o on-demand service mode allowing ring assignments and answering privileges to st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having the privileges in the night m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n GDK-16, only Day/Night mode change is available by pressing DND button at attendan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tion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14440" y="362124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12640" y="207180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488880" y="307656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076400" y="5235480"/>
            <a:ext cx="3794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ctivate/deactivate Day/Night/On-demand/Weekend/Auto mode manually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ing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W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, the ring mode is changed 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n-demand </a:t>
            </a:r>
            <a:r>
              <a:rPr b="1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Night </a:t>
            </a:r>
            <a:r>
              <a:rPr b="1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Weekend </a:t>
            </a:r>
            <a:r>
              <a:rPr b="1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to </a:t>
            </a:r>
            <a:r>
              <a:rPr b="1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Da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mode in sequen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-demand mode is not activated automatical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7000" y="50292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9280" y="50292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4120" y="51958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76400" y="6019920"/>
            <a:ext cx="3809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ctivate Auto ring mode with Attendant PGM mod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 7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he Weekly Time Table should be entered by Admin Programming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65240" y="5202360"/>
            <a:ext cx="0" cy="17319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" y="4586400"/>
            <a:ext cx="44881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ystem can be placed in Day/On-demand/Night/Weekend/Auto mode operation manu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y pressing [DND/FWD] button at attendant station. In Auto ring mode, the ring mode will fol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Weekly Time Table (PGM 233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3840" y="434340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y/On-demand/Night/Weekend Mode Service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LDK-300/300E/100/24/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514440" y="64008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512640" y="541008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6"/>
          <a:stretch/>
        </p:blipFill>
        <p:spPr>
          <a:xfrm>
            <a:off x="488880" y="608004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917960" y="1905120"/>
            <a:ext cx="416160" cy="2012760"/>
          </a:xfrm>
          <a:custGeom>
            <a:avLst/>
            <a:gdLst>
              <a:gd name="textAreaLeft" fmla="*/ 20160 w 416160"/>
              <a:gd name="textAreaRight" fmla="*/ 396000 w 416160"/>
              <a:gd name="textAreaTop" fmla="*/ 20160 h 2012760"/>
              <a:gd name="textAreaBottom" fmla="*/ 1992600 h 2012760"/>
            </a:gdLst>
            <a:ahLst/>
            <a:rect l="textAreaLeft" t="textAreaTop" r="textAreaRight" b="textAreaBottom"/>
            <a:pathLst>
              <a:path w="21600" h="104397">
                <a:moveTo>
                  <a:pt x="3600" y="0"/>
                </a:moveTo>
                <a:arcTo wR="3600" hR="3600" stAng="16200000" swAng="-5400000"/>
                <a:lnTo>
                  <a:pt x="0" y="100797"/>
                </a:lnTo>
                <a:arcTo wR="3600" hR="3600" stAng="10800000" swAng="-5400000"/>
                <a:lnTo>
                  <a:pt x="18000" y="104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76920" y="2219400"/>
            <a:ext cx="35064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Attendant Ope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076400" y="1806480"/>
            <a:ext cx="37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ctivate/deactivate Day/Night/Auto Ring mode manually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ing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W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, the ring mode is changed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ght </a:t>
            </a:r>
            <a:r>
              <a:rPr b="1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Auto Ring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mode in sequen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920" y="16002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40080" y="16002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1520" y="17668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76400" y="2292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ctivate Auto ring mode with Attendant PGM mod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Weekly Time Table should be entered by Admin Programm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5240" y="1773360"/>
            <a:ext cx="0" cy="9889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3600" y="1041480"/>
            <a:ext cx="44877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The system can be placed in Day/Night/Auto Ring mode operation manually by press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[DND/FWD] button at attendant station. In Auto ring mode, the ring mode will follow the Weekl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Time Table in Admin Programming(Main 5- Sub21 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Auto Ring mode is available for ver 4.0XX(GDK-16) and 3.0XX(GDK-20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83808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y/Night/Auto Ring Mode Service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GDK-16/20W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00040" y="1828800"/>
            <a:ext cx="378000" cy="378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081080" y="4849920"/>
            <a:ext cx="3657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the 4th menu key from the main menu to select FEATURE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display, you will see the follow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144440" y="5178600"/>
            <a:ext cx="1220760" cy="815040"/>
            <a:chOff x="1144440" y="5178600"/>
            <a:chExt cx="1220760" cy="815040"/>
          </a:xfrm>
        </p:grpSpPr>
        <p:sp>
          <p:nvSpPr>
            <p:cNvPr id="276" name=""/>
            <p:cNvSpPr/>
            <p:nvPr/>
          </p:nvSpPr>
          <p:spPr>
            <a:xfrm>
              <a:off x="1334880" y="5178600"/>
              <a:ext cx="851040" cy="786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59280" y="5202000"/>
              <a:ext cx="83592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T PAGE (01-20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T ALL CAL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XT ALL CAL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T/EXT ALL CAL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EET ME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36680" y="574524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29840" y="573408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44440" y="520992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52720" y="582444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47760" y="520992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36600" y="571824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1066680" y="3654360"/>
            <a:ext cx="0" cy="3714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0000" y="35067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1320" y="35067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1520" y="365904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144440" y="6153120"/>
            <a:ext cx="1220760" cy="815040"/>
            <a:chOff x="1144440" y="6153120"/>
            <a:chExt cx="1220760" cy="815040"/>
          </a:xfrm>
        </p:grpSpPr>
        <p:sp>
          <p:nvSpPr>
            <p:cNvPr id="289" name=""/>
            <p:cNvSpPr/>
            <p:nvPr/>
          </p:nvSpPr>
          <p:spPr>
            <a:xfrm>
              <a:off x="1334880" y="6153120"/>
              <a:ext cx="851040" cy="78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59640" y="6176880"/>
              <a:ext cx="93672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PRT SM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 GRD PRT SM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DEL SMD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 GRP DEL SM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ISP CALL CHARG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36680" y="6719760"/>
              <a:ext cx="84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29840" y="6708600"/>
              <a:ext cx="80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 102  (T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OV 02    01:40p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44440" y="618480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52720" y="6799320"/>
              <a:ext cx="2250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▣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47760" y="6184800"/>
              <a:ext cx="18720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36600" y="6692760"/>
              <a:ext cx="2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돋움"/>
                  <a:ea typeface="돋움"/>
                </a:rPr>
                <a:t>▼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074600" y="6985080"/>
            <a:ext cx="365760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STA PRT SMDR ke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desired station range to be prin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4680000"/>
            <a:ext cx="379224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r using display,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nly in KD-33LD, KD/E-36LD, LKD-30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1800" y="4865760"/>
            <a:ext cx="441324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87560" y="3635280"/>
            <a:ext cx="379404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For station basi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 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DK-300/300E100/24/20: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0111, </a:t>
            </a:r>
            <a:br>
              <a:rPr sz="800"/>
            </a:b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DK-16/20W: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TRANS/PGM + * 8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desired station rang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umulated SMDR records will be printed out through the print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ed to KSU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88880" y="4016520"/>
            <a:ext cx="324000" cy="3236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488880" y="7143840"/>
            <a:ext cx="324000" cy="3236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3708360" y="365436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GDK 16:  Above V4.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0W    : Above V3.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2960" y="3216240"/>
            <a:ext cx="4808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tion Message Detail Recording(SMDR) can provide details on both incoming and outgo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ls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3840" y="298440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Print out Accumulated SMDR Reco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2T07:37:16Z</dcterms:created>
  <dc:creator>황재희</dc:creator>
  <dc:description/>
  <dc:language>en-US</dc:language>
  <cp:lastModifiedBy>manual_temp</cp:lastModifiedBy>
  <cp:lastPrinted>2001-04-24T00:46:31Z</cp:lastPrinted>
  <dcterms:modified xsi:type="dcterms:W3CDTF">2004-11-01T05:29:01Z</dcterms:modified>
  <cp:revision>188</cp:revision>
  <dc:subject/>
  <dc:title>ATD Operation</dc:title>
</cp:coreProperties>
</file>