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wmf" ContentType="image/x-wmf"/>
  <Override PartName="/ppt/media/image4.jpeg" ContentType="image/jpeg"/>
  <Override PartName="/ppt/media/image5.jpeg" ContentType="image/jpeg"/>
  <Override PartName="/ppt/media/image6.jpeg" ContentType="image/jpe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5335588" cy="8002588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66760" y="318960"/>
            <a:ext cx="480132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66760" y="1872360"/>
            <a:ext cx="48013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66760" y="4296600"/>
            <a:ext cx="48013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66760" y="318960"/>
            <a:ext cx="480132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66760" y="1872360"/>
            <a:ext cx="234288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727000" y="1872360"/>
            <a:ext cx="234288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66760" y="4296600"/>
            <a:ext cx="234288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2727000" y="4296600"/>
            <a:ext cx="234288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66760" y="318960"/>
            <a:ext cx="480132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66760" y="1872360"/>
            <a:ext cx="154584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890360" y="1872360"/>
            <a:ext cx="154584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513960" y="1872360"/>
            <a:ext cx="154584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266760" y="4296600"/>
            <a:ext cx="154584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1890360" y="4296600"/>
            <a:ext cx="154584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3513960" y="4296600"/>
            <a:ext cx="154584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66760" y="318960"/>
            <a:ext cx="480132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266760" y="1872360"/>
            <a:ext cx="4801320" cy="46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66760" y="318960"/>
            <a:ext cx="480132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266760" y="1872360"/>
            <a:ext cx="4801320" cy="46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66760" y="318960"/>
            <a:ext cx="480132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6760" y="1872360"/>
            <a:ext cx="2342880" cy="46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2727000" y="1872360"/>
            <a:ext cx="2342880" cy="46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66760" y="318960"/>
            <a:ext cx="480132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266760" y="318960"/>
            <a:ext cx="4801320" cy="61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66760" y="318960"/>
            <a:ext cx="480132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66760" y="1872360"/>
            <a:ext cx="234288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2727000" y="1872360"/>
            <a:ext cx="2342880" cy="46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266760" y="4296600"/>
            <a:ext cx="234288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66760" y="318960"/>
            <a:ext cx="480132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66760" y="1872360"/>
            <a:ext cx="2342880" cy="46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727000" y="1872360"/>
            <a:ext cx="234288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2727000" y="4296600"/>
            <a:ext cx="234288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66760" y="318960"/>
            <a:ext cx="480132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66760" y="1872360"/>
            <a:ext cx="234288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727000" y="1872360"/>
            <a:ext cx="234288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66760" y="4296600"/>
            <a:ext cx="48013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90520" y="619200"/>
            <a:ext cx="48150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700" spc="-1" strike="noStrike">
                <a:solidFill>
                  <a:srgbClr val="969696"/>
                </a:solidFill>
                <a:latin typeface="돋움"/>
                <a:ea typeface="돋움"/>
              </a:rPr>
              <a:t>●</a:t>
            </a: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DIGITAL KEY TELEPHONE / LDK HOTEL OPERATION                                          KD, KD/E, LKD Seri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380880" y="800280"/>
            <a:ext cx="4419720" cy="237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344680" y="7446960"/>
            <a:ext cx="6447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AEE58943-3AAC-4492-9114-D6FEE708B67F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package" Target="../embeddings/oleObject1.docx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4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1.jpe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image" Target="../media/image1.jpeg"/><Relationship Id="rId4" Type="http://schemas.openxmlformats.org/officeDocument/2006/relationships/image" Target="../media/image4.jpeg"/><Relationship Id="rId5" Type="http://schemas.openxmlformats.org/officeDocument/2006/relationships/image" Target="../media/image1.jpeg"/><Relationship Id="rId6" Type="http://schemas.openxmlformats.org/officeDocument/2006/relationships/image" Target="../media/image4.jpeg"/><Relationship Id="rId7" Type="http://schemas.openxmlformats.org/officeDocument/2006/relationships/image" Target="../media/image1.jpeg"/><Relationship Id="rId8" Type="http://schemas.openxmlformats.org/officeDocument/2006/relationships/image" Target="../media/image2.jpeg"/><Relationship Id="rId9" Type="http://schemas.openxmlformats.org/officeDocument/2006/relationships/image" Target="../media/image2.jpeg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jpeg"/><Relationship Id="rId3" Type="http://schemas.openxmlformats.org/officeDocument/2006/relationships/image" Target="../media/image4.jpeg"/><Relationship Id="rId4" Type="http://schemas.openxmlformats.org/officeDocument/2006/relationships/image" Target="../media/image1.jpeg"/><Relationship Id="rId5" Type="http://schemas.openxmlformats.org/officeDocument/2006/relationships/image" Target="../media/image4.jpeg"/><Relationship Id="rId6" Type="http://schemas.openxmlformats.org/officeDocument/2006/relationships/image" Target="../media/image1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image" Target="../media/image2.jpe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jpeg"/><Relationship Id="rId3" Type="http://schemas.openxmlformats.org/officeDocument/2006/relationships/image" Target="../media/image4.jpeg"/><Relationship Id="rId4" Type="http://schemas.openxmlformats.org/officeDocument/2006/relationships/image" Target="../media/image1.jpeg"/><Relationship Id="rId5" Type="http://schemas.openxmlformats.org/officeDocument/2006/relationships/image" Target="../media/image4.jpeg"/><Relationship Id="rId6" Type="http://schemas.openxmlformats.org/officeDocument/2006/relationships/image" Target="../media/image1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image" Target="../media/image2.jpe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jpeg"/><Relationship Id="rId3" Type="http://schemas.openxmlformats.org/officeDocument/2006/relationships/image" Target="../media/image4.jpeg"/><Relationship Id="rId4" Type="http://schemas.openxmlformats.org/officeDocument/2006/relationships/image" Target="../media/image1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5.jpe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379440" y="793800"/>
            <a:ext cx="9219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1066680" y="3000240"/>
            <a:ext cx="3873600" cy="5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To register hotel name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RANS/PGM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# 9 1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nter the hotel name (up to 24 digits) with the code as below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1066680" y="2987640"/>
            <a:ext cx="0" cy="234648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05440" y="2819520"/>
            <a:ext cx="4078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Butt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35240" y="2819520"/>
            <a:ext cx="6030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rocedur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2986200"/>
            <a:ext cx="4419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084320" y="5083200"/>
            <a:ext cx="3792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OLD/SAV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67560" y="1044720"/>
            <a:ext cx="4515840" cy="10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LDK hotel S/W has a number of features that have been designed specifically for hotel a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ther hospitality applications. The additional features that are available, add value to the servi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ffered to guests and increase the efficiency of staff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is section is aimed at the system manager and anyone else that requires a detailed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scription of the hotel facilities and their operation. These features are additional to the normal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ffice features and refer to the other sections in this user guide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t is available for LDK Hotel S/W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01760" y="2241720"/>
            <a:ext cx="4406760" cy="228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gister Hotel Na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2494080"/>
            <a:ext cx="4394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is feature allows registering or changing the name of hotel. In check-out or displaying roo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arge, the registered hotel name is printed out in the headings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3840" y="5486400"/>
            <a:ext cx="4406760" cy="228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heck-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3760" y="5765760"/>
            <a:ext cx="43916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is feature allows the System Attendant to view the status of a room and check-in a guest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hen checking in a guest without changing the Room Status, the following default values wil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e applied to the room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uest Nam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- Not assign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om Day &amp; Night CO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- 2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ake-Up Tim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- Not assign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tercom Enable/Disabl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- Internal call is not allowed (For Italy, Enabl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om to Room Call Group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- System Attendant assigned no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uthorization Code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- Not register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-paid Call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- 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ll Charge Rat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- System Attendant assigned no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hold" descr=""/>
          <p:cNvPicPr/>
          <p:nvPr/>
        </p:nvPicPr>
        <p:blipFill>
          <a:blip r:embed="rId1"/>
          <a:stretch/>
        </p:blipFill>
        <p:spPr>
          <a:xfrm>
            <a:off x="514440" y="5037120"/>
            <a:ext cx="323640" cy="324000"/>
          </a:xfrm>
          <a:prstGeom prst="rect">
            <a:avLst/>
          </a:prstGeom>
          <a:ln w="0">
            <a:noFill/>
          </a:ln>
        </p:spPr>
      </p:pic>
      <p:pic>
        <p:nvPicPr>
          <p:cNvPr id="52" name="trans" descr=""/>
          <p:cNvPicPr/>
          <p:nvPr/>
        </p:nvPicPr>
        <p:blipFill>
          <a:blip r:embed="rId2"/>
          <a:stretch/>
        </p:blipFill>
        <p:spPr>
          <a:xfrm>
            <a:off x="488880" y="3056040"/>
            <a:ext cx="428760" cy="314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3" name=""/>
          <p:cNvGraphicFramePr/>
          <p:nvPr/>
        </p:nvGraphicFramePr>
        <p:xfrm>
          <a:off x="958680" y="3600360"/>
          <a:ext cx="3117960" cy="15494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58680" y="3600360"/>
                    <a:ext cx="3117960" cy="154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917960" y="4170240"/>
            <a:ext cx="416160" cy="2992680"/>
          </a:xfrm>
          <a:custGeom>
            <a:avLst/>
            <a:gdLst>
              <a:gd name="textAreaLeft" fmla="*/ 20160 w 416160"/>
              <a:gd name="textAreaRight" fmla="*/ 396000 w 416160"/>
              <a:gd name="textAreaTop" fmla="*/ 20160 h 2992680"/>
              <a:gd name="textAreaBottom" fmla="*/ 2972520 h 2992680"/>
            </a:gdLst>
            <a:ahLst/>
            <a:rect l="textAreaLeft" t="textAreaTop" r="textAreaRight" b="textAreaBottom"/>
            <a:pathLst>
              <a:path w="21600" h="155214">
                <a:moveTo>
                  <a:pt x="3600" y="0"/>
                </a:moveTo>
                <a:arcTo wR="3600" hR="3600" stAng="16200000" swAng="-5400000"/>
                <a:lnTo>
                  <a:pt x="0" y="151614"/>
                </a:lnTo>
                <a:arcTo wR="3600" hR="3600" stAng="10800000" swAng="-5400000"/>
                <a:lnTo>
                  <a:pt x="18000" y="15521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870440" y="4883040"/>
            <a:ext cx="347760" cy="17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entury Gothic"/>
              </a:rPr>
              <a:t>Hotel Operation(LDK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397080" y="793800"/>
            <a:ext cx="17038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oom Rate Assign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Cont’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066680" y="1690560"/>
            <a:ext cx="403884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To assign a range of rooms the same room rate,,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RANS/PGM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# 5 2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nter the room rang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nter the room rate bin no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OLD/SAVE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066680" y="1668600"/>
            <a:ext cx="0" cy="99828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05440" y="1500120"/>
            <a:ext cx="4078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Butt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235240" y="1500120"/>
            <a:ext cx="6030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rocedur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80880" y="1666800"/>
            <a:ext cx="4419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96360" y="1066680"/>
            <a:ext cx="4481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is feature allows the system attendant to assign room rate among 20 different ones to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vidual rooms. This information is included in the Total Room Charge Bill which is printed ou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n the SMDR and on check-out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97440" y="3154320"/>
            <a:ext cx="4254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 case a guest checks in and checks out in the same day, part time fee may be charg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ccording to the room type or hotel policy. Each room type may have up to 6 fields for the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fferent part time range and fee.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80880" y="2916360"/>
            <a:ext cx="4407120" cy="228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ee for Part Ti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066680" y="3762360"/>
            <a:ext cx="4038840" cy="11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To register/change fee for part time table at system attendant,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RANS/PGM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# 6 3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fee for part time (00~31)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nter time range. (Press Flex. BTN 1 and dial the time with 4 digits.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nter change rate for the part time. (Press Flex. BTN 2 and dial fixed 3 digi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om 000 to 100.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OLD/SAV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o erase, 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PEE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 instead of dialing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066680" y="3759120"/>
            <a:ext cx="0" cy="134640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05440" y="3591000"/>
            <a:ext cx="4078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Butt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235240" y="3591000"/>
            <a:ext cx="6030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rocedur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80880" y="3757680"/>
            <a:ext cx="4419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066680" y="6265800"/>
            <a:ext cx="4038840" cy="10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To insert Internal Speed Directory at Front Desk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RANS/PGM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0 7 2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nter the station number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nter the nam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OLD/SAV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o delete a name in the internal speed directory, 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OLD/SAV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fter entering station number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066680" y="6253200"/>
            <a:ext cx="0" cy="135576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05440" y="6084720"/>
            <a:ext cx="4078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Butt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235240" y="6084720"/>
            <a:ext cx="6030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rocedur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0880" y="6251400"/>
            <a:ext cx="4419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56040" y="5575320"/>
            <a:ext cx="454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is feature will automatically build an internal directory of registered service stations and gues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aying at the hotel from the name information that is entered when they check-in. Once th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ame has been added to the list, it is possible to choose a name from the list for dialing a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ransferring of calls.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80880" y="5322960"/>
            <a:ext cx="4407120" cy="228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uto Internal Speed Direct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2" name="speed" descr=""/>
          <p:cNvPicPr/>
          <p:nvPr/>
        </p:nvPicPr>
        <p:blipFill>
          <a:blip r:embed="rId1"/>
          <a:stretch/>
        </p:blipFill>
        <p:spPr>
          <a:xfrm>
            <a:off x="480960" y="4756320"/>
            <a:ext cx="378000" cy="377640"/>
          </a:xfrm>
          <a:prstGeom prst="rect">
            <a:avLst/>
          </a:prstGeom>
          <a:ln w="0">
            <a:noFill/>
          </a:ln>
        </p:spPr>
      </p:pic>
      <p:pic>
        <p:nvPicPr>
          <p:cNvPr id="303" name="hold" descr=""/>
          <p:cNvPicPr/>
          <p:nvPr/>
        </p:nvPicPr>
        <p:blipFill>
          <a:blip r:embed="rId2"/>
          <a:stretch/>
        </p:blipFill>
        <p:spPr>
          <a:xfrm>
            <a:off x="525600" y="2290680"/>
            <a:ext cx="323640" cy="324000"/>
          </a:xfrm>
          <a:prstGeom prst="rect">
            <a:avLst/>
          </a:prstGeom>
          <a:ln w="0">
            <a:noFill/>
          </a:ln>
        </p:spPr>
      </p:pic>
      <p:pic>
        <p:nvPicPr>
          <p:cNvPr id="304" name="hold" descr=""/>
          <p:cNvPicPr/>
          <p:nvPr/>
        </p:nvPicPr>
        <p:blipFill>
          <a:blip r:embed="rId3"/>
          <a:stretch/>
        </p:blipFill>
        <p:spPr>
          <a:xfrm>
            <a:off x="517680" y="4524480"/>
            <a:ext cx="323640" cy="323640"/>
          </a:xfrm>
          <a:prstGeom prst="rect">
            <a:avLst/>
          </a:prstGeom>
          <a:ln w="0">
            <a:noFill/>
          </a:ln>
        </p:spPr>
      </p:pic>
      <p:pic>
        <p:nvPicPr>
          <p:cNvPr id="305" name="hold" descr=""/>
          <p:cNvPicPr/>
          <p:nvPr/>
        </p:nvPicPr>
        <p:blipFill>
          <a:blip r:embed="rId4"/>
          <a:stretch/>
        </p:blipFill>
        <p:spPr>
          <a:xfrm>
            <a:off x="517680" y="6865920"/>
            <a:ext cx="323640" cy="324000"/>
          </a:xfrm>
          <a:prstGeom prst="rect">
            <a:avLst/>
          </a:prstGeom>
          <a:ln w="0">
            <a:noFill/>
          </a:ln>
        </p:spPr>
      </p:pic>
      <p:pic>
        <p:nvPicPr>
          <p:cNvPr id="306" name="trans" descr=""/>
          <p:cNvPicPr/>
          <p:nvPr/>
        </p:nvPicPr>
        <p:blipFill>
          <a:blip r:embed="rId5"/>
          <a:stretch/>
        </p:blipFill>
        <p:spPr>
          <a:xfrm>
            <a:off x="488880" y="1765440"/>
            <a:ext cx="428760" cy="314280"/>
          </a:xfrm>
          <a:prstGeom prst="rect">
            <a:avLst/>
          </a:prstGeom>
          <a:ln w="0">
            <a:noFill/>
          </a:ln>
        </p:spPr>
      </p:pic>
      <p:pic>
        <p:nvPicPr>
          <p:cNvPr id="307" name="trans" descr=""/>
          <p:cNvPicPr/>
          <p:nvPr/>
        </p:nvPicPr>
        <p:blipFill>
          <a:blip r:embed="rId6"/>
          <a:stretch/>
        </p:blipFill>
        <p:spPr>
          <a:xfrm>
            <a:off x="488880" y="3833640"/>
            <a:ext cx="428760" cy="314640"/>
          </a:xfrm>
          <a:prstGeom prst="rect">
            <a:avLst/>
          </a:prstGeom>
          <a:ln w="0">
            <a:noFill/>
          </a:ln>
        </p:spPr>
      </p:pic>
      <p:pic>
        <p:nvPicPr>
          <p:cNvPr id="308" name="trans" descr=""/>
          <p:cNvPicPr/>
          <p:nvPr/>
        </p:nvPicPr>
        <p:blipFill>
          <a:blip r:embed="rId7"/>
          <a:stretch/>
        </p:blipFill>
        <p:spPr>
          <a:xfrm>
            <a:off x="488880" y="6323040"/>
            <a:ext cx="428760" cy="314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398160" y="793800"/>
            <a:ext cx="236592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uto Internal Speed Directory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Cont’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066680" y="1757520"/>
            <a:ext cx="4038840" cy="10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To dial by name with Internal Speed Directory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PEE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 twic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for internal speed dial directory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VOLUME [UP/DOWN]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, then the cursor points to the first/second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in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r, dialing a character, the first matched 2 names are displayed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n press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VOLUME [UP/DOWN]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 to find a nam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OLD/SAV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 for dial the nam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05440" y="1576440"/>
            <a:ext cx="4078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Butt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2235240" y="1576440"/>
            <a:ext cx="6030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rocedur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80880" y="1743120"/>
            <a:ext cx="4419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48120" y="1042920"/>
            <a:ext cx="454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is feature will automatically build an internal directory of registered service stations and gues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aying at the hotel from the name information that is entered when they check-in. Once th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ame has been added to the list, it is possible to choose a name from the list for dialing a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ransferring of calls.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401040" y="3494160"/>
            <a:ext cx="4417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in Attendant can manipulate Hotel programming. If one multiple station enters hotel featu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gramming, the others cannot enter the programming mode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nly error tone is heard with ‘Invalid” message.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80880" y="3244680"/>
            <a:ext cx="4407120" cy="228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ultiple Front Des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066680" y="4905360"/>
            <a:ext cx="0" cy="97488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05440" y="4737240"/>
            <a:ext cx="4078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Butt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235240" y="4737240"/>
            <a:ext cx="6030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rocedur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80880" y="4903920"/>
            <a:ext cx="4419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67920" y="4432320"/>
            <a:ext cx="450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is feature allows to temporarily override toll restriction and makes a toll call from toll restrict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hone. It is activated by entering feature code and the password before accessing a CO lin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063800" y="4897440"/>
            <a:ext cx="3108240" cy="8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To activate,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It is available on a guest station or service stati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RANS/PGM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2 3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nter the passwor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OLD/SAV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ccess a CO line and dial tone will be hear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80880" y="4170240"/>
            <a:ext cx="4407120" cy="228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Arial"/>
              </a:rPr>
              <a:t>New Cabina Cal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80880" y="6108840"/>
            <a:ext cx="4407120" cy="228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rief SMDR Pr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066680" y="6673680"/>
            <a:ext cx="0" cy="80676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05440" y="6505560"/>
            <a:ext cx="4078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Butt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235240" y="6505560"/>
            <a:ext cx="6030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rocedur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80880" y="6672240"/>
            <a:ext cx="4419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96360" y="6353280"/>
            <a:ext cx="3841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brief SMDR for room or service station can be printed by Front-desk station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068120" y="6665760"/>
            <a:ext cx="1541880" cy="7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To print SMDR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RANS/PGM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0111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nter the station rang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OLD/SAV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1" name="vol" descr=""/>
          <p:cNvPicPr/>
          <p:nvPr/>
        </p:nvPicPr>
        <p:blipFill>
          <a:blip r:embed="rId1"/>
          <a:stretch/>
        </p:blipFill>
        <p:spPr>
          <a:xfrm>
            <a:off x="372960" y="2165400"/>
            <a:ext cx="719280" cy="179280"/>
          </a:xfrm>
          <a:prstGeom prst="rect">
            <a:avLst/>
          </a:prstGeom>
          <a:ln w="0">
            <a:noFill/>
          </a:ln>
        </p:spPr>
      </p:pic>
      <p:pic>
        <p:nvPicPr>
          <p:cNvPr id="332" name="speed" descr=""/>
          <p:cNvPicPr/>
          <p:nvPr/>
        </p:nvPicPr>
        <p:blipFill>
          <a:blip r:embed="rId2"/>
          <a:stretch/>
        </p:blipFill>
        <p:spPr>
          <a:xfrm>
            <a:off x="504720" y="1784520"/>
            <a:ext cx="378000" cy="377640"/>
          </a:xfrm>
          <a:prstGeom prst="rect">
            <a:avLst/>
          </a:prstGeom>
          <a:ln w="0">
            <a:noFill/>
          </a:ln>
        </p:spPr>
      </p:pic>
      <p:pic>
        <p:nvPicPr>
          <p:cNvPr id="333" name="hold" descr=""/>
          <p:cNvPicPr/>
          <p:nvPr/>
        </p:nvPicPr>
        <p:blipFill>
          <a:blip r:embed="rId3"/>
          <a:stretch/>
        </p:blipFill>
        <p:spPr>
          <a:xfrm>
            <a:off x="525600" y="2590920"/>
            <a:ext cx="323640" cy="323640"/>
          </a:xfrm>
          <a:prstGeom prst="rect">
            <a:avLst/>
          </a:prstGeom>
          <a:ln w="0">
            <a:noFill/>
          </a:ln>
        </p:spPr>
      </p:pic>
      <p:pic>
        <p:nvPicPr>
          <p:cNvPr id="334" name="hold" descr=""/>
          <p:cNvPicPr/>
          <p:nvPr/>
        </p:nvPicPr>
        <p:blipFill>
          <a:blip r:embed="rId4"/>
          <a:stretch/>
        </p:blipFill>
        <p:spPr>
          <a:xfrm>
            <a:off x="533520" y="5391000"/>
            <a:ext cx="323640" cy="324000"/>
          </a:xfrm>
          <a:prstGeom prst="rect">
            <a:avLst/>
          </a:prstGeom>
          <a:ln w="0">
            <a:noFill/>
          </a:ln>
        </p:spPr>
      </p:pic>
      <p:pic>
        <p:nvPicPr>
          <p:cNvPr id="335" name="trans" descr=""/>
          <p:cNvPicPr/>
          <p:nvPr/>
        </p:nvPicPr>
        <p:blipFill>
          <a:blip r:embed="rId5"/>
          <a:stretch/>
        </p:blipFill>
        <p:spPr>
          <a:xfrm>
            <a:off x="488880" y="4971960"/>
            <a:ext cx="428760" cy="314280"/>
          </a:xfrm>
          <a:prstGeom prst="rect">
            <a:avLst/>
          </a:prstGeom>
          <a:ln w="0">
            <a:noFill/>
          </a:ln>
        </p:spPr>
      </p:pic>
      <p:pic>
        <p:nvPicPr>
          <p:cNvPr id="336" name="trans" descr=""/>
          <p:cNvPicPr/>
          <p:nvPr/>
        </p:nvPicPr>
        <p:blipFill>
          <a:blip r:embed="rId6"/>
          <a:stretch/>
        </p:blipFill>
        <p:spPr>
          <a:xfrm>
            <a:off x="496800" y="6740640"/>
            <a:ext cx="428760" cy="314280"/>
          </a:xfrm>
          <a:prstGeom prst="rect">
            <a:avLst/>
          </a:prstGeom>
          <a:ln w="0">
            <a:noFill/>
          </a:ln>
        </p:spPr>
      </p:pic>
      <p:pic>
        <p:nvPicPr>
          <p:cNvPr id="337" name="hold" descr=""/>
          <p:cNvPicPr/>
          <p:nvPr/>
        </p:nvPicPr>
        <p:blipFill>
          <a:blip r:embed="rId7"/>
          <a:stretch/>
        </p:blipFill>
        <p:spPr>
          <a:xfrm>
            <a:off x="533520" y="7159680"/>
            <a:ext cx="323640" cy="323640"/>
          </a:xfrm>
          <a:prstGeom prst="rect">
            <a:avLst/>
          </a:prstGeom>
          <a:ln w="0">
            <a:noFill/>
          </a:ln>
        </p:spPr>
      </p:pic>
      <p:sp>
        <p:nvSpPr>
          <p:cNvPr id="338" name=""/>
          <p:cNvSpPr/>
          <p:nvPr/>
        </p:nvSpPr>
        <p:spPr>
          <a:xfrm>
            <a:off x="1066680" y="1744560"/>
            <a:ext cx="0" cy="122724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917960" y="4170240"/>
            <a:ext cx="416160" cy="2992680"/>
          </a:xfrm>
          <a:custGeom>
            <a:avLst/>
            <a:gdLst>
              <a:gd name="textAreaLeft" fmla="*/ 20160 w 416160"/>
              <a:gd name="textAreaRight" fmla="*/ 396000 w 416160"/>
              <a:gd name="textAreaTop" fmla="*/ 20160 h 2992680"/>
              <a:gd name="textAreaBottom" fmla="*/ 2972520 h 2992680"/>
            </a:gdLst>
            <a:ahLst/>
            <a:rect l="textAreaLeft" t="textAreaTop" r="textAreaRight" b="textAreaBottom"/>
            <a:pathLst>
              <a:path w="21600" h="155214">
                <a:moveTo>
                  <a:pt x="3600" y="0"/>
                </a:moveTo>
                <a:arcTo wR="3600" hR="3600" stAng="16200000" swAng="-5400000"/>
                <a:lnTo>
                  <a:pt x="0" y="151614"/>
                </a:lnTo>
                <a:arcTo wR="3600" hR="3600" stAng="10800000" swAng="-5400000"/>
                <a:lnTo>
                  <a:pt x="18000" y="15521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870440" y="4883040"/>
            <a:ext cx="347760" cy="17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entury Gothic"/>
              </a:rPr>
              <a:t>Hotel Operation(LDK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/>
          <p:nvPr/>
        </p:nvSpPr>
        <p:spPr>
          <a:xfrm>
            <a:off x="355320" y="793800"/>
            <a:ext cx="5122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41280" y="1017720"/>
            <a:ext cx="2444760" cy="67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9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700" spc="-1" strike="noStrike" u="sng">
                <a:solidFill>
                  <a:srgbClr val="000000"/>
                </a:solidFill>
                <a:uFillTx/>
                <a:latin typeface="Arial"/>
              </a:rPr>
              <a:t>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9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Access Authorization Code...............................…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9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Alarm Reset .....................................…..……….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9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Answering a Call Wait with Voice Over .......……...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9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Answering an Intercom Call ....................….……..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9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Answering an Outside Call ..........................………11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9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Auto Call Number Redial ..........................……….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9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700" spc="-1" strike="noStrike" u="sng">
                <a:solidFill>
                  <a:srgbClr val="000000"/>
                </a:solidFill>
                <a:uFillTx/>
                <a:latin typeface="Arial"/>
              </a:rPr>
              <a:t>B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9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Background Music ...................................……….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9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Blocking Outside Calls .............................……….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9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700" spc="-1" strike="noStrike" u="sng">
                <a:solidFill>
                  <a:srgbClr val="000000"/>
                </a:solidFill>
                <a:uFillTx/>
                <a:latin typeface="Arial"/>
              </a:rPr>
              <a:t>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9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Call Back ................................................………..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9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Call Forward ...........................................………..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9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Call Park ..................................................………..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9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Call Transfer ..........................................…………..11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9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Call Wait ..................................................………..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9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Changing Differential Ring …………………..………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9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Changing Intercom Answer Mode .............……….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9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CO Message Wait ……………………………………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9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Conference .............................................………..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9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700" spc="-1" strike="noStrike" u="sng">
                <a:solidFill>
                  <a:srgbClr val="000000"/>
                </a:solidFill>
                <a:uFillTx/>
                <a:latin typeface="Arial"/>
              </a:rPr>
              <a:t>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9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Dial Memo ...............................................……….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9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Directed Call Pick-up ................................……….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9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DISA (Direct Inward System Access) ..........…..…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9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Do Not Disturb .........................................……….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9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700" spc="-1" strike="noStrike" u="sng">
                <a:solidFill>
                  <a:srgbClr val="000000"/>
                </a:solidFill>
                <a:uFillTx/>
                <a:latin typeface="Arial"/>
              </a:rPr>
              <a:t>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9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Executive/Secretary Transfer ..................…………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9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700" spc="-1" strike="noStrike" u="sng">
                <a:solidFill>
                  <a:srgbClr val="000000"/>
                </a:solidFill>
                <a:uFillTx/>
                <a:latin typeface="Arial"/>
              </a:rPr>
              <a:t>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9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Flash .......................................................……….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9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700" spc="-1" strike="noStrike" u="sng">
                <a:solidFill>
                  <a:srgbClr val="000000"/>
                </a:solidFill>
                <a:uFillTx/>
                <a:latin typeface="Arial"/>
              </a:rPr>
              <a:t>G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9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Group Call Pick-up .....................................…….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9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700" spc="-1" strike="noStrike" u="sng">
                <a:solidFill>
                  <a:srgbClr val="000000"/>
                </a:solidFill>
                <a:uFillTx/>
                <a:latin typeface="Arial"/>
              </a:rPr>
              <a:t>L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9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Last Number Redial ................................………..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9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LCD Language Change ……………………………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9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700" spc="-1" strike="noStrike" u="sng">
                <a:solidFill>
                  <a:srgbClr val="000000"/>
                </a:solidFill>
                <a:uFillTx/>
                <a:latin typeface="Arial"/>
              </a:rPr>
              <a:t>M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9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Message Waiting ....................................………..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9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Mute .......................................................………..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9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700" spc="-1" strike="noStrike" u="sng">
                <a:solidFill>
                  <a:srgbClr val="000000"/>
                </a:solidFill>
                <a:uFillTx/>
                <a:latin typeface="Arial"/>
              </a:rPr>
              <a:t>P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9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Paging ....................................................………..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9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Placing a CO Call on Hold ........................……….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9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Placing an Intercom Call .........................………..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9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Placing an Intercom Group Call ................……….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9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Placing an Intercom on Hold ......................………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9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Placing an Outside Call ...............................………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9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Pre-selected Message ..............................……….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9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Programming Your Name into Display ...........…...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9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700" spc="-1" strike="noStrike" u="sng">
                <a:solidFill>
                  <a:srgbClr val="000000"/>
                </a:solidFill>
                <a:uFillTx/>
                <a:latin typeface="Arial"/>
              </a:rPr>
              <a:t>Q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9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Queuing ......................................................………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9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700" spc="-1" strike="noStrike" u="sng">
                <a:solidFill>
                  <a:srgbClr val="000000"/>
                </a:solidFill>
                <a:uFillTx/>
                <a:latin typeface="Arial"/>
              </a:rPr>
              <a:t>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9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Ring Volume Control ................................…….…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2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9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Restoring Outside Calls ....................…….. ……..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9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7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9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Save Number Redial ...........................……………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9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Speakerphone ......................................…. ……...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9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Speaker Volume Control .............................……..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9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Speed Dial Numbers .............................………….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9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Station Programming Menu Table …………………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9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Step Call ..............................................…………..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9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Storing Dial By Name ........................…………….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9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700" spc="-1" strike="noStrike" u="sng">
                <a:solidFill>
                  <a:srgbClr val="000000"/>
                </a:solidFill>
                <a:uFillTx/>
                <a:latin typeface="Arial"/>
              </a:rPr>
              <a:t>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9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Two-way Recording ................…...………………..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9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9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652840" y="1023840"/>
            <a:ext cx="2444760" cy="66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6000"/>
              </a:lnSpc>
              <a:tabLst>
                <a:tab algn="l" pos="0"/>
                <a:tab algn="r" pos="20001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700" spc="-1" strike="noStrike" u="sng">
                <a:solidFill>
                  <a:srgbClr val="000000"/>
                </a:solidFill>
                <a:uFillTx/>
                <a:latin typeface="Arial"/>
              </a:rPr>
              <a:t>U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6000"/>
              </a:lnSpc>
              <a:tabLst>
                <a:tab algn="l" pos="0"/>
                <a:tab algn="r" pos="20001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Universal Night Answer ................…...…………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6000"/>
              </a:lnSpc>
              <a:tabLst>
                <a:tab algn="l" pos="0"/>
                <a:tab algn="r" pos="20001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User Custom Message Programming .......…..…3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6000"/>
              </a:lnSpc>
              <a:tabLst>
                <a:tab algn="l" pos="0"/>
                <a:tab algn="r" pos="20001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Using Dial By Name ............................….…...…3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6000"/>
              </a:lnSpc>
              <a:tabLst>
                <a:tab algn="l" pos="0"/>
                <a:tab algn="r" pos="20001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700" spc="-1" strike="noStrike" u="sng">
                <a:solidFill>
                  <a:srgbClr val="000000"/>
                </a:solidFill>
                <a:uFillTx/>
                <a:latin typeface="Arial"/>
              </a:rPr>
              <a:t>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6000"/>
              </a:lnSpc>
              <a:tabLst>
                <a:tab algn="l" pos="0"/>
                <a:tab algn="r" pos="20001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Voice Announcement ……………………………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6000"/>
              </a:lnSpc>
              <a:tabLst>
                <a:tab algn="l" pos="0"/>
                <a:tab algn="r" pos="20001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Voice Over ........................................………..…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6000"/>
              </a:lnSpc>
              <a:tabLst>
                <a:tab algn="l" pos="0"/>
                <a:tab algn="r" pos="20001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700" spc="-1" strike="noStrike" u="sng">
                <a:solidFill>
                  <a:srgbClr val="000000"/>
                </a:solidFill>
                <a:uFillTx/>
                <a:latin typeface="Arial"/>
              </a:rPr>
              <a:t>W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6000"/>
              </a:lnSpc>
              <a:tabLst>
                <a:tab algn="l" pos="0"/>
                <a:tab algn="r" pos="20001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Wake-up Call .......................................……..…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6000"/>
              </a:lnSpc>
              <a:tabLst>
                <a:tab algn="l" pos="0"/>
                <a:tab algn="r" pos="20001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700" spc="-1" strike="noStrike" u="sng">
                <a:solidFill>
                  <a:srgbClr val="000000"/>
                </a:solidFill>
                <a:uFillTx/>
                <a:latin typeface="Arial"/>
              </a:rPr>
              <a:t>Large LCD Keyset Featur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6000"/>
              </a:lnSpc>
              <a:tabLst>
                <a:tab algn="l" pos="0"/>
                <a:tab algn="r" pos="20001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Calendar Display ..........................….......……...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6000"/>
              </a:lnSpc>
              <a:tabLst>
                <a:tab algn="l" pos="0"/>
                <a:tab algn="r" pos="20001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Door Open ..................................…....………....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6000"/>
              </a:lnSpc>
              <a:tabLst>
                <a:tab algn="l" pos="0"/>
                <a:tab algn="r" pos="20001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LCD Brightness Control .....................………...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6000"/>
              </a:lnSpc>
              <a:tabLst>
                <a:tab algn="l" pos="0"/>
                <a:tab algn="r" pos="20001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700" spc="-1" strike="noStrike" u="sng">
                <a:solidFill>
                  <a:srgbClr val="000000"/>
                </a:solidFill>
                <a:uFillTx/>
                <a:latin typeface="Arial"/>
              </a:rPr>
              <a:t>Attendant Opera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6000"/>
              </a:lnSpc>
              <a:tabLst>
                <a:tab algn="l" pos="0"/>
                <a:tab algn="r" pos="20001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Attendant Clock Set……………………………...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6000"/>
              </a:lnSpc>
              <a:tabLst>
                <a:tab algn="l" pos="0"/>
                <a:tab algn="r" pos="20001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Attendant DSS Operation ..................………..…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7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6000"/>
              </a:lnSpc>
              <a:tabLst>
                <a:tab algn="l" pos="0"/>
                <a:tab algn="r" pos="20001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Attendant Intrusion ................................……….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6000"/>
              </a:lnSpc>
              <a:tabLst>
                <a:tab algn="l" pos="0"/>
                <a:tab algn="r" pos="20001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Attendant LCD Language ..................….……....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6000"/>
              </a:lnSpc>
              <a:tabLst>
                <a:tab algn="l" pos="0"/>
                <a:tab algn="r" pos="20001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Attendant Programming Menu Table ………….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7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6000"/>
              </a:lnSpc>
              <a:tabLst>
                <a:tab algn="l" pos="0"/>
                <a:tab algn="r" pos="20001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Changing Time/Date Format ..............……….…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6000"/>
              </a:lnSpc>
              <a:tabLst>
                <a:tab algn="l" pos="0"/>
                <a:tab algn="r" pos="20001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CO Outgoing Disable ............................……….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6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6000"/>
              </a:lnSpc>
              <a:tabLst>
                <a:tab algn="l" pos="0"/>
                <a:tab algn="r" pos="20001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Customized Message ...........................……….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66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6000"/>
              </a:lnSpc>
              <a:tabLst>
                <a:tab algn="l" pos="0"/>
                <a:tab algn="r" pos="20001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Day/On-demand/Night Mode Service ...…..……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6000"/>
              </a:lnSpc>
              <a:tabLst>
                <a:tab algn="l" pos="0"/>
                <a:tab algn="r" pos="20001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Dial By Name .....................................…………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65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6000"/>
              </a:lnSpc>
              <a:tabLst>
                <a:tab algn="l" pos="0"/>
                <a:tab algn="r" pos="20001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Erasing Station Message ...................…………. 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6000"/>
              </a:lnSpc>
              <a:tabLst>
                <a:tab algn="l" pos="0"/>
                <a:tab algn="r" pos="20001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External Page Port BGM Selection by ATD ……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72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6000"/>
              </a:lnSpc>
              <a:tabLst>
                <a:tab algn="l" pos="0"/>
                <a:tab algn="r" pos="20001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Intercom Box BGM Selection by Attendant .…..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71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6000"/>
              </a:lnSpc>
              <a:tabLst>
                <a:tab algn="l" pos="0"/>
                <a:tab algn="r" pos="20001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Overriding a Key Telephone in DND …………...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7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6000"/>
              </a:lnSpc>
              <a:tabLst>
                <a:tab algn="l" pos="0"/>
                <a:tab algn="r" pos="20001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System Greetings ..................................…….…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6000"/>
              </a:lnSpc>
              <a:tabLst>
                <a:tab algn="l" pos="0"/>
                <a:tab algn="r" pos="20001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System Speed Dial .............................……….…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6000"/>
              </a:lnSpc>
              <a:tabLst>
                <a:tab algn="l" pos="0"/>
                <a:tab algn="r" pos="20001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Temporary COS Change ......................……….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6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6000"/>
              </a:lnSpc>
              <a:tabLst>
                <a:tab algn="l" pos="0"/>
                <a:tab algn="r" pos="20001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To Erase SMDR Record ....................………..…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6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6000"/>
              </a:lnSpc>
              <a:tabLst>
                <a:tab algn="l" pos="0"/>
                <a:tab algn="r" pos="20001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To Print out Accumulated SMDR Records ....…. 62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6000"/>
              </a:lnSpc>
              <a:tabLst>
                <a:tab algn="l" pos="0"/>
                <a:tab algn="r" pos="20001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To Set Current Time 1 Hour Early/Late ……….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5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6000"/>
              </a:lnSpc>
              <a:tabLst>
                <a:tab algn="l" pos="0"/>
                <a:tab algn="r" pos="20001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Traffic Analysis ........................................…….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68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6000"/>
              </a:lnSpc>
              <a:tabLst>
                <a:tab algn="l" pos="0"/>
                <a:tab algn="r" pos="20001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Wake-up Call ........................................……….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6000"/>
              </a:lnSpc>
              <a:tabLst>
                <a:tab algn="l" pos="0"/>
                <a:tab algn="r" pos="20001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700" spc="-1" strike="noStrike" u="sng">
                <a:solidFill>
                  <a:srgbClr val="000000"/>
                </a:solidFill>
                <a:uFillTx/>
                <a:latin typeface="Arial"/>
              </a:rPr>
              <a:t>Hotel Operation(GDK/LDK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6000"/>
              </a:lnSpc>
              <a:tabLst>
                <a:tab algn="l" pos="0"/>
                <a:tab algn="r" pos="20001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Authorization Code……………………………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79,9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6000"/>
              </a:lnSpc>
              <a:tabLst>
                <a:tab algn="l" pos="0"/>
                <a:tab algn="r" pos="20001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Auto Internal Speed Directory ...........………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85,96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6000"/>
              </a:lnSpc>
              <a:tabLst>
                <a:tab algn="l" pos="0"/>
                <a:tab algn="r" pos="20001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Baby Listening ................................……….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80,91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6000"/>
              </a:lnSpc>
              <a:tabLst>
                <a:tab algn="l" pos="0"/>
                <a:tab algn="r" pos="20001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Bath Alarm ..................….……………………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83,9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6000"/>
              </a:lnSpc>
              <a:tabLst>
                <a:tab algn="l" pos="0"/>
                <a:tab algn="r" pos="20001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Brief SMDR Print ………………………………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86,9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6000"/>
              </a:lnSpc>
              <a:tabLst>
                <a:tab algn="l" pos="0"/>
                <a:tab algn="r" pos="20001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Call Charge Rate ..............……………………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80,91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6000"/>
              </a:lnSpc>
              <a:tabLst>
                <a:tab algn="l" pos="0"/>
                <a:tab algn="r" pos="20001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Change LCD Display Language …………….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82,9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6000"/>
              </a:lnSpc>
              <a:tabLst>
                <a:tab algn="l" pos="0"/>
                <a:tab algn="r" pos="20001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Check-In ............................………………….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76,8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6000"/>
              </a:lnSpc>
              <a:tabLst>
                <a:tab algn="l" pos="0"/>
                <a:tab algn="r" pos="20001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Check-In/Change a Guest Room Status ......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77,88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6000"/>
              </a:lnSpc>
              <a:tabLst>
                <a:tab algn="l" pos="0"/>
                <a:tab algn="r" pos="20001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Check-Out ...…..….……………………………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80,91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6000"/>
              </a:lnSpc>
              <a:tabLst>
                <a:tab algn="l" pos="0"/>
                <a:tab algn="r" pos="20001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Class Of Service .................................…….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78,8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6000"/>
              </a:lnSpc>
              <a:tabLst>
                <a:tab algn="l" pos="0"/>
                <a:tab algn="r" pos="20001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Fee for Part Time ………....................………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85,96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6000"/>
              </a:lnSpc>
              <a:tabLst>
                <a:tab algn="l" pos="0"/>
                <a:tab algn="r" pos="20001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Guest Alarm Call .……………………………..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78,8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6000"/>
              </a:lnSpc>
              <a:tabLst>
                <a:tab algn="l" pos="0"/>
                <a:tab algn="r" pos="20001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Intercom Enable/Disable …………………….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78,8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6000"/>
              </a:lnSpc>
              <a:tabLst>
                <a:tab algn="l" pos="0"/>
                <a:tab algn="r" pos="20001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Maid Status .............................………………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83,9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6000"/>
              </a:lnSpc>
              <a:tabLst>
                <a:tab algn="l" pos="0"/>
                <a:tab algn="r" pos="20001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Multiple Front Desk ……………………..……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86,9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6000"/>
              </a:lnSpc>
              <a:tabLst>
                <a:tab algn="l" pos="0"/>
                <a:tab algn="r" pos="20001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New Cabina Call ………………………………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86,9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6000"/>
              </a:lnSpc>
              <a:tabLst>
                <a:tab algn="l" pos="0"/>
                <a:tab algn="r" pos="20001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One-time CO Call Enable……………………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82,9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6000"/>
              </a:lnSpc>
              <a:tabLst>
                <a:tab algn="l" pos="0"/>
                <a:tab algn="r" pos="20001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Pre-paid Call Charge …………………………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79,9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6000"/>
              </a:lnSpc>
              <a:tabLst>
                <a:tab algn="l" pos="0"/>
                <a:tab algn="r" pos="20001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Printing a Guest Room Status……………….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81,92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6000"/>
              </a:lnSpc>
              <a:tabLst>
                <a:tab algn="l" pos="0"/>
                <a:tab algn="r" pos="20001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Register Bar &amp; Mini-Bar Charge .............….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84,95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6000"/>
              </a:lnSpc>
              <a:tabLst>
                <a:tab algn="l" pos="0"/>
                <a:tab algn="r" pos="20001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Register &amp; Change a Guest Name …………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77,88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6000"/>
              </a:lnSpc>
              <a:tabLst>
                <a:tab algn="l" pos="0"/>
                <a:tab algn="r" pos="20001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Register Hotel Name. ……………………..….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76,8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6000"/>
              </a:lnSpc>
              <a:tabLst>
                <a:tab algn="l" pos="0"/>
                <a:tab algn="r" pos="20001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Room Charge Display &amp; Printing ……………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81,92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6000"/>
              </a:lnSpc>
              <a:tabLst>
                <a:tab algn="l" pos="0"/>
                <a:tab algn="r" pos="20001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Room Rate Assign ................................……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84,95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6000"/>
              </a:lnSpc>
              <a:tabLst>
                <a:tab algn="l" pos="0"/>
                <a:tab algn="r" pos="20001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Room to Room Call Group ..................…….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84,95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6000"/>
              </a:lnSpc>
              <a:tabLst>
                <a:tab algn="l" pos="0"/>
                <a:tab algn="r" pos="20001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243080" y="3895560"/>
            <a:ext cx="3633840" cy="10670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793800"/>
            <a:ext cx="11095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heck-In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Cont'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81080" y="1244520"/>
            <a:ext cx="373392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To check in a guest with Standard Room Status,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RANS/PGM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# 1 1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the Room Number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PEE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.</a:t>
            </a: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 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OLD/SAV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063800" y="1212840"/>
            <a:ext cx="0" cy="99684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97520" y="1039680"/>
            <a:ext cx="4078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Butt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313000" y="1039680"/>
            <a:ext cx="6030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rocedur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03200" y="1206360"/>
            <a:ext cx="4405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01760" y="2438280"/>
            <a:ext cx="4406760" cy="228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heck-In / Change a Guest's Room Stat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97520" y="2971800"/>
            <a:ext cx="4078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Butt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63800" y="3139920"/>
            <a:ext cx="0" cy="227016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514600" y="2975040"/>
            <a:ext cx="55872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rocedur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143000" y="3179880"/>
            <a:ext cx="3794040" cy="21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RANS/PGM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# 1 1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Room Number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PEE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Room Status Type (1~8)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:  Register/Change Guest Name (within 12 character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:  Register/Change Day and Night Class of Service(Outside Call Restricti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:  Register/Change Alarm Call (wake-up) Tim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:  Set Intercom Enable/Disable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:  Set Room to Room Call Gro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:  Register/Change Authorization Cod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7:  Register/Change Pre-paid Call Char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:  Register/Change Call Charge R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PEE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 (for only Room Status Type 1)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OLD/SAV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00680" y="2690640"/>
            <a:ext cx="441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o check in the guest and change the Room Status from the default values, you should enter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following informati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6353280"/>
            <a:ext cx="3873600" cy="10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To register/change a guest's name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RANS/PGM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# 1 1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Room Number and 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PEE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o register/change guest nam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nter the guest's name with the character code. (within 12 character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PEE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OLD/SAV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066680" y="6340320"/>
            <a:ext cx="0" cy="114480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05440" y="6172200"/>
            <a:ext cx="4078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Butt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35240" y="6172200"/>
            <a:ext cx="6030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rocedur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80880" y="6338880"/>
            <a:ext cx="4419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10040" y="5862600"/>
            <a:ext cx="423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is feature allows the System Attendant to register/change a guest's name which will be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inted out on the guest's bill when checking out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88800" y="5626080"/>
            <a:ext cx="4407120" cy="228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gister &amp; Change a Guest Name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Room Status Type 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trans" descr=""/>
          <p:cNvPicPr/>
          <p:nvPr/>
        </p:nvPicPr>
        <p:blipFill>
          <a:blip r:embed="rId1"/>
          <a:stretch/>
        </p:blipFill>
        <p:spPr>
          <a:xfrm>
            <a:off x="488880" y="3116160"/>
            <a:ext cx="428760" cy="314280"/>
          </a:xfrm>
          <a:prstGeom prst="rect">
            <a:avLst/>
          </a:prstGeom>
          <a:ln w="0">
            <a:noFill/>
          </a:ln>
        </p:spPr>
      </p:pic>
      <p:pic>
        <p:nvPicPr>
          <p:cNvPr id="78" name="speed" descr=""/>
          <p:cNvPicPr/>
          <p:nvPr/>
        </p:nvPicPr>
        <p:blipFill>
          <a:blip r:embed="rId2"/>
          <a:stretch/>
        </p:blipFill>
        <p:spPr>
          <a:xfrm>
            <a:off x="480960" y="1616040"/>
            <a:ext cx="378000" cy="378000"/>
          </a:xfrm>
          <a:prstGeom prst="rect">
            <a:avLst/>
          </a:prstGeom>
          <a:ln w="0">
            <a:noFill/>
          </a:ln>
        </p:spPr>
      </p:pic>
      <p:pic>
        <p:nvPicPr>
          <p:cNvPr id="79" name="hold" descr=""/>
          <p:cNvPicPr/>
          <p:nvPr/>
        </p:nvPicPr>
        <p:blipFill>
          <a:blip r:embed="rId3"/>
          <a:stretch/>
        </p:blipFill>
        <p:spPr>
          <a:xfrm>
            <a:off x="501480" y="1881360"/>
            <a:ext cx="324000" cy="323640"/>
          </a:xfrm>
          <a:prstGeom prst="rect">
            <a:avLst/>
          </a:prstGeom>
          <a:ln w="0">
            <a:noFill/>
          </a:ln>
        </p:spPr>
      </p:pic>
      <p:pic>
        <p:nvPicPr>
          <p:cNvPr id="80" name="speed" descr=""/>
          <p:cNvPicPr/>
          <p:nvPr/>
        </p:nvPicPr>
        <p:blipFill>
          <a:blip r:embed="rId4"/>
          <a:stretch/>
        </p:blipFill>
        <p:spPr>
          <a:xfrm>
            <a:off x="485640" y="3452760"/>
            <a:ext cx="378000" cy="378000"/>
          </a:xfrm>
          <a:prstGeom prst="rect">
            <a:avLst/>
          </a:prstGeom>
          <a:ln w="0">
            <a:noFill/>
          </a:ln>
        </p:spPr>
      </p:pic>
      <p:pic>
        <p:nvPicPr>
          <p:cNvPr id="81" name="hold" descr=""/>
          <p:cNvPicPr/>
          <p:nvPr/>
        </p:nvPicPr>
        <p:blipFill>
          <a:blip r:embed="rId5"/>
          <a:stretch/>
        </p:blipFill>
        <p:spPr>
          <a:xfrm>
            <a:off x="549360" y="5105520"/>
            <a:ext cx="323640" cy="323640"/>
          </a:xfrm>
          <a:prstGeom prst="rect">
            <a:avLst/>
          </a:prstGeom>
          <a:ln w="0">
            <a:noFill/>
          </a:ln>
        </p:spPr>
      </p:pic>
      <p:pic>
        <p:nvPicPr>
          <p:cNvPr id="82" name="speed" descr=""/>
          <p:cNvPicPr/>
          <p:nvPr/>
        </p:nvPicPr>
        <p:blipFill>
          <a:blip r:embed="rId6"/>
          <a:stretch/>
        </p:blipFill>
        <p:spPr>
          <a:xfrm>
            <a:off x="504720" y="6653160"/>
            <a:ext cx="378000" cy="378000"/>
          </a:xfrm>
          <a:prstGeom prst="rect">
            <a:avLst/>
          </a:prstGeom>
          <a:ln w="0">
            <a:noFill/>
          </a:ln>
        </p:spPr>
      </p:pic>
      <p:pic>
        <p:nvPicPr>
          <p:cNvPr id="83" name="hold" descr=""/>
          <p:cNvPicPr/>
          <p:nvPr/>
        </p:nvPicPr>
        <p:blipFill>
          <a:blip r:embed="rId7"/>
          <a:stretch/>
        </p:blipFill>
        <p:spPr>
          <a:xfrm>
            <a:off x="525600" y="7162920"/>
            <a:ext cx="323640" cy="323640"/>
          </a:xfrm>
          <a:prstGeom prst="rect">
            <a:avLst/>
          </a:prstGeom>
          <a:ln w="0">
            <a:noFill/>
          </a:ln>
        </p:spPr>
      </p:pic>
      <p:pic>
        <p:nvPicPr>
          <p:cNvPr id="84" name="trans" descr=""/>
          <p:cNvPicPr/>
          <p:nvPr/>
        </p:nvPicPr>
        <p:blipFill>
          <a:blip r:embed="rId8"/>
          <a:stretch/>
        </p:blipFill>
        <p:spPr>
          <a:xfrm>
            <a:off x="488880" y="1295280"/>
            <a:ext cx="428760" cy="314280"/>
          </a:xfrm>
          <a:prstGeom prst="rect">
            <a:avLst/>
          </a:prstGeom>
          <a:ln w="0">
            <a:noFill/>
          </a:ln>
        </p:spPr>
      </p:pic>
      <p:pic>
        <p:nvPicPr>
          <p:cNvPr id="85" name="trans" descr=""/>
          <p:cNvPicPr/>
          <p:nvPr/>
        </p:nvPicPr>
        <p:blipFill>
          <a:blip r:embed="rId9"/>
          <a:stretch/>
        </p:blipFill>
        <p:spPr>
          <a:xfrm>
            <a:off x="488880" y="6391440"/>
            <a:ext cx="428760" cy="31428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403200" y="3133800"/>
            <a:ext cx="4405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71880" y="793800"/>
            <a:ext cx="37476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lass of Service (Outside Call Restriction)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Room Status Type 2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87720" y="1042920"/>
            <a:ext cx="4498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hen a guest is checked into a room, the system will automatically remove any call barring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strictions that are set when the room is vacant. The Class of Service is entered into the Roo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atus information as 2-digit, the first digit represents the COS for day mode and the seco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git the COS when the system is in night mode.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066680" y="1812960"/>
            <a:ext cx="3873600" cy="94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To change the Class of Service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RANS/PGM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# 1 1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Room Number and 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PEE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o change the Class of Servic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rooms Day and Night COS (11~77: 2 digits)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OLD/SAV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066680" y="1800360"/>
            <a:ext cx="0" cy="112716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05440" y="1631880"/>
            <a:ext cx="4078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Butt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235240" y="1631880"/>
            <a:ext cx="6030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rocedur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80880" y="1798560"/>
            <a:ext cx="4419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01760" y="3156120"/>
            <a:ext cx="4406760" cy="228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uest Alarm Call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Room Status Type 3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95280" y="3408480"/>
            <a:ext cx="44510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You can set an alarm call for a guest from the Front Desk extension. The alarm call will ring 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guest's phone and when the call is answered they will receive the system music on hold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alarm will ring for 30 seconds and if there is no reply then it will wait for 90sec and tr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gain. If there is no reply after the third attempt then a "WAKE UP FAIL' alarm will ring on the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ttendant and the display will show the extension that the alarm call has failed on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066680" y="4251240"/>
            <a:ext cx="3873600" cy="94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To set an alarm call from the attendant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RANS/PGM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# 1 1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Room Number and 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PEE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to register/change Wake-Up Call time (HH:MM in 24-hour mode)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PEE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 (for one-time) or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#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 (for continuous)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OLD/SAV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066680" y="4238640"/>
            <a:ext cx="0" cy="112716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05440" y="4070520"/>
            <a:ext cx="4078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Butt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235240" y="4070520"/>
            <a:ext cx="6030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rocedur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80880" y="4237200"/>
            <a:ext cx="4419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6248520"/>
            <a:ext cx="387360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To change the Intercom Restriction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RANS/PGM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# 1 1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Room Number and 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PEE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, the status is changed (toggle setting)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OLD/SAV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6235560"/>
            <a:ext cx="0" cy="97488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05440" y="6067440"/>
            <a:ext cx="4078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Butt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235240" y="6067440"/>
            <a:ext cx="6030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rocedur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80880" y="6234120"/>
            <a:ext cx="4419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05720" y="5894280"/>
            <a:ext cx="3367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t is possible to allow or restrict internal calls from a guest's extension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0880" y="5641920"/>
            <a:ext cx="4407120" cy="228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ko-KR" sz="1000" spc="-1" strike="noStrike">
                <a:solidFill>
                  <a:srgbClr val="000000"/>
                </a:solidFill>
                <a:latin typeface="Arial"/>
              </a:rPr>
              <a:t>Intercom Enable/ Disable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(Room Status Type 4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speed" descr=""/>
          <p:cNvPicPr/>
          <p:nvPr/>
        </p:nvPicPr>
        <p:blipFill>
          <a:blip r:embed="rId1"/>
          <a:stretch/>
        </p:blipFill>
        <p:spPr>
          <a:xfrm>
            <a:off x="496800" y="2101680"/>
            <a:ext cx="378000" cy="378000"/>
          </a:xfrm>
          <a:prstGeom prst="rect">
            <a:avLst/>
          </a:prstGeom>
          <a:ln w="0">
            <a:noFill/>
          </a:ln>
        </p:spPr>
      </p:pic>
      <p:pic>
        <p:nvPicPr>
          <p:cNvPr id="109" name="hold" descr=""/>
          <p:cNvPicPr/>
          <p:nvPr/>
        </p:nvPicPr>
        <p:blipFill>
          <a:blip r:embed="rId2"/>
          <a:stretch/>
        </p:blipFill>
        <p:spPr>
          <a:xfrm>
            <a:off x="533520" y="2514600"/>
            <a:ext cx="323640" cy="324000"/>
          </a:xfrm>
          <a:prstGeom prst="rect">
            <a:avLst/>
          </a:prstGeom>
          <a:ln w="0">
            <a:noFill/>
          </a:ln>
        </p:spPr>
      </p:pic>
      <p:pic>
        <p:nvPicPr>
          <p:cNvPr id="110" name="speed" descr=""/>
          <p:cNvPicPr/>
          <p:nvPr/>
        </p:nvPicPr>
        <p:blipFill>
          <a:blip r:embed="rId3"/>
          <a:stretch/>
        </p:blipFill>
        <p:spPr>
          <a:xfrm>
            <a:off x="488880" y="4548240"/>
            <a:ext cx="378000" cy="377640"/>
          </a:xfrm>
          <a:prstGeom prst="rect">
            <a:avLst/>
          </a:prstGeom>
          <a:ln w="0">
            <a:noFill/>
          </a:ln>
        </p:spPr>
      </p:pic>
      <p:pic>
        <p:nvPicPr>
          <p:cNvPr id="111" name="hold" descr=""/>
          <p:cNvPicPr/>
          <p:nvPr/>
        </p:nvPicPr>
        <p:blipFill>
          <a:blip r:embed="rId4"/>
          <a:stretch/>
        </p:blipFill>
        <p:spPr>
          <a:xfrm>
            <a:off x="522360" y="4986360"/>
            <a:ext cx="323640" cy="324000"/>
          </a:xfrm>
          <a:prstGeom prst="rect">
            <a:avLst/>
          </a:prstGeom>
          <a:ln w="0">
            <a:noFill/>
          </a:ln>
        </p:spPr>
      </p:pic>
      <p:pic>
        <p:nvPicPr>
          <p:cNvPr id="112" name="speed" descr=""/>
          <p:cNvPicPr/>
          <p:nvPr/>
        </p:nvPicPr>
        <p:blipFill>
          <a:blip r:embed="rId5"/>
          <a:stretch/>
        </p:blipFill>
        <p:spPr>
          <a:xfrm>
            <a:off x="480960" y="6558120"/>
            <a:ext cx="378000" cy="377640"/>
          </a:xfrm>
          <a:prstGeom prst="rect">
            <a:avLst/>
          </a:prstGeom>
          <a:ln w="0">
            <a:noFill/>
          </a:ln>
        </p:spPr>
      </p:pic>
      <p:pic>
        <p:nvPicPr>
          <p:cNvPr id="113" name="hold" descr=""/>
          <p:cNvPicPr/>
          <p:nvPr/>
        </p:nvPicPr>
        <p:blipFill>
          <a:blip r:embed="rId6"/>
          <a:stretch/>
        </p:blipFill>
        <p:spPr>
          <a:xfrm>
            <a:off x="501480" y="6854760"/>
            <a:ext cx="324000" cy="324000"/>
          </a:xfrm>
          <a:prstGeom prst="rect">
            <a:avLst/>
          </a:prstGeom>
          <a:ln w="0">
            <a:noFill/>
          </a:ln>
        </p:spPr>
      </p:pic>
      <p:pic>
        <p:nvPicPr>
          <p:cNvPr id="114" name="trans" descr=""/>
          <p:cNvPicPr/>
          <p:nvPr/>
        </p:nvPicPr>
        <p:blipFill>
          <a:blip r:embed="rId7"/>
          <a:stretch/>
        </p:blipFill>
        <p:spPr>
          <a:xfrm>
            <a:off x="488880" y="1852560"/>
            <a:ext cx="428760" cy="314280"/>
          </a:xfrm>
          <a:prstGeom prst="rect">
            <a:avLst/>
          </a:prstGeom>
          <a:ln w="0">
            <a:noFill/>
          </a:ln>
        </p:spPr>
      </p:pic>
      <p:pic>
        <p:nvPicPr>
          <p:cNvPr id="115" name="trans" descr=""/>
          <p:cNvPicPr/>
          <p:nvPr/>
        </p:nvPicPr>
        <p:blipFill>
          <a:blip r:embed="rId8"/>
          <a:stretch/>
        </p:blipFill>
        <p:spPr>
          <a:xfrm>
            <a:off x="488880" y="4297320"/>
            <a:ext cx="428760" cy="314280"/>
          </a:xfrm>
          <a:prstGeom prst="rect">
            <a:avLst/>
          </a:prstGeom>
          <a:ln w="0">
            <a:noFill/>
          </a:ln>
        </p:spPr>
      </p:pic>
      <p:pic>
        <p:nvPicPr>
          <p:cNvPr id="116" name="trans" descr=""/>
          <p:cNvPicPr/>
          <p:nvPr/>
        </p:nvPicPr>
        <p:blipFill>
          <a:blip r:embed="rId9"/>
          <a:stretch/>
        </p:blipFill>
        <p:spPr>
          <a:xfrm>
            <a:off x="488880" y="6315120"/>
            <a:ext cx="428760" cy="3142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4917960" y="4170240"/>
            <a:ext cx="416160" cy="2992680"/>
          </a:xfrm>
          <a:custGeom>
            <a:avLst/>
            <a:gdLst>
              <a:gd name="textAreaLeft" fmla="*/ 20160 w 416160"/>
              <a:gd name="textAreaRight" fmla="*/ 396000 w 416160"/>
              <a:gd name="textAreaTop" fmla="*/ 20160 h 2992680"/>
              <a:gd name="textAreaBottom" fmla="*/ 2972520 h 2992680"/>
            </a:gdLst>
            <a:ahLst/>
            <a:rect l="textAreaLeft" t="textAreaTop" r="textAreaRight" b="textAreaBottom"/>
            <a:pathLst>
              <a:path w="21600" h="155214">
                <a:moveTo>
                  <a:pt x="3600" y="0"/>
                </a:moveTo>
                <a:arcTo wR="3600" hR="3600" stAng="16200000" swAng="-5400000"/>
                <a:lnTo>
                  <a:pt x="0" y="151614"/>
                </a:lnTo>
                <a:arcTo wR="3600" hR="3600" stAng="10800000" swAng="-5400000"/>
                <a:lnTo>
                  <a:pt x="18000" y="15521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870440" y="4883040"/>
            <a:ext cx="347760" cy="17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entury Gothic"/>
              </a:rPr>
              <a:t>Hotel Operation(LDK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372960" y="801720"/>
            <a:ext cx="29084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oom to Room Call Group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Room Status Type 5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11400" y="1042920"/>
            <a:ext cx="4653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f a large party of guests are checking into the hotel as a group then it is possible to allow call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etween these guests internally but not allow them to call any other guests in the hotel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system will provide up to 100 groups, each of which can have any number of rooms included.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066680" y="1684440"/>
            <a:ext cx="3873600" cy="10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To register/change room to room call group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RANS/PGM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# 1 1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Room Number and 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PEE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nter Room to Room Call Group Number (00~99)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OLD/SAV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o remove, 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PEE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066680" y="1671480"/>
            <a:ext cx="0" cy="112716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05440" y="1503360"/>
            <a:ext cx="4078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Butt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35240" y="1503360"/>
            <a:ext cx="6030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rocedur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0880" y="1670040"/>
            <a:ext cx="4419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01760" y="2992320"/>
            <a:ext cx="4406760" cy="228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uthorization Code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Room Status Type  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6600" y="3244680"/>
            <a:ext cx="470700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authorization codes can be used for 3 types of operation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.  If restrictions have been set on the outside lines, then staff and guest will have to dial 9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llowed by a valid authorization code before they dial out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.  If you have Direct Inward System Access(DISA) configured on the system then outside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llers into the switch could be allowed access to other outside lines for dialing out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.  It is possible to restrict outside calls from Service Stations unless an authorization code ha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een entered. It will prevent unauthorized calls being made from unattended Service Stations.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066680" y="4343400"/>
            <a:ext cx="3873600" cy="10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To register/change authorization code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RANS/PGM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# 1 1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Room Number or Staff Station Number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PEE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nter Authorization Code that you want to use (5 digits)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OLD/SAV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066680" y="4330800"/>
            <a:ext cx="0" cy="112716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05440" y="4162320"/>
            <a:ext cx="4078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Butt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235240" y="4162320"/>
            <a:ext cx="6030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rocedur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80880" y="4329000"/>
            <a:ext cx="4419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6486480"/>
            <a:ext cx="3873600" cy="94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To enter a pre-paid call charge against a guest's room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RANS/PGM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# 1 1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Room Number and 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PEE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Pre-paid Call Charge (Fixed 6 digits, or less than 6 digits +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PEE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OLD/SAV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6473880"/>
            <a:ext cx="0" cy="102708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05440" y="6305400"/>
            <a:ext cx="4078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Butt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235240" y="6305400"/>
            <a:ext cx="6030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rocedur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80880" y="6472080"/>
            <a:ext cx="4419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44880" y="5915160"/>
            <a:ext cx="4542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hen the guest checks in, a pre-paid call charge can be registered against that room and th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ystem will keep a check on how much the guest has spent on outside calls. The pre-paid lim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as been reached then a warning tone will be sent to the guest and the call will be disconnect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96720" y="5686560"/>
            <a:ext cx="4407120" cy="228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e-paid Call Charge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Room Status Type 7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speed" descr=""/>
          <p:cNvPicPr/>
          <p:nvPr/>
        </p:nvPicPr>
        <p:blipFill>
          <a:blip r:embed="rId1"/>
          <a:stretch/>
        </p:blipFill>
        <p:spPr>
          <a:xfrm>
            <a:off x="496800" y="1981080"/>
            <a:ext cx="378000" cy="378000"/>
          </a:xfrm>
          <a:prstGeom prst="rect">
            <a:avLst/>
          </a:prstGeom>
          <a:ln w="0">
            <a:noFill/>
          </a:ln>
        </p:spPr>
      </p:pic>
      <p:pic>
        <p:nvPicPr>
          <p:cNvPr id="141" name="hold" descr=""/>
          <p:cNvPicPr/>
          <p:nvPr/>
        </p:nvPicPr>
        <p:blipFill>
          <a:blip r:embed="rId2"/>
          <a:stretch/>
        </p:blipFill>
        <p:spPr>
          <a:xfrm>
            <a:off x="533520" y="2443320"/>
            <a:ext cx="323640" cy="323640"/>
          </a:xfrm>
          <a:prstGeom prst="rect">
            <a:avLst/>
          </a:prstGeom>
          <a:ln w="0">
            <a:noFill/>
          </a:ln>
        </p:spPr>
      </p:pic>
      <p:pic>
        <p:nvPicPr>
          <p:cNvPr id="142" name="speed" descr=""/>
          <p:cNvPicPr/>
          <p:nvPr/>
        </p:nvPicPr>
        <p:blipFill>
          <a:blip r:embed="rId3"/>
          <a:stretch/>
        </p:blipFill>
        <p:spPr>
          <a:xfrm>
            <a:off x="496800" y="4748040"/>
            <a:ext cx="378000" cy="378000"/>
          </a:xfrm>
          <a:prstGeom prst="rect">
            <a:avLst/>
          </a:prstGeom>
          <a:ln w="0">
            <a:noFill/>
          </a:ln>
        </p:spPr>
      </p:pic>
      <p:pic>
        <p:nvPicPr>
          <p:cNvPr id="143" name="hold" descr=""/>
          <p:cNvPicPr/>
          <p:nvPr/>
        </p:nvPicPr>
        <p:blipFill>
          <a:blip r:embed="rId4"/>
          <a:stretch/>
        </p:blipFill>
        <p:spPr>
          <a:xfrm>
            <a:off x="509760" y="5181480"/>
            <a:ext cx="323640" cy="324000"/>
          </a:xfrm>
          <a:prstGeom prst="rect">
            <a:avLst/>
          </a:prstGeom>
          <a:ln w="0">
            <a:noFill/>
          </a:ln>
        </p:spPr>
      </p:pic>
      <p:pic>
        <p:nvPicPr>
          <p:cNvPr id="144" name="speed" descr=""/>
          <p:cNvPicPr/>
          <p:nvPr/>
        </p:nvPicPr>
        <p:blipFill>
          <a:blip r:embed="rId5"/>
          <a:stretch/>
        </p:blipFill>
        <p:spPr>
          <a:xfrm>
            <a:off x="504720" y="6773760"/>
            <a:ext cx="378000" cy="378000"/>
          </a:xfrm>
          <a:prstGeom prst="rect">
            <a:avLst/>
          </a:prstGeom>
          <a:ln w="0">
            <a:noFill/>
          </a:ln>
        </p:spPr>
      </p:pic>
      <p:pic>
        <p:nvPicPr>
          <p:cNvPr id="145" name="hold" descr=""/>
          <p:cNvPicPr/>
          <p:nvPr/>
        </p:nvPicPr>
        <p:blipFill>
          <a:blip r:embed="rId6"/>
          <a:stretch/>
        </p:blipFill>
        <p:spPr>
          <a:xfrm>
            <a:off x="533520" y="7215120"/>
            <a:ext cx="323640" cy="324000"/>
          </a:xfrm>
          <a:prstGeom prst="rect">
            <a:avLst/>
          </a:prstGeom>
          <a:ln w="0">
            <a:noFill/>
          </a:ln>
        </p:spPr>
      </p:pic>
      <p:pic>
        <p:nvPicPr>
          <p:cNvPr id="146" name="trans" descr=""/>
          <p:cNvPicPr/>
          <p:nvPr/>
        </p:nvPicPr>
        <p:blipFill>
          <a:blip r:embed="rId7"/>
          <a:stretch/>
        </p:blipFill>
        <p:spPr>
          <a:xfrm>
            <a:off x="488880" y="1727280"/>
            <a:ext cx="428760" cy="314280"/>
          </a:xfrm>
          <a:prstGeom prst="rect">
            <a:avLst/>
          </a:prstGeom>
          <a:ln w="0">
            <a:noFill/>
          </a:ln>
        </p:spPr>
      </p:pic>
      <p:pic>
        <p:nvPicPr>
          <p:cNvPr id="147" name="trans" descr=""/>
          <p:cNvPicPr/>
          <p:nvPr/>
        </p:nvPicPr>
        <p:blipFill>
          <a:blip r:embed="rId8"/>
          <a:stretch/>
        </p:blipFill>
        <p:spPr>
          <a:xfrm>
            <a:off x="488880" y="4397400"/>
            <a:ext cx="428760" cy="314280"/>
          </a:xfrm>
          <a:prstGeom prst="rect">
            <a:avLst/>
          </a:prstGeom>
          <a:ln w="0">
            <a:noFill/>
          </a:ln>
        </p:spPr>
      </p:pic>
      <p:pic>
        <p:nvPicPr>
          <p:cNvPr id="148" name="trans" descr=""/>
          <p:cNvPicPr/>
          <p:nvPr/>
        </p:nvPicPr>
        <p:blipFill>
          <a:blip r:embed="rId9"/>
          <a:stretch/>
        </p:blipFill>
        <p:spPr>
          <a:xfrm>
            <a:off x="496800" y="6543720"/>
            <a:ext cx="428760" cy="314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364680" y="793800"/>
            <a:ext cx="22280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all Charge Rate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Room Status Type 8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95640" y="1066680"/>
            <a:ext cx="4307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is feature allows system attendant to register Call Charge rate to rooms while check-in.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066680" y="1447920"/>
            <a:ext cx="4038840" cy="11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To assign Call Charge Rate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RANS/PGM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# 1 1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Room Number and 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PEE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Call Charge Rate (0~5)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OLD/SAV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i="1" lang="en-US" sz="800" spc="-1" strike="noStrike">
                <a:solidFill>
                  <a:srgbClr val="000000"/>
                </a:solidFill>
                <a:latin typeface="Arial"/>
              </a:rPr>
              <a:t>Not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: If call charge rate is not assigned, SMDR call charge is applied and af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eck-out, the assigned call charge is expired and changed to default valu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066680" y="1434960"/>
            <a:ext cx="0" cy="131148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05440" y="1266840"/>
            <a:ext cx="4078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Butt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35240" y="1266840"/>
            <a:ext cx="6030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rocedur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80880" y="1433520"/>
            <a:ext cx="4419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01760" y="2971800"/>
            <a:ext cx="4406760" cy="228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aby Listen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00320" y="3224160"/>
            <a:ext cx="445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 guest can monitor his room at the other place in the hotel. Setting baby listening feature, yo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n monitor the room but, the inside of the room cannot hear of you.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066680" y="3689280"/>
            <a:ext cx="4038840" cy="83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To set baby listening at a guest's room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ff-hook and dial the guest's room number.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To cancel, on-hook.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To operate baby listening at the other places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ff-hook and dial the guest's room number twic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066680" y="3679920"/>
            <a:ext cx="0" cy="103644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05440" y="3511440"/>
            <a:ext cx="4078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Butt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235240" y="3511440"/>
            <a:ext cx="6030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rocedur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80880" y="3678120"/>
            <a:ext cx="4419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066680" y="5904000"/>
            <a:ext cx="3873600" cy="11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To check out a guest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RANS/PGM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# 1 2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nter the room number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To check out a guest with method of payment, 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PEE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 and di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in no.(pay method no.)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OLD/SAV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f you wish to check out more than one guest, dial the next room number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ON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 or hang up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5891040"/>
            <a:ext cx="0" cy="134784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05440" y="5722920"/>
            <a:ext cx="4078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Butt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35240" y="5722920"/>
            <a:ext cx="6030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rocedur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89600"/>
            <a:ext cx="4419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88080" y="5160960"/>
            <a:ext cx="4475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hen the guests leave the hotel, it is an easy operation to check them out. The system will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utomatically calculate their bill and print it out on the printer. Also, any room status setting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at are applied to the room will be reset to the default values. The system attendant can selec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method of payment among registered ones according to the guest's payment methods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96720" y="4940280"/>
            <a:ext cx="4407120" cy="228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heck Ou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speed" descr=""/>
          <p:cNvPicPr/>
          <p:nvPr/>
        </p:nvPicPr>
        <p:blipFill>
          <a:blip r:embed="rId1"/>
          <a:stretch/>
        </p:blipFill>
        <p:spPr>
          <a:xfrm>
            <a:off x="504720" y="1749600"/>
            <a:ext cx="378000" cy="377640"/>
          </a:xfrm>
          <a:prstGeom prst="rect">
            <a:avLst/>
          </a:prstGeom>
          <a:ln w="0">
            <a:noFill/>
          </a:ln>
        </p:spPr>
      </p:pic>
      <p:pic>
        <p:nvPicPr>
          <p:cNvPr id="171" name="hold" descr=""/>
          <p:cNvPicPr/>
          <p:nvPr/>
        </p:nvPicPr>
        <p:blipFill>
          <a:blip r:embed="rId2"/>
          <a:stretch/>
        </p:blipFill>
        <p:spPr>
          <a:xfrm>
            <a:off x="541440" y="2190600"/>
            <a:ext cx="323640" cy="324000"/>
          </a:xfrm>
          <a:prstGeom prst="rect">
            <a:avLst/>
          </a:prstGeom>
          <a:ln w="0">
            <a:noFill/>
          </a:ln>
        </p:spPr>
      </p:pic>
      <p:pic>
        <p:nvPicPr>
          <p:cNvPr id="172" name="speed" descr=""/>
          <p:cNvPicPr/>
          <p:nvPr/>
        </p:nvPicPr>
        <p:blipFill>
          <a:blip r:embed="rId3"/>
          <a:stretch/>
        </p:blipFill>
        <p:spPr>
          <a:xfrm>
            <a:off x="496800" y="6324480"/>
            <a:ext cx="378000" cy="378000"/>
          </a:xfrm>
          <a:prstGeom prst="rect">
            <a:avLst/>
          </a:prstGeom>
          <a:ln w="0">
            <a:noFill/>
          </a:ln>
        </p:spPr>
      </p:pic>
      <p:pic>
        <p:nvPicPr>
          <p:cNvPr id="173" name="hold" descr=""/>
          <p:cNvPicPr/>
          <p:nvPr/>
        </p:nvPicPr>
        <p:blipFill>
          <a:blip r:embed="rId4"/>
          <a:stretch/>
        </p:blipFill>
        <p:spPr>
          <a:xfrm>
            <a:off x="533520" y="6616800"/>
            <a:ext cx="323640" cy="323640"/>
          </a:xfrm>
          <a:prstGeom prst="rect">
            <a:avLst/>
          </a:prstGeom>
          <a:ln w="0">
            <a:noFill/>
          </a:ln>
        </p:spPr>
      </p:pic>
      <p:pic>
        <p:nvPicPr>
          <p:cNvPr id="174" name="trans" descr=""/>
          <p:cNvPicPr/>
          <p:nvPr/>
        </p:nvPicPr>
        <p:blipFill>
          <a:blip r:embed="rId5"/>
          <a:stretch/>
        </p:blipFill>
        <p:spPr>
          <a:xfrm>
            <a:off x="488880" y="1515960"/>
            <a:ext cx="428760" cy="314280"/>
          </a:xfrm>
          <a:prstGeom prst="rect">
            <a:avLst/>
          </a:prstGeom>
          <a:ln w="0">
            <a:noFill/>
          </a:ln>
        </p:spPr>
      </p:pic>
      <p:pic>
        <p:nvPicPr>
          <p:cNvPr id="175" name="trans" descr=""/>
          <p:cNvPicPr/>
          <p:nvPr/>
        </p:nvPicPr>
        <p:blipFill>
          <a:blip r:embed="rId6"/>
          <a:stretch/>
        </p:blipFill>
        <p:spPr>
          <a:xfrm>
            <a:off x="488880" y="5970600"/>
            <a:ext cx="428760" cy="314280"/>
          </a:xfrm>
          <a:prstGeom prst="rect">
            <a:avLst/>
          </a:prstGeom>
          <a:ln w="0">
            <a:noFill/>
          </a:ln>
        </p:spPr>
      </p:pic>
      <p:pic>
        <p:nvPicPr>
          <p:cNvPr id="176" name="mon" descr=""/>
          <p:cNvPicPr/>
          <p:nvPr/>
        </p:nvPicPr>
        <p:blipFill>
          <a:blip r:embed="rId7"/>
          <a:stretch/>
        </p:blipFill>
        <p:spPr>
          <a:xfrm>
            <a:off x="561960" y="6939000"/>
            <a:ext cx="262080" cy="25236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4917960" y="4170240"/>
            <a:ext cx="416160" cy="2992680"/>
          </a:xfrm>
          <a:custGeom>
            <a:avLst/>
            <a:gdLst>
              <a:gd name="textAreaLeft" fmla="*/ 20160 w 416160"/>
              <a:gd name="textAreaRight" fmla="*/ 396000 w 416160"/>
              <a:gd name="textAreaTop" fmla="*/ 20160 h 2992680"/>
              <a:gd name="textAreaBottom" fmla="*/ 2972520 h 2992680"/>
            </a:gdLst>
            <a:ahLst/>
            <a:rect l="textAreaLeft" t="textAreaTop" r="textAreaRight" b="textAreaBottom"/>
            <a:pathLst>
              <a:path w="21600" h="155214">
                <a:moveTo>
                  <a:pt x="3600" y="0"/>
                </a:moveTo>
                <a:arcTo wR="3600" hR="3600" stAng="16200000" swAng="-5400000"/>
                <a:lnTo>
                  <a:pt x="0" y="151614"/>
                </a:lnTo>
                <a:arcTo wR="3600" hR="3600" stAng="10800000" swAng="-5400000"/>
                <a:lnTo>
                  <a:pt x="18000" y="15521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870440" y="4883040"/>
            <a:ext cx="347760" cy="17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entury Gothic"/>
              </a:rPr>
              <a:t>Hotel Operation(LDK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375480" y="793800"/>
            <a:ext cx="21366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oom Charge Display &amp; Print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94560" y="1066680"/>
            <a:ext cx="439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hen a guest checks out or asks for the status of their bill, then it is possible to either displa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current bill on the LCD of the phone or print it out.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066680" y="1555920"/>
            <a:ext cx="4038840" cy="7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To show the current total bill for the guest in the attendant display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RANS/PGM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# 2 1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Room Number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display will show the following information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066680" y="1542960"/>
            <a:ext cx="0" cy="166068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05440" y="1374840"/>
            <a:ext cx="4078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Butt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235240" y="1374840"/>
            <a:ext cx="6030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rocedur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80880" y="1541520"/>
            <a:ext cx="4419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295280" y="2313000"/>
            <a:ext cx="1676520" cy="317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Times New Roman"/>
                <a:ea typeface="바탕체"/>
              </a:rPr>
              <a:t>  </a:t>
            </a: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바탕체"/>
              </a:rPr>
              <a:t>TOTAL ROOM CHAR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바탕체"/>
              </a:rPr>
              <a:t>  </a:t>
            </a: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바탕체"/>
              </a:rPr>
              <a:t>115 (01)                               60.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191400" y="2409840"/>
            <a:ext cx="8924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바탕체"/>
              </a:rPr>
              <a:t>Total room char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948040" y="25066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055160" y="2698920"/>
            <a:ext cx="374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o print out the total charges without any details, 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OLD/SAV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o print out the total bill for a room, 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#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 and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OLD/SAVE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071720" y="3917880"/>
            <a:ext cx="3873240" cy="7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To print out the Room Status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RANS/PGM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# 2 2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the range of Room Numbers to be print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OLD/SAV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071720" y="3905280"/>
            <a:ext cx="0" cy="89856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10480" y="3736800"/>
            <a:ext cx="4078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Butt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239920" y="3736800"/>
            <a:ext cx="6030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rocedur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5920" y="3903840"/>
            <a:ext cx="4419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80880" y="3495600"/>
            <a:ext cx="4407120" cy="228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inting a Guest's Room Stat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01760" y="5329080"/>
            <a:ext cx="418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f you do not want guests to be able to dial each other unless they are transferred by the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ttendant then, it is possible to block single or multiple rooms.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5791320"/>
            <a:ext cx="4038840" cy="14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To enable intercom calls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RANS/PGM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# 3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the range of Room Number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OLD/SAV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To disable intercom calls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RANS/PGM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# 3 2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the range of Room Number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OLD/SAV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5778360"/>
            <a:ext cx="0" cy="166068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05440" y="5610240"/>
            <a:ext cx="4078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Butt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35240" y="5610240"/>
            <a:ext cx="6030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rocedur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5776920"/>
            <a:ext cx="4419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80880" y="5092560"/>
            <a:ext cx="4407120" cy="228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tercom Call Enable/Disab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hold" descr=""/>
          <p:cNvPicPr/>
          <p:nvPr/>
        </p:nvPicPr>
        <p:blipFill>
          <a:blip r:embed="rId1"/>
          <a:stretch/>
        </p:blipFill>
        <p:spPr>
          <a:xfrm>
            <a:off x="525600" y="2724120"/>
            <a:ext cx="323640" cy="324000"/>
          </a:xfrm>
          <a:prstGeom prst="rect">
            <a:avLst/>
          </a:prstGeom>
          <a:ln w="0">
            <a:noFill/>
          </a:ln>
        </p:spPr>
      </p:pic>
      <p:pic>
        <p:nvPicPr>
          <p:cNvPr id="204" name="hold" descr=""/>
          <p:cNvPicPr/>
          <p:nvPr/>
        </p:nvPicPr>
        <p:blipFill>
          <a:blip r:embed="rId2"/>
          <a:stretch/>
        </p:blipFill>
        <p:spPr>
          <a:xfrm>
            <a:off x="533520" y="4403880"/>
            <a:ext cx="323640" cy="323640"/>
          </a:xfrm>
          <a:prstGeom prst="rect">
            <a:avLst/>
          </a:prstGeom>
          <a:ln w="0">
            <a:noFill/>
          </a:ln>
        </p:spPr>
      </p:pic>
      <p:pic>
        <p:nvPicPr>
          <p:cNvPr id="205" name="hold" descr=""/>
          <p:cNvPicPr/>
          <p:nvPr/>
        </p:nvPicPr>
        <p:blipFill>
          <a:blip r:embed="rId3"/>
          <a:stretch/>
        </p:blipFill>
        <p:spPr>
          <a:xfrm>
            <a:off x="525600" y="6281640"/>
            <a:ext cx="323640" cy="324000"/>
          </a:xfrm>
          <a:prstGeom prst="rect">
            <a:avLst/>
          </a:prstGeom>
          <a:ln w="0">
            <a:noFill/>
          </a:ln>
        </p:spPr>
      </p:pic>
      <p:pic>
        <p:nvPicPr>
          <p:cNvPr id="206" name="trans" descr=""/>
          <p:cNvPicPr/>
          <p:nvPr/>
        </p:nvPicPr>
        <p:blipFill>
          <a:blip r:embed="rId4"/>
          <a:stretch/>
        </p:blipFill>
        <p:spPr>
          <a:xfrm>
            <a:off x="488880" y="1600200"/>
            <a:ext cx="428760" cy="314280"/>
          </a:xfrm>
          <a:prstGeom prst="rect">
            <a:avLst/>
          </a:prstGeom>
          <a:ln w="0">
            <a:noFill/>
          </a:ln>
        </p:spPr>
      </p:pic>
      <p:pic>
        <p:nvPicPr>
          <p:cNvPr id="207" name="trans" descr=""/>
          <p:cNvPicPr/>
          <p:nvPr/>
        </p:nvPicPr>
        <p:blipFill>
          <a:blip r:embed="rId5"/>
          <a:stretch/>
        </p:blipFill>
        <p:spPr>
          <a:xfrm>
            <a:off x="488880" y="3970440"/>
            <a:ext cx="428760" cy="314280"/>
          </a:xfrm>
          <a:prstGeom prst="rect">
            <a:avLst/>
          </a:prstGeom>
          <a:ln w="0">
            <a:noFill/>
          </a:ln>
        </p:spPr>
      </p:pic>
      <p:pic>
        <p:nvPicPr>
          <p:cNvPr id="208" name="trans" descr=""/>
          <p:cNvPicPr/>
          <p:nvPr/>
        </p:nvPicPr>
        <p:blipFill>
          <a:blip r:embed="rId6"/>
          <a:stretch/>
        </p:blipFill>
        <p:spPr>
          <a:xfrm>
            <a:off x="488880" y="5842080"/>
            <a:ext cx="428760" cy="314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394920" y="1042920"/>
            <a:ext cx="4453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By guest's request, system attendant can enable one-time CO call to intercom only station. 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this time, calling station's COS is temporally changed to charged station's COS. The guest ca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make only one external call for request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066680" y="1650960"/>
            <a:ext cx="4038840" cy="94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ko-KR" sz="900" spc="-1" strike="noStrike">
                <a:solidFill>
                  <a:srgbClr val="000000"/>
                </a:solidFill>
                <a:latin typeface="Arial"/>
              </a:rPr>
              <a:t>To enable one-time outside call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1" lang="ko-KR" sz="800" spc="-1" strike="noStrike">
                <a:solidFill>
                  <a:srgbClr val="000000"/>
                </a:solidFill>
                <a:latin typeface="Arial"/>
              </a:rPr>
              <a:t>TRANS/PGM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Dial </a:t>
            </a:r>
            <a:r>
              <a:rPr b="1" lang="ko-KR" sz="800" spc="-1" strike="noStrike">
                <a:solidFill>
                  <a:srgbClr val="000000"/>
                </a:solidFill>
                <a:latin typeface="Arial"/>
              </a:rPr>
              <a:t># 4 3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Dial the room number that the call will be made from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Dial the room number that the call will be charged to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1" lang="ko-KR" sz="800" spc="-1" strike="noStrike">
                <a:solidFill>
                  <a:srgbClr val="000000"/>
                </a:solidFill>
                <a:latin typeface="Arial"/>
              </a:rPr>
              <a:t>HOLD/SAVE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066680" y="1639800"/>
            <a:ext cx="0" cy="105084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05440" y="1471680"/>
            <a:ext cx="4078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Butt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35240" y="1471680"/>
            <a:ext cx="6030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rocedur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80880" y="1638360"/>
            <a:ext cx="4419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066680" y="3657600"/>
            <a:ext cx="3873600" cy="94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ko-KR" sz="900" spc="-1" strike="noStrike">
                <a:solidFill>
                  <a:srgbClr val="000000"/>
                </a:solidFill>
                <a:latin typeface="Arial"/>
              </a:rPr>
              <a:t>To set the LCD language type by Attendant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1" lang="ko-KR" sz="800" spc="-1" strike="noStrike">
                <a:solidFill>
                  <a:srgbClr val="000000"/>
                </a:solidFill>
                <a:latin typeface="Arial"/>
              </a:rPr>
              <a:t>TRANS/PGM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Dial  </a:t>
            </a:r>
            <a:r>
              <a:rPr b="1" lang="ko-KR" sz="800" spc="-1" strike="noStrike">
                <a:solidFill>
                  <a:srgbClr val="000000"/>
                </a:solidFill>
                <a:latin typeface="Arial"/>
              </a:rPr>
              <a:t>0 7 *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Dial the range of room number to be chang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Dial the language code (00~14)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1" lang="ko-KR" sz="800" spc="-1" strike="noStrike">
                <a:solidFill>
                  <a:srgbClr val="000000"/>
                </a:solidFill>
                <a:latin typeface="Arial"/>
              </a:rPr>
              <a:t>HOLD/SAVE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066680" y="3637080"/>
            <a:ext cx="0" cy="245880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5440" y="3468600"/>
            <a:ext cx="4078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Butt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235240" y="3468600"/>
            <a:ext cx="6030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rocedur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80880" y="3635280"/>
            <a:ext cx="4419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05000" y="3132000"/>
            <a:ext cx="449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바탕체"/>
              </a:rPr>
              <a:t>This feature enables to change the LCD Language of any room by attendant. When Check-Out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바탕체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바탕체"/>
              </a:rPr>
              <a:t>the room's LCD language goes to the same language as FRONT DESK LCD language.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96720" y="2882880"/>
            <a:ext cx="4407120" cy="228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hange LCD Display Langua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81960" y="790560"/>
            <a:ext cx="1707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ne-Time CO Call Enab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139760" y="4535640"/>
            <a:ext cx="2743200" cy="75852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066680" y="4495680"/>
            <a:ext cx="3873600" cy="12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Language Cod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00: English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01: Italian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02: Finnis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03: Dutch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04: Swedish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05: Danis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06: Norwegian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07: Hebrew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08: German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09: French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: Portugues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1: Spanish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2: Korean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3: Estonia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4: Russia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i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800" spc="-1" strike="noStrike">
                <a:solidFill>
                  <a:srgbClr val="000000"/>
                </a:solidFill>
                <a:latin typeface="Arial"/>
              </a:rPr>
              <a:t>(For the other stati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RANS/PGM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 and dial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7 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CD language toggle changing feature (English / Domestic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5" name="hold" descr=""/>
          <p:cNvPicPr/>
          <p:nvPr/>
        </p:nvPicPr>
        <p:blipFill>
          <a:blip r:embed="rId1"/>
          <a:stretch/>
        </p:blipFill>
        <p:spPr>
          <a:xfrm>
            <a:off x="533520" y="2238480"/>
            <a:ext cx="323640" cy="323640"/>
          </a:xfrm>
          <a:prstGeom prst="rect">
            <a:avLst/>
          </a:prstGeom>
          <a:ln w="0">
            <a:noFill/>
          </a:ln>
        </p:spPr>
      </p:pic>
      <p:pic>
        <p:nvPicPr>
          <p:cNvPr id="226" name="hold" descr=""/>
          <p:cNvPicPr/>
          <p:nvPr/>
        </p:nvPicPr>
        <p:blipFill>
          <a:blip r:embed="rId2"/>
          <a:stretch/>
        </p:blipFill>
        <p:spPr>
          <a:xfrm>
            <a:off x="533520" y="4229280"/>
            <a:ext cx="323640" cy="323640"/>
          </a:xfrm>
          <a:prstGeom prst="rect">
            <a:avLst/>
          </a:prstGeom>
          <a:ln w="0">
            <a:noFill/>
          </a:ln>
        </p:spPr>
      </p:pic>
      <p:pic>
        <p:nvPicPr>
          <p:cNvPr id="227" name="trans" descr=""/>
          <p:cNvPicPr/>
          <p:nvPr/>
        </p:nvPicPr>
        <p:blipFill>
          <a:blip r:embed="rId3"/>
          <a:stretch/>
        </p:blipFill>
        <p:spPr>
          <a:xfrm>
            <a:off x="488880" y="1719360"/>
            <a:ext cx="428760" cy="314280"/>
          </a:xfrm>
          <a:prstGeom prst="rect">
            <a:avLst/>
          </a:prstGeom>
          <a:ln w="0">
            <a:noFill/>
          </a:ln>
        </p:spPr>
      </p:pic>
      <p:pic>
        <p:nvPicPr>
          <p:cNvPr id="228" name="trans" descr=""/>
          <p:cNvPicPr/>
          <p:nvPr/>
        </p:nvPicPr>
        <p:blipFill>
          <a:blip r:embed="rId4"/>
          <a:stretch/>
        </p:blipFill>
        <p:spPr>
          <a:xfrm>
            <a:off x="488880" y="3718080"/>
            <a:ext cx="428760" cy="31428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4917960" y="4170240"/>
            <a:ext cx="416160" cy="2992680"/>
          </a:xfrm>
          <a:custGeom>
            <a:avLst/>
            <a:gdLst>
              <a:gd name="textAreaLeft" fmla="*/ 20160 w 416160"/>
              <a:gd name="textAreaRight" fmla="*/ 396000 w 416160"/>
              <a:gd name="textAreaTop" fmla="*/ 20160 h 2992680"/>
              <a:gd name="textAreaBottom" fmla="*/ 2972520 h 2992680"/>
            </a:gdLst>
            <a:ahLst/>
            <a:rect l="textAreaLeft" t="textAreaTop" r="textAreaRight" b="textAreaBottom"/>
            <a:pathLst>
              <a:path w="21600" h="155214">
                <a:moveTo>
                  <a:pt x="3600" y="0"/>
                </a:moveTo>
                <a:arcTo wR="3600" hR="3600" stAng="16200000" swAng="-5400000"/>
                <a:lnTo>
                  <a:pt x="0" y="151614"/>
                </a:lnTo>
                <a:arcTo wR="3600" hR="3600" stAng="10800000" swAng="-5400000"/>
                <a:lnTo>
                  <a:pt x="18000" y="15521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870440" y="4883040"/>
            <a:ext cx="347760" cy="17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entury Gothic"/>
              </a:rPr>
              <a:t>Hotel Operation(LDK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365400" y="793800"/>
            <a:ext cx="8564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ath Alar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97080" y="1058760"/>
            <a:ext cx="4415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system has a facility which can be used to ensure that the front desk is notified when the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uest is in trouble. If the handset is left off-hook for a period of time then, an alarm will ring a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ception and the Front Desk staff can take appropriate action.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66680" y="1698480"/>
            <a:ext cx="3873600" cy="15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To set bath alarm device from System Attendant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RANS/PGM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# 7 1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the station range to be set the bath alarm devic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OLD/SAV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To release bath alarm device from System Attendant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RANS/PGM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# 7 2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the station range to be release the bath alarm devic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OLD/SAV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66680" y="1685880"/>
            <a:ext cx="0" cy="166680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05440" y="1517760"/>
            <a:ext cx="4078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Butt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235240" y="1517760"/>
            <a:ext cx="6030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rocedur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80880" y="1684440"/>
            <a:ext cx="4419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050840" y="4484520"/>
            <a:ext cx="4038840" cy="9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To register 'Cleaned' at a guest station by maid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RANS/PGM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7 *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To register 'Dirty (To Be Cleaned)' at a guest station by maid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RANS/PGM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7 #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050840" y="4456080"/>
            <a:ext cx="0" cy="270684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89600" y="4287960"/>
            <a:ext cx="4078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Butt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219400" y="4287960"/>
            <a:ext cx="6030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rocedur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65040" y="4454640"/>
            <a:ext cx="4419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86280" y="3870360"/>
            <a:ext cx="4400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nce a guest has checked out of a room, the maid status is automatically changed to 'Dirty'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refore, when the maid has finished cleaning the room, he/she can change the maid statu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o 'Clean' from the guest's extension.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96720" y="3629160"/>
            <a:ext cx="4407120" cy="228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aid Stat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066680" y="5530680"/>
            <a:ext cx="4038840" cy="7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To register 'Cleaned' by system attendant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RANS/PGM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# 8 1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nter the room rang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OLD/SAV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066680" y="6308640"/>
            <a:ext cx="4038840" cy="7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To register 'Dirty (To Be Cleaned)' by system attendant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RANS/PGM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# 8 2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nter the room rang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OLD/SAV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7" name="hold" descr=""/>
          <p:cNvPicPr/>
          <p:nvPr/>
        </p:nvPicPr>
        <p:blipFill>
          <a:blip r:embed="rId1"/>
          <a:stretch/>
        </p:blipFill>
        <p:spPr>
          <a:xfrm>
            <a:off x="517680" y="2190600"/>
            <a:ext cx="323640" cy="324000"/>
          </a:xfrm>
          <a:prstGeom prst="rect">
            <a:avLst/>
          </a:prstGeom>
          <a:ln w="0">
            <a:noFill/>
          </a:ln>
        </p:spPr>
      </p:pic>
      <p:pic>
        <p:nvPicPr>
          <p:cNvPr id="248" name="hold" descr=""/>
          <p:cNvPicPr/>
          <p:nvPr/>
        </p:nvPicPr>
        <p:blipFill>
          <a:blip r:embed="rId2"/>
          <a:stretch/>
        </p:blipFill>
        <p:spPr>
          <a:xfrm>
            <a:off x="501480" y="6799320"/>
            <a:ext cx="324000" cy="323640"/>
          </a:xfrm>
          <a:prstGeom prst="rect">
            <a:avLst/>
          </a:prstGeom>
          <a:ln w="0">
            <a:noFill/>
          </a:ln>
        </p:spPr>
      </p:pic>
      <p:pic>
        <p:nvPicPr>
          <p:cNvPr id="249" name="trans" descr=""/>
          <p:cNvPicPr/>
          <p:nvPr/>
        </p:nvPicPr>
        <p:blipFill>
          <a:blip r:embed="rId3"/>
          <a:stretch/>
        </p:blipFill>
        <p:spPr>
          <a:xfrm>
            <a:off x="488880" y="1773360"/>
            <a:ext cx="428760" cy="314280"/>
          </a:xfrm>
          <a:prstGeom prst="rect">
            <a:avLst/>
          </a:prstGeom>
          <a:ln w="0">
            <a:noFill/>
          </a:ln>
        </p:spPr>
      </p:pic>
      <p:pic>
        <p:nvPicPr>
          <p:cNvPr id="250" name="trans" descr=""/>
          <p:cNvPicPr/>
          <p:nvPr/>
        </p:nvPicPr>
        <p:blipFill>
          <a:blip r:embed="rId4"/>
          <a:stretch/>
        </p:blipFill>
        <p:spPr>
          <a:xfrm>
            <a:off x="488880" y="4530600"/>
            <a:ext cx="428760" cy="314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413280" y="797040"/>
            <a:ext cx="207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gister Bar &amp; Mini-Bar Char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066680" y="1673280"/>
            <a:ext cx="40388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To register bar charge at Service Station or mini-bar charge at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System Attendant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RANS/PGM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# 6 4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 (at Service Station: Dial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7 9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room number of guests to be charg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Product Code (2 digits)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Product Cost (up to 6 digits)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PEED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OLD/SAVE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066680" y="1660680"/>
            <a:ext cx="0" cy="135540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05440" y="1492200"/>
            <a:ext cx="4078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Butt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235240" y="1492200"/>
            <a:ext cx="6030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rocedur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80880" y="1658880"/>
            <a:ext cx="4419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01760" y="1058760"/>
            <a:ext cx="4414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uest may pay for charge at service station or mini-bar in time of check-out. Bar terminal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perator registers guest's charge using the following procedure. Mini-bar charge of each roo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registered by system attendant (Front Desk service station) and service station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066680" y="4132440"/>
            <a:ext cx="4038840" cy="94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To set Room to Room Call Group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RANS/PGM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# 4 1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Group Number (00~99)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the room rang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OLD/SAV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o remove from group as above, dial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# 4 2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after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RANS/PGM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066680" y="4111560"/>
            <a:ext cx="0" cy="115884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05440" y="3943440"/>
            <a:ext cx="4078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Butt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35240" y="3943440"/>
            <a:ext cx="6030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rocedur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80880" y="4110120"/>
            <a:ext cx="4419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03920" y="3510000"/>
            <a:ext cx="4476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f you wish to split the hotel rooms into groups for internal calls, this can be done from syst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ttendant. Once the groups have been set up then only guests in the same group can call eac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ther internally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96720" y="3284640"/>
            <a:ext cx="4407120" cy="228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oom to Room Call Grou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066680" y="6307200"/>
            <a:ext cx="403884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To assign room rate at the system attendant,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RANS/PGM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# 5 1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nter the room rate bin no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nter room cost and nam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OLD/SAVE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066680" y="6284880"/>
            <a:ext cx="0" cy="103032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05440" y="6116760"/>
            <a:ext cx="4078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Butt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235240" y="6116760"/>
            <a:ext cx="6030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rocedur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80880" y="6283440"/>
            <a:ext cx="4419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96360" y="5683320"/>
            <a:ext cx="4481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is feature allows the system attendant to assign room rate among 20 different ones to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vidual rooms. This information is included in the Total Room Charge Bill which is printed ou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n the SMDR and on check-out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80880" y="5450040"/>
            <a:ext cx="4407120" cy="228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oom Rate Assig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2" name="speed" descr=""/>
          <p:cNvPicPr/>
          <p:nvPr/>
        </p:nvPicPr>
        <p:blipFill>
          <a:blip r:embed="rId1"/>
          <a:stretch/>
        </p:blipFill>
        <p:spPr>
          <a:xfrm>
            <a:off x="504720" y="2459160"/>
            <a:ext cx="378000" cy="377640"/>
          </a:xfrm>
          <a:prstGeom prst="rect">
            <a:avLst/>
          </a:prstGeom>
          <a:ln w="0">
            <a:noFill/>
          </a:ln>
        </p:spPr>
      </p:pic>
      <p:pic>
        <p:nvPicPr>
          <p:cNvPr id="273" name="hold" descr=""/>
          <p:cNvPicPr/>
          <p:nvPr/>
        </p:nvPicPr>
        <p:blipFill>
          <a:blip r:embed="rId2"/>
          <a:stretch/>
        </p:blipFill>
        <p:spPr>
          <a:xfrm>
            <a:off x="525600" y="2724120"/>
            <a:ext cx="323640" cy="324000"/>
          </a:xfrm>
          <a:prstGeom prst="rect">
            <a:avLst/>
          </a:prstGeom>
          <a:ln w="0">
            <a:noFill/>
          </a:ln>
        </p:spPr>
      </p:pic>
      <p:pic>
        <p:nvPicPr>
          <p:cNvPr id="274" name="hold" descr=""/>
          <p:cNvPicPr/>
          <p:nvPr/>
        </p:nvPicPr>
        <p:blipFill>
          <a:blip r:embed="rId3"/>
          <a:stretch/>
        </p:blipFill>
        <p:spPr>
          <a:xfrm>
            <a:off x="525600" y="4724280"/>
            <a:ext cx="323640" cy="324000"/>
          </a:xfrm>
          <a:prstGeom prst="rect">
            <a:avLst/>
          </a:prstGeom>
          <a:ln w="0">
            <a:noFill/>
          </a:ln>
        </p:spPr>
      </p:pic>
      <p:pic>
        <p:nvPicPr>
          <p:cNvPr id="275" name="hold" descr=""/>
          <p:cNvPicPr/>
          <p:nvPr/>
        </p:nvPicPr>
        <p:blipFill>
          <a:blip r:embed="rId4"/>
          <a:stretch/>
        </p:blipFill>
        <p:spPr>
          <a:xfrm>
            <a:off x="533520" y="6915240"/>
            <a:ext cx="323640" cy="323640"/>
          </a:xfrm>
          <a:prstGeom prst="rect">
            <a:avLst/>
          </a:prstGeom>
          <a:ln w="0">
            <a:noFill/>
          </a:ln>
        </p:spPr>
      </p:pic>
      <p:pic>
        <p:nvPicPr>
          <p:cNvPr id="276" name="trans" descr=""/>
          <p:cNvPicPr/>
          <p:nvPr/>
        </p:nvPicPr>
        <p:blipFill>
          <a:blip r:embed="rId5"/>
          <a:stretch/>
        </p:blipFill>
        <p:spPr>
          <a:xfrm>
            <a:off x="488880" y="1863720"/>
            <a:ext cx="428760" cy="314280"/>
          </a:xfrm>
          <a:prstGeom prst="rect">
            <a:avLst/>
          </a:prstGeom>
          <a:ln w="0">
            <a:noFill/>
          </a:ln>
        </p:spPr>
      </p:pic>
      <p:pic>
        <p:nvPicPr>
          <p:cNvPr id="277" name="trans" descr=""/>
          <p:cNvPicPr/>
          <p:nvPr/>
        </p:nvPicPr>
        <p:blipFill>
          <a:blip r:embed="rId6"/>
          <a:stretch/>
        </p:blipFill>
        <p:spPr>
          <a:xfrm>
            <a:off x="488880" y="4197240"/>
            <a:ext cx="428760" cy="314280"/>
          </a:xfrm>
          <a:prstGeom prst="rect">
            <a:avLst/>
          </a:prstGeom>
          <a:ln w="0">
            <a:noFill/>
          </a:ln>
        </p:spPr>
      </p:pic>
      <p:pic>
        <p:nvPicPr>
          <p:cNvPr id="278" name="trans" descr=""/>
          <p:cNvPicPr/>
          <p:nvPr/>
        </p:nvPicPr>
        <p:blipFill>
          <a:blip r:embed="rId7"/>
          <a:stretch/>
        </p:blipFill>
        <p:spPr>
          <a:xfrm>
            <a:off x="488880" y="6367320"/>
            <a:ext cx="428760" cy="31464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/>
          <p:nvPr/>
        </p:nvSpPr>
        <p:spPr>
          <a:xfrm>
            <a:off x="4917960" y="4170240"/>
            <a:ext cx="416160" cy="2992680"/>
          </a:xfrm>
          <a:custGeom>
            <a:avLst/>
            <a:gdLst>
              <a:gd name="textAreaLeft" fmla="*/ 20160 w 416160"/>
              <a:gd name="textAreaRight" fmla="*/ 396000 w 416160"/>
              <a:gd name="textAreaTop" fmla="*/ 20160 h 2992680"/>
              <a:gd name="textAreaBottom" fmla="*/ 2972520 h 2992680"/>
            </a:gdLst>
            <a:ahLst/>
            <a:rect l="textAreaLeft" t="textAreaTop" r="textAreaRight" b="textAreaBottom"/>
            <a:pathLst>
              <a:path w="21600" h="155214">
                <a:moveTo>
                  <a:pt x="3600" y="0"/>
                </a:moveTo>
                <a:arcTo wR="3600" hR="3600" stAng="16200000" swAng="-5400000"/>
                <a:lnTo>
                  <a:pt x="0" y="151614"/>
                </a:lnTo>
                <a:arcTo wR="3600" hR="3600" stAng="10800000" swAng="-5400000"/>
                <a:lnTo>
                  <a:pt x="18000" y="15521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870440" y="4883040"/>
            <a:ext cx="347760" cy="17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entury Gothic"/>
              </a:rPr>
              <a:t>Hotel Operation(LDK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11T07:41:16Z</dcterms:created>
  <dc:creator>황재희</dc:creator>
  <dc:description/>
  <dc:language>en-US</dc:language>
  <cp:lastModifiedBy>manual_temp</cp:lastModifiedBy>
  <cp:lastPrinted>2001-04-24T06:13:29Z</cp:lastPrinted>
  <dcterms:modified xsi:type="dcterms:W3CDTF">2004-11-01T05:31:34Z</dcterms:modified>
  <cp:revision>72</cp:revision>
  <dc:subject/>
  <dc:title>Hotel Operation</dc:title>
</cp:coreProperties>
</file>