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453-ECA1-4460-9972-9451C6A9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106-1806-42C0-98F3-B5455F39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FC1-1CFF-4EFD-86A9-BFD9B585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D85-89E8-4668-9E34-C3B2FBA0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96C-DD57-45CB-B1CE-751E805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E08-9996-427F-B12A-2E180FCE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4A6-C3B9-4496-B4FE-7401A7A0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56D-E37B-4F5A-8E4B-5C41BA4D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6F0-4C3A-4D77-B562-B622CE9A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C7F-AD78-47A5-9FDE-D6BE49E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D3A-7A3F-4FD8-A0F3-D74524D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0A8-519E-4449-8D5F-F5FD65E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63E7F1-0440-4B95-96E2-98B991D9B8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1190520"/>
            <a:ext cx="4740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ko-KR" sz="700" spc="-1" strike="noStrike">
                <a:solidFill>
                  <a:srgbClr val="969696"/>
                </a:solidFill>
                <a:latin typeface="Arial"/>
                <a:ea typeface="돋움"/>
              </a:rPr>
              <a:t>●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AL KEY TELEPHONE / Quick Reference Guide                                                 KD, KD/E, LKD S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13364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1603440"/>
            <a:ext cx="234936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ixed Feature Butt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FLASH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is used to terminate an outside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d re-seize dial tone without having to hang 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handset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PEED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provides you with access to spe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ing, save number redial and last number redia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RAN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(TRANSFER) button is used to transfer a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utside call from a station to anoth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ALLBK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(CALLBACK) button allows you to lea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 callback indication at a station that is busy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unattended, or in Do Not Distur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is used to establish conference cal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ND/FW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(Do Not Disturb/Forward) butto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llows you to forward your calls to anoth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estination, or make DND m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1363680"/>
            <a:ext cx="373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ick Reference Guide for Digital Key Telephon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7000" y="1724040"/>
            <a:ext cx="235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UTE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allows you to switch the built i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icrophone on or off when using the speakerph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r the handset microphone when using the handset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enables you to make a phone call wit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out lifting handset. It turns the telephone on and off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when using the speakerphon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OLD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button enables you to place an outside call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on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DIAL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allows you to make last number redial an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uto call number redial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▼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VOLUME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 ▲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ar allows you to adjust speakerphon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and handset volum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3301920"/>
            <a:ext cx="4478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3294000"/>
            <a:ext cx="260676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Forw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DND/FWD button and dial the desired Cal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Forward typ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0 : Follow me (not available 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1 :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2 : Busy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3 : 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4 : Busy/no answer cal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5 : Station off-n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6 : Incoming outside line to off-net (ATD onl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7 : DVU forward for no answer-1(after 4sec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8 : DVU forward for no answer-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after predefined tim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9 : DVU forward for busy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# : Cancel previous call forwar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tation number or press DSS button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tercom group where calls are forwarded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Confirmation tone is heard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 GDK-16/20W, only 1 DVIB forward is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DND/FOR + ‘7’: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VU forward for no answer/busy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n LDK-300/300E/100/24/20, Forward type 0~7 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5 : Station off-net, uncondition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 : Station off-net, no answ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7 : Incoming outside line to off-net (Sys. ATD only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To make Call forward to VMIB, press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key aft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</a:rPr>
              <a:t>dialing call forward type (1~4)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busy station, you may alert it to your call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receiving intercom busy tone, 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the las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git of called station number or press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consult with the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hang up to transfer the call, if an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onfe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the desired party (internal or outside). When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ed party answers, press CONF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dd next conference party by selecting anoth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utside line or intercom s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party answers, press CONF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l parties are connect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6840" y="3294000"/>
            <a:ext cx="234792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terminate a conferenc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conference initiator should be actively in th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ang up, or press CONF button to finish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nference (only for conference initiator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eaving a Message Waiting 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you dial a station that is unattended or in D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Not Disturb, you can leave a message wai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dic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desired intercom station. Busy tone o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DND tone is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CALLBK button. The called party’s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LED will flas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answer a Message Waiting Indicati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flashing CALLBK button and the station that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left message will be signaled with tone ringing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f called station does not answer, press the CALLB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button once to leave a messag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lacing an Outside Call on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line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 Once for system h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- Twice for exclusive hol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Reverse if hold preference is programmed to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system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 (in 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CO line call will be put on hold according to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old Preferen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he last dialed number on an outside line is sa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REDIAL button. O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In LDK-300/300E/100/24/20, each station with LCD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has 10 last dialed number directory.You may find a dialed number by pressing VOLUME key. And press HOLD/SAVE button to dial th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560" y="7543800"/>
            <a:ext cx="210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ote: The feature which is marked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s not available in GDK-16/20W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661360" y="1355760"/>
            <a:ext cx="441000" cy="1600200"/>
            <a:chOff x="5661360" y="1355760"/>
            <a:chExt cx="441000" cy="1600200"/>
          </a:xfrm>
        </p:grpSpPr>
        <p:sp>
          <p:nvSpPr>
            <p:cNvPr id="49" name=""/>
            <p:cNvSpPr/>
            <p:nvPr/>
          </p:nvSpPr>
          <p:spPr>
            <a:xfrm>
              <a:off x="5695920" y="1355760"/>
              <a:ext cx="406440" cy="1600200"/>
            </a:xfrm>
            <a:custGeom>
              <a:avLst/>
              <a:gdLst>
                <a:gd name="textAreaLeft" fmla="*/ 19800 w 406440"/>
                <a:gd name="textAreaRight" fmla="*/ 386640 w 406440"/>
                <a:gd name="textAreaTop" fmla="*/ 19800 h 1600200"/>
                <a:gd name="textAreaBottom" fmla="*/ 1580400 h 1600200"/>
              </a:gdLst>
              <a:ahLst/>
              <a:rect l="textAreaLeft" t="textAreaTop" r="textAreaRight" b="textAreaBottom"/>
              <a:pathLst>
                <a:path w="21600" h="84985">
                  <a:moveTo>
                    <a:pt x="3600" y="0"/>
                  </a:moveTo>
                  <a:arcTo wR="3600" hR="3600" stAng="16200000" swAng="-5400000"/>
                  <a:lnTo>
                    <a:pt x="0" y="81385"/>
                  </a:lnTo>
                  <a:arcTo wR="3600" hR="3600" stAng="10800000" swAng="-5400000"/>
                  <a:lnTo>
                    <a:pt x="18000" y="84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61360" y="1496880"/>
              <a:ext cx="3506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</a:rPr>
                <a:t>Quick Ref. Gui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600200"/>
            <a:ext cx="2530440" cy="70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you wish to save a number you dialed,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dialing the number of an outside party, kee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handset off-hoo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twic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dial a saved numbe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Call Trans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ile connected to an outside call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tation number or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You can select a screened or unscreened transfer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Screened Transf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at extension answers, announce the transf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nd hang up 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Unscreened Transf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extension begins to signal, hang 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o complete call transf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Storing Speed Dial Numb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 and then SPEE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speed number b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 Station Speed Number bin:00~19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0~099 (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01~20 :GDK-16(ver.1.0~3.0),GDK-20W(ver.1.0~2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01~19 :GDK-16(ver. 4.0),GDK-20W(ver.3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-  System Speed Number bin :200~999 (GDK-162)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Attendant programmed)      200~399 (GDK-FPII/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~99 (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4999 (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6999 (LDK-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3499 (LDK-100/2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2499 (LDK-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the phone numbers to be stor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 to save the number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erase an exiting speed bin,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 and then SPEED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speed number bin to be eras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Dialing a Speed Numb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SPEED button and dial the speed number bi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called party answers, pick up the hands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use speakerph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Voice Over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t is available when the station has been programm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ith voice over.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a busy keyset engaged in an internal 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xternal call is called through camp-on by a caller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OLD/SAVE button of busy keyset is flashing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fter tone, the busy keyset will be connected t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oth partie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Queuing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You see that a particular line is busy and want to b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laced on a list waiting for the first line in the grou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or station to become avail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 or 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he busy outside line button, specific 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button or DSS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ing CALLBK button, your CALLBK butt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s lighting and confirmation tone is hear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811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ang up or press MON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1560" y="1363680"/>
            <a:ext cx="3139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Quick Reference Guide for Digital Key Teleph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4656240"/>
            <a:ext cx="2187360" cy="32684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98760" y="4627440"/>
            <a:ext cx="26971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rect Station Select    100~399 (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0~1599 (LDK-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227 (L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~41     (LDK-2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~25     (LDK-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291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235 (G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177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100~115 (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Park 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GDK-162/LDK-300/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10 (GDK-100/LDK-1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08 (LDK-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601~605 (GDK-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all Wait (Camp-on)    TRANS/PGM + 8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tation Speed Dial       SPEED + bin no. (00~1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000~099 (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* 01~20 :GDK-16(ver. 1.0~3.0)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DK-20W(ver: 1.0~2.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ystem Speed Dial      SPEED + </a:t>
            </a: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in no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4999 (LDK-3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6999 (LDK-300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3499 (LDK-100/2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0~2499 (LDK-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~999 (GDK-16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00~399 (GDK-100/FPII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21~99     (GDK-16/20W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ll Call Page                4  9 (# 0 in GDK-16/20W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5 4 9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Universal Night Answer 6 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569 in LDK-300/300E/100/24/2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ast Number Redial      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8424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ave Number Redial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＊</a:t>
            </a: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PEED + #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7924680"/>
            <a:ext cx="1742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To erase a flexible button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the flexible button to be eras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79320" y="1596960"/>
            <a:ext cx="2335680" cy="30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To answer a queue request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When the busy outside line button, specific l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group button or DSS button returns to idle, yo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hear ringing and the queued line button flash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Lift handset and dial outside li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3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Attendant Clock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The attendant can set the Time/Date without enter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Admin. Programming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# 1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Date/Time. (YYMMDDHHm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there is no need to change date or time, press *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ke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In GDK-16/20W &amp; LDK-300/300E/100/24/20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Dial # 1 (0 4 1 in LDK-300/300E/100/24/20). </a:t>
            </a: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Date (YYMMDDHH) and press HOLD/SAV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Enter Time (HHmm) and 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If there is no need to change date or time, do not d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current date/time and 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Flexible Buttons Programm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TRANS/PGM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a flexible button to be programm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See the below chart and dial the desired cod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400" spc="-1" strike="noStrike">
                <a:solidFill>
                  <a:srgbClr val="000000"/>
                </a:solidFill>
                <a:latin typeface="Arial"/>
                <a:ea typeface="돋움"/>
              </a:rPr>
              <a:t>● 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Press HOLD/SAVE butt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08:04:16Z</dcterms:created>
  <dc:creator>황재희</dc:creator>
  <dc:description/>
  <dc:language>en-US</dc:language>
  <cp:lastModifiedBy>manual_temp</cp:lastModifiedBy>
  <cp:lastPrinted>2001-01-31T00:01:40Z</cp:lastPrinted>
  <dcterms:modified xsi:type="dcterms:W3CDTF">2004-11-03T01:54:49Z</dcterms:modified>
  <cp:revision>103</cp:revision>
  <dc:subject/>
  <dc:title>Quick Guide</dc:title>
</cp:coreProperties>
</file>