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3430588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69E6-CC96-4544-A385-7BD67420F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1360" y="1783080"/>
            <a:ext cx="30873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1360" y="4091760"/>
            <a:ext cx="30873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5925-999F-4A13-B226-7A5346FF4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1360" y="178308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53560" y="178308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1360" y="409176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753560" y="409176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353D-C204-47C8-9FF4-684153619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1360" y="1783080"/>
            <a:ext cx="993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5360" y="1783080"/>
            <a:ext cx="993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59360" y="1783080"/>
            <a:ext cx="993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71360" y="4091760"/>
            <a:ext cx="993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215360" y="4091760"/>
            <a:ext cx="993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2259360" y="4091760"/>
            <a:ext cx="993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08BC-1FCF-4E16-970C-81DE8E450D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71360" y="1783080"/>
            <a:ext cx="30873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C25B-05E3-436B-8220-E57ED0B35B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71360" y="1783080"/>
            <a:ext cx="30873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3B46-1144-4C34-B2F5-E729BCBC2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1360" y="1783080"/>
            <a:ext cx="150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753560" y="1783080"/>
            <a:ext cx="150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C11F-B9BF-4055-B94E-61F28AC83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168E-63F6-422B-8228-4178BF5BA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71360" y="303840"/>
            <a:ext cx="308736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F1C6-ECE6-4751-B30F-FE20C7903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1360" y="178308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753560" y="1783080"/>
            <a:ext cx="150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71360" y="409176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FFDB-236F-420D-9AFE-B00E382C7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1360" y="1783080"/>
            <a:ext cx="150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3560" y="178308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3560" y="409176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FAC8-0B17-42C7-B241-DA9F8373A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1360" y="269640"/>
            <a:ext cx="308736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1360" y="178308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3560" y="1783080"/>
            <a:ext cx="150660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1360" y="4091760"/>
            <a:ext cx="30873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3FA4-F60D-46FE-AFD0-D59583629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371600" y="7238520"/>
            <a:ext cx="7142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A7FE-5BA5-46E2-AEEB-A037833608F2}" type="slidenum">
              <a:rPr b="0" lang="en-US" sz="10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76320" y="20952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ant Safety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rcRect l="2040" t="12166" r="47681" b="77823"/>
          <a:stretch/>
        </p:blipFill>
        <p:spPr>
          <a:xfrm>
            <a:off x="324000" y="1093680"/>
            <a:ext cx="2819160" cy="8305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108000" y="514440"/>
            <a:ext cx="3200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prevent the unexpected danger or damage, please read this information before installing and repairing the phone. There are “Caution” and “Warning”, it means as follows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rcRect l="53682" t="13086" r="3061" b="78515"/>
          <a:stretch/>
        </p:blipFill>
        <p:spPr>
          <a:xfrm>
            <a:off x="581040" y="1957320"/>
            <a:ext cx="24256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rcRect l="12526" t="24827" r="10611" b="71062"/>
          <a:stretch/>
        </p:blipFill>
        <p:spPr>
          <a:xfrm>
            <a:off x="263520" y="2951280"/>
            <a:ext cx="2895480" cy="230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6454" t="28942" r="52040" b="2532"/>
          <a:stretch/>
        </p:blipFill>
        <p:spPr>
          <a:xfrm>
            <a:off x="152280" y="3257640"/>
            <a:ext cx="1470240" cy="358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rcRect l="55008" t="28942" r="4244" b="2532"/>
          <a:stretch/>
        </p:blipFill>
        <p:spPr>
          <a:xfrm>
            <a:off x="1752480" y="3274920"/>
            <a:ext cx="1444680" cy="358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F8F3-FDFE-45CE-8CCE-C3A88927B0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193680" y="685800"/>
            <a:ext cx="30448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cing an Outside Call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193680" y="990720"/>
            <a:ext cx="304488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, press OHD/Speaker or dial from live keypad.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desired number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193680" y="2057400"/>
            <a:ext cx="30448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cing an Intercom Call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193680" y="3016080"/>
            <a:ext cx="30448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cing an Outside Call on Hold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193680" y="3900600"/>
            <a:ext cx="30448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trieving a Outside Call on Hold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193680" y="4997520"/>
            <a:ext cx="3044880" cy="426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-directing an Incoming Cal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Call Pick-up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193680" y="6539040"/>
            <a:ext cx="30448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swering an Waiting Call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109440" y="22860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Fun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192960" y="2360520"/>
            <a:ext cx="2970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, press OHD/Speaker or dial from active keypa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number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97280" y="3321000"/>
            <a:ext cx="2858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le connected to an external call, press [HOLD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96920" y="4206960"/>
            <a:ext cx="282528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flashing flexible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calls will automatically recall after pre-defined tim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193320" y="5484960"/>
            <a:ext cx="28555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you hear another phone ringing in your area,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, press OHD/Speaker or dial from live keypa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extension number of the ringing stati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will be connected automatically to the caller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193680" y="6811920"/>
            <a:ext cx="289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flashing CO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682A-D598-49DB-B524-2ECB791AB8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109440" y="22860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Fun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206280" y="685800"/>
            <a:ext cx="30322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ll Wait (Camp-on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206280" y="990720"/>
            <a:ext cx="28958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receiving station busy tone, dial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＊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-on tone is heard in the called stati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called party answers, talk or hang up to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fer another call to the called party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206280" y="1752480"/>
            <a:ext cx="30322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st Number Redial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206280" y="2590920"/>
            <a:ext cx="30322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ring Station Speed Dial Numbers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206280" y="4002120"/>
            <a:ext cx="30322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ing Station Speed Dial Numbers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206280" y="4307040"/>
            <a:ext cx="28958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SPEED] button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desired speed dial bin number.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206280" y="4944960"/>
            <a:ext cx="30322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oup Call Pick-up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06280" y="5249880"/>
            <a:ext cx="29718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hearing an unattended phone ringing in your area,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5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will be connected automatically to the caller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you must be in the same pick-up group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206280" y="2057400"/>
            <a:ext cx="3222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, press OHD/Speaker or dial from active keypa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5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 press speed button + dial ‘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＊’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Hold/Save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206280" y="2895480"/>
            <a:ext cx="28958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TRANS/PGM] and [SPEED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speed bin number. Range (XXX-ZZZ)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speed dial number you wish to store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HOLD/SAVE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Enter the name associated to the number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HOLD/SAVE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will hear confirmation tone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43F7-B147-4F89-8111-2C82BB55C1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96840" y="228600"/>
            <a:ext cx="314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돋움"/>
              </a:rPr>
              <a:t>Code for Flexible Button Programming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06280" y="696960"/>
            <a:ext cx="30322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Register of Flexible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25000" r="0" b="0"/>
          <a:stretch/>
        </p:blipFill>
        <p:spPr>
          <a:xfrm>
            <a:off x="787320" y="1392120"/>
            <a:ext cx="505080" cy="262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72480" y="1219320"/>
            <a:ext cx="71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76240" y="1955880"/>
            <a:ext cx="298440" cy="212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rcRect l="0" t="25000" r="0" b="0"/>
          <a:stretch/>
        </p:blipFill>
        <p:spPr>
          <a:xfrm>
            <a:off x="797040" y="3852720"/>
            <a:ext cx="501480" cy="262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15320" y="3672000"/>
            <a:ext cx="67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277560" y="1365120"/>
            <a:ext cx="37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1400" spc="-1" strike="noStrike">
                <a:solidFill>
                  <a:srgbClr val="b2b2b2"/>
                </a:solidFill>
                <a:latin typeface="Impact"/>
                <a:ea typeface="MD개성체"/>
              </a:rPr>
              <a:t>1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286920" y="1879560"/>
            <a:ext cx="37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1400" spc="-1" strike="noStrike">
                <a:solidFill>
                  <a:srgbClr val="b2b2b2"/>
                </a:solidFill>
                <a:latin typeface="Impact"/>
                <a:ea typeface="MD개성체"/>
              </a:rPr>
              <a:t>2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1389960" y="1405080"/>
            <a:ext cx="154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the [Trans/Pgm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1390680" y="1943280"/>
            <a:ext cx="1396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Flexible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rcRect l="0" t="25000" r="0" b="0"/>
          <a:stretch/>
        </p:blipFill>
        <p:spPr>
          <a:xfrm>
            <a:off x="787320" y="2500200"/>
            <a:ext cx="505080" cy="263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72480" y="2330280"/>
            <a:ext cx="71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290160" y="2475000"/>
            <a:ext cx="37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1400" spc="-1" strike="noStrike">
                <a:solidFill>
                  <a:srgbClr val="b2b2b2"/>
                </a:solidFill>
                <a:latin typeface="Impact"/>
                <a:ea typeface="MD개성체"/>
              </a:rPr>
              <a:t>3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389960" y="2516040"/>
            <a:ext cx="154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the [Trans/Pgm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286920" y="3097080"/>
            <a:ext cx="37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1400" spc="-1" strike="noStrike">
                <a:solidFill>
                  <a:srgbClr val="b2b2b2"/>
                </a:solidFill>
                <a:latin typeface="Impact"/>
                <a:ea typeface="MD개성체"/>
              </a:rPr>
              <a:t>4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1392120" y="3137040"/>
            <a:ext cx="107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code number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838080" y="3048120"/>
            <a:ext cx="425520" cy="428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90160" y="3803760"/>
            <a:ext cx="37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1400" spc="-1" strike="noStrike">
                <a:solidFill>
                  <a:srgbClr val="b2b2b2"/>
                </a:solidFill>
                <a:latin typeface="Impact"/>
                <a:ea typeface="MD개성체"/>
              </a:rPr>
              <a:t>5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1391760" y="3841920"/>
            <a:ext cx="151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Hold/Save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AB9C-CA22-4A3A-A3EC-116E4E32C6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96840" y="228600"/>
            <a:ext cx="314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돋움"/>
              </a:rPr>
              <a:t>Code for Flexible Button Programming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206280" y="685800"/>
            <a:ext cx="3032280" cy="25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Button Assignment for LDP- 4N/4D, 8D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90080" y="1447920"/>
            <a:ext cx="12837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ONF button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BK button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ND/FWD  button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FLASH button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UTE  button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ON button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DIAL button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ing Typ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Enblock mode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Ear-Mic Headse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CM Ring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O Ring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OS Down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Walking CO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uth. Code Register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uth. Code Chang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et Wake-up Tim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et Pre-selected MSG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et Customer MSG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wo way Record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cord User Greeting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isten Time &amp; Dat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isten Station Number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isten Station Statu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cord Page MSG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Erase User Greeting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Erase Page MSG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CD Display Languag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ackground Music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gister Station Nam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peakerphone/Headse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eadset Ring Mod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ccount Cod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D Call Wai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CM Hold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OOP button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mp-on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 Log Button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ctivate CONF Ro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eactivate CONF Ro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046240" y="1447920"/>
            <a:ext cx="1143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9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9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9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9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9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96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97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1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/PGM + 1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/PGM + 17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18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19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2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2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3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3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4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5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5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/PGM + 5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6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6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6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6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6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66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67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7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7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7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7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76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8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/PGM + 8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8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8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8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57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4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/PGM + 4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190440" y="1144440"/>
            <a:ext cx="152424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1144440"/>
            <a:ext cx="133344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de Number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7EC9-3D43-409E-9B7D-2755F38770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6050" t="32876" r="53541" b="2109"/>
          <a:stretch/>
        </p:blipFill>
        <p:spPr>
          <a:xfrm>
            <a:off x="152280" y="3189240"/>
            <a:ext cx="1568520" cy="381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12526" t="24827" r="10611" b="71062"/>
          <a:stretch/>
        </p:blipFill>
        <p:spPr>
          <a:xfrm>
            <a:off x="262080" y="685800"/>
            <a:ext cx="2895480" cy="2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6050" t="5598" r="54681" b="71758"/>
          <a:stretch/>
        </p:blipFill>
        <p:spPr>
          <a:xfrm>
            <a:off x="152280" y="914400"/>
            <a:ext cx="1524240" cy="1327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12220" t="28383" r="12630" b="67186"/>
          <a:stretch/>
        </p:blipFill>
        <p:spPr>
          <a:xfrm>
            <a:off x="262080" y="2743200"/>
            <a:ext cx="2920680" cy="262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rcRect l="55090" t="32876" r="6459" b="2109"/>
          <a:stretch/>
        </p:blipFill>
        <p:spPr>
          <a:xfrm>
            <a:off x="1828800" y="3216240"/>
            <a:ext cx="1495440" cy="381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20952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ant Safety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4B41-443E-40A9-8304-DFA6D53EAE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6721" t="98277" r="42842" b="0"/>
          <a:stretch/>
        </p:blipFill>
        <p:spPr>
          <a:xfrm>
            <a:off x="279360" y="7075440"/>
            <a:ext cx="2825640" cy="14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12220" t="28383" r="12630" b="67186"/>
          <a:stretch/>
        </p:blipFill>
        <p:spPr>
          <a:xfrm>
            <a:off x="255600" y="654120"/>
            <a:ext cx="2921040" cy="260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6721" t="5743" r="53781" b="2983"/>
          <a:stretch/>
        </p:blipFill>
        <p:spPr>
          <a:xfrm>
            <a:off x="228600" y="1015920"/>
            <a:ext cx="1454040" cy="5079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rcRect l="54724" t="5743" r="2013" b="25782"/>
          <a:stretch/>
        </p:blipFill>
        <p:spPr>
          <a:xfrm>
            <a:off x="1758960" y="1015920"/>
            <a:ext cx="1593720" cy="3811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320" y="20952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ant Safety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7498-FE43-414D-AEB5-4FEA7DAF29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66760" y="954000"/>
            <a:ext cx="2819520" cy="178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3286080"/>
            <a:ext cx="2666880" cy="1743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5502240"/>
            <a:ext cx="2666880" cy="1736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6840" y="200160"/>
            <a:ext cx="2666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-7000 Series Mod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196560" y="3003480"/>
            <a:ext cx="92124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DP-7004D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96560" y="693720"/>
            <a:ext cx="92124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DP-7008D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196560" y="5211720"/>
            <a:ext cx="92124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DP-7004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2213-6E80-43F8-81CC-C26AA944AA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111240" y="206280"/>
            <a:ext cx="31273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/Output Devices and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198000" y="695160"/>
            <a:ext cx="92124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DP-7008D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196920" y="4578480"/>
            <a:ext cx="3047760" cy="2671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6920" y="4578480"/>
            <a:ext cx="380880" cy="26715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880" y="4600440"/>
            <a:ext cx="2481840" cy="26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LCD Display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Handset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Headphone Socket (Ear/Mic Mode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Speaker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Speaker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Hold/Save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Volume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Loop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Message Waiting LED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Dnd/Fwd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Call Back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Flexible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Speed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Trans/Pgm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Handsfree Microphone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6084" t="0" r="0" b="0"/>
          <a:stretch/>
        </p:blipFill>
        <p:spPr>
          <a:xfrm>
            <a:off x="428760" y="1338120"/>
            <a:ext cx="2571480" cy="2570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9800" y="120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99800" y="141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198360" y="238752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199800" y="255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199800" y="310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199800" y="331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99800" y="3549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2982600" y="178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2982600" y="1965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2928960" y="2962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2925720" y="3089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925720" y="3413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925720" y="2727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2925720" y="28479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2925720" y="3794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C8F7-D2A5-4037-BFA3-0D2AA0892B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216000" y="5410080"/>
            <a:ext cx="3028680" cy="1828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206280" y="5410080"/>
            <a:ext cx="304920" cy="1828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20200" y="5442120"/>
            <a:ext cx="2207520" cy="17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LCD Display (LDP-7004D only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Handset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Speaker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OHD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Hold/Save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Message Waiting LED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Trans/Pgm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Speed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Flexible Button(Loop Button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Volume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111240" y="206280"/>
            <a:ext cx="31273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/Output Devices and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198000" y="695160"/>
            <a:ext cx="92124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DP-7004D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5360" y="1521000"/>
            <a:ext cx="2438280" cy="2288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07720" y="1397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207720" y="160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207720" y="28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207720" y="344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207720" y="369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2916000" y="223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2916000" y="3029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2916000" y="3143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2916000" y="3267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2916000" y="33814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EFFE-7452-46DC-A7AE-0CCA8AB39A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1077840"/>
            <a:ext cx="2095560" cy="62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Used for handset call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The optional earphone into the handset to provide a hands-free phone conversation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Outputs tones and voice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Used to access speed dialing, speed programming, saved number redial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The DND (Do Not Disturb) feature blocks all incoming calls. When DND is active, the red LED in this button is illuminated.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 is also used to activate call forward, e.g. to another station or voicemail. When call forward is activated, the red LED flashes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button put a call on hold or save information whe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gramming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Speaker toggles the speakerphone state, and the red LED is illuminated when the speakerphone is active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 Hook Dial allows 7004N&amp;D users to dial and monitor call state without lifting the handset.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077840"/>
            <a:ext cx="1257480" cy="57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Handset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Earphone-Jack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Speed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Dnd/Fwd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Hold/Save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Speaker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OHD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90440" y="696960"/>
            <a:ext cx="99072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696960"/>
            <a:ext cx="194328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11240" y="206280"/>
            <a:ext cx="31273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/Output Devices and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86EB-6F19-46E8-8FF2-8D5C23E55A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228680" y="1111320"/>
            <a:ext cx="2100240" cy="64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ows dialed and incoming numbers (where applicable) and on the 7008D it will display other information about call status, dialing directories and message information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button is used to initiate a call transfer (TRS) or to enter programming mode (PGM)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last two (7004D/7004N) or six (7008D) flex buttons can be assigned outside line presentation or as one-touch feature access. (See codes at rear of guide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A station can initiate a call back request to a busy station. Once that station becomes idle, the initiating station is signal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The volume button adjusts the audio levels for ringing, handset and speakerphone or OHD functions 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Microphone for hands-free speakerphone function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op Button(s) are required for presentation of outside lines to the telephone.  At least one is required per telephone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1111320"/>
            <a:ext cx="1181160" cy="59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LCD Display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Trans/PGM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Flexible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Call back Button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Volume Butt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Hand-free Microphone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Loop Button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90440" y="696960"/>
            <a:ext cx="99072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696960"/>
            <a:ext cx="1943280" cy="25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111240" y="206280"/>
            <a:ext cx="31273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/Output Devices and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37F6-6271-4831-A528-9AB9FB8406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90440" y="209520"/>
            <a:ext cx="3048120" cy="3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667240" cy="2617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7480" y="2062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ble Conne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667960" y="3257640"/>
            <a:ext cx="31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90440" y="4267080"/>
            <a:ext cx="3048120" cy="2971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4343400"/>
            <a:ext cx="30099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ble conne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nect the  telephone cord (curly cord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 the handset and the other end to the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ndset jack at the bottom of the telephone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nect the line cable to the port at the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tom of telephone and the other end to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wall socket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onnect the Headphone to the headphone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ack on the left side of the telephone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As viewed from the front.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: 7004N and 7004D does not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support integral headphone mode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200240"/>
            <a:ext cx="31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2324160" y="1305000"/>
            <a:ext cx="31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B24C-F106-4E9E-AE92-A6D17DECAA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09:50:00Z</dcterms:created>
  <dc:creator>user</dc:creator>
  <dc:description/>
  <dc:language>en-US</dc:language>
  <cp:lastModifiedBy>user</cp:lastModifiedBy>
  <dcterms:modified xsi:type="dcterms:W3CDTF">2004-11-01T01:48:04Z</dcterms:modified>
  <cp:revision>45</cp:revision>
  <dc:subject/>
  <dc:title>PowerPoint 프레젠테이션</dc:title>
</cp:coreProperties>
</file>