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 Cy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ДЕЙСТВИЯ ОПЕРАТОРА СИСТЕМЫ         в системе GDK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54600" y="743256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5BA5A9B-22C4-4B47-B3BD-7C7CC14578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0280" y="792000"/>
            <a:ext cx="3358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активна, пока не будет отключен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39840"/>
            <a:ext cx="38098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зону станций. (6 цифр) Если одна, наберите номер дважд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время, после того, как услышите подтверждающий сигнал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HHMM=час и минуты) в 24-часовом режиме. (HH/час = 00~23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M/минуты = 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5360" y="1201680"/>
            <a:ext cx="0" cy="2189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8640" y="1201680"/>
            <a:ext cx="451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344680"/>
            <a:ext cx="3110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4 2. (Вы услышите подтверждающий сигнал 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зону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ерестанет мигать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3683160"/>
            <a:ext cx="444960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мешательство оператора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0160" y="4113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4275000"/>
            <a:ext cx="0" cy="1935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6160" y="4116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9480" y="4313160"/>
            <a:ext cx="364176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настроить мягкую кнопку для вызова этой функ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8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воспользоваться этой функцией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S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ой станции, на которую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хотите позвонить (Вы услышите короткие гудки)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ATD INTRUS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а такой станции будет слышен предупреждающий сигнал, посл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его будет установлена 3-сторонняя конферен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2000" y="3938760"/>
            <a:ext cx="3573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системы может вмешиваться в разговор по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8640" y="42670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1560" y="137160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25320" y="206208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01560" y="446256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25320" y="487692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45680" y="792000"/>
            <a:ext cx="3515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ей линии для исходящ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16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5360" y="1198440"/>
            <a:ext cx="0" cy="1125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76160" y="1039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39760" y="1238400"/>
            <a:ext cx="38703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блокировку на исходящие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перь кнопка внешней линии заблокирова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торите процедуры, чтобы отменить блокиров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680" y="26161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менение формата времени и да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0160" y="2894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25360" y="3056040"/>
            <a:ext cx="0" cy="1592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76160" y="2897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39760" y="3084480"/>
            <a:ext cx="40226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даты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ормат будет изменяться с  DDMMYY на MMDDYY и наоборо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YY : год, MM : месяц, DD : день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39760" y="3808440"/>
            <a:ext cx="364176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изменить формат времени на диспле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6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12-часовой или 24-часовой реж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3680" y="49687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0160" y="5246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5440" y="5249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9480" y="5446800"/>
            <a:ext cx="36417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7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нужного сообщения. (11~20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 с помощью указанных ниже кодов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25360" y="5415120"/>
            <a:ext cx="0" cy="1852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5920" y="6134040"/>
            <a:ext cx="2895480" cy="914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14920" y="615168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306072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8640" y="541332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8640" y="12002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1560" y="1397160"/>
            <a:ext cx="324000" cy="142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1560" y="321948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601560" y="396252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601560" y="552132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625320" y="591660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4240" y="792000"/>
            <a:ext cx="1838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аспечатка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0160" y="1065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76160" y="1068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9480" y="12556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5360" y="1233360"/>
            <a:ext cx="0" cy="1890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127240"/>
            <a:ext cx="39625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Об отчетных группа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1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ую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отчетную группу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Отчеты SMDR будут распечатаны с помощью принтера, подключен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 KSU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3680" y="345744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ирание отчетов SM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0160" y="3735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75440" y="3738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9480" y="393552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Стирание отчетов о станциях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5360" y="3903840"/>
            <a:ext cx="0" cy="2277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9480" y="463068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Стирание информации об отчетной группе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отчетной групп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Будут стерты отчеты SMDR о всех указанных станциях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58840" y="5326200"/>
            <a:ext cx="379404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Как узнать оплату за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*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8640" y="12254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640" y="389556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5320" y="1604880"/>
            <a:ext cx="276480" cy="220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5320" y="2438280"/>
            <a:ext cx="276480" cy="220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25320" y="4395960"/>
            <a:ext cx="276480" cy="220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25320" y="5081760"/>
            <a:ext cx="276480" cy="2203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625320" y="5691240"/>
            <a:ext cx="2764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46760" y="792000"/>
            <a:ext cx="283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(CO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1527120"/>
            <a:ext cx="3505320" cy="8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Включение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5360" y="1468440"/>
            <a:ext cx="0" cy="1579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4320" y="132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3840" y="3832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8640" y="148752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2360" y="1042920"/>
            <a:ext cx="4714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льзователь станции может временно изменить класс услуг, чтобы защитить себя от неав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ризованного пользования станции (Сначала необходимо установить 5-значный код доступ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2212920"/>
            <a:ext cx="37339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Отключение , функции временного изменения класса услуг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#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кажите разброс станц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030560"/>
            <a:ext cx="373392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# 4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DVU, наберите 0 1 для сообщения 1 , наберите 0 2 для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или 0 3 для сообщения 3. (Сообщение 3 воспроизводится, ес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занят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EDVU вам предлагается 31 (01~31) системно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~9 : для поиска или информации о компан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 : для неправильной информаци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 : для Timeout message (сообщение об окончании разговорного времен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 : для Try again message (попробуйте еще раз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 : для Transfer to attendant message  (перевод звонка на станцию операто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 : для Leave message (оставь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 : для Record message (запишите сообщени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 : для Enter authorization message (введите сообщение о разрешении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 : для MOH message (сообщение МОН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 : для Busy message (сообщение “занято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#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прослушаете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ишите сообщение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25360" y="1506600"/>
            <a:ext cx="0" cy="161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4320" y="3825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3840" y="132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8640" y="399240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3800" y="3633840"/>
            <a:ext cx="3010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и сообщения может записать только оператор системы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5360" y="3992400"/>
            <a:ext cx="0" cy="2570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3680" y="33465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иветствия, записанные в систем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8444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5320" y="200484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01560" y="4052880"/>
            <a:ext cx="324000" cy="14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625320" y="610560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440" y="792000"/>
            <a:ext cx="121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из траф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0160" y="2633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76160" y="2637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9480" y="2843280"/>
            <a:ext cx="364176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эту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1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ключить данную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2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распечатать результаты анализа траф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менить распечатку результат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# 7 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25360" y="2801880"/>
            <a:ext cx="0" cy="2379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020600"/>
            <a:ext cx="4419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истема будет отслеживать и записывать различную информацию о рабочих нагрузках (трафике), которую затем можно распечатать. С помощью этой информации можно определить, правильно ли работает систем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данная функция включена, то информация о работе системы будет записываться  до тех пор, пока не будет отключена. Информация о трафике направляется на порт RS232C. Информация о трафике бывает двух типов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 первому типу относится информация о том, сколько раз выполнялась та или иная операция. Информация имеет цифровые значение в пределах от  00000 до 99999. Ко второму типу относится информация о времени использования того или иного устройства, т.е. станций, внешних линий, ресиверов DTMF и т.д. Время использования дается в секундах от  00000 дo 99999. Данная информация накапливается со времени, когда функция была включена, и сбрасывается только после выключения функции или после того, как значения превысят указанные предел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6270480"/>
            <a:ext cx="3886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Чтобы включить/выключить дневной/ночной режим вручную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на станции оператор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4320" y="6064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3840" y="6064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8640" y="62308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080" y="5729400"/>
            <a:ext cx="462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нция оператора имеет ночной режим обслуживания, которая позволяет воспользова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ециальными функциями тем станциям, которые не имеют таких привилегий дне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575400"/>
            <a:ext cx="3962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Чтобы включать/выключать дневной/ночной режим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#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ДНЕВНОЕ + НОЧНОЕ ВРЕМЯ, или ДНЕВНОЕ + * или НОЧНОЕ + *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 формате HHMM (HH(часы) = 00~23, mm (минуты) =  00~59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25360" y="6230880"/>
            <a:ext cx="0" cy="1122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3680" y="54799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(ручной/автоматическ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8640" y="280656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1560" y="301608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5320" y="328140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560" y="6370560"/>
            <a:ext cx="324000" cy="139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601560" y="671832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25320" y="713592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0160" y="1344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75440" y="1328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9480" y="154476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25360" y="1512720"/>
            <a:ext cx="0" cy="633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040" y="1017720"/>
            <a:ext cx="4557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Группу номеров скоростного набора можно сохранить в системе. К ним будут иметь досту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олько определенные станции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41840" y="1671480"/>
            <a:ext cx="98388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DK-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200~2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3680" y="23749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0160" y="2805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76160" y="2808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9480" y="300528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ключить эту функ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музыкальный канал (0,1,2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5360" y="2973240"/>
            <a:ext cx="0" cy="912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3800" y="2630520"/>
            <a:ext cx="3380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выбрать источник музыкального канала для ICM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63680" y="41655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0160" y="4691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5440" y="4694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5360" y="4859280"/>
            <a:ext cx="0" cy="10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360" y="4421160"/>
            <a:ext cx="4577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отключить функции DND, CALL FORWARD и предварительны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ругой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36520" y="4894200"/>
            <a:ext cx="37710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удет мигать, а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удет гореть постоянно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*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разброс станций, на который вы хотите стереть сообщен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сигнал подтверждения и станция автоматически перейде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 ожида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3880" y="792000"/>
            <a:ext cx="2114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8640" y="150480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8640" y="297180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8640" y="48578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560" y="1647720"/>
            <a:ext cx="324000" cy="135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1560" y="313380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25320" y="3429000"/>
            <a:ext cx="274680" cy="220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01560" y="4921200"/>
            <a:ext cx="324000" cy="1429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25320" y="5376960"/>
            <a:ext cx="274680" cy="2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6480" y="792000"/>
            <a:ext cx="3830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с помощью кнопок D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8640" y="12016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1231920"/>
            <a:ext cx="380988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загоритс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5360" y="1201680"/>
            <a:ext cx="0" cy="66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3680" y="21081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общение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0160" y="2386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5440" y="2389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9480" y="258588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ажите свое сообще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5360" y="2554200"/>
            <a:ext cx="0" cy="798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3680" y="361944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внешнего звонка на другую станци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0160" y="3897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75440" y="3900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8840" y="4095720"/>
            <a:ext cx="39466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звонок по внешней линии. Нажмите кнопку прямого доступа DS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подождать, пока на звонок ответят, чтобы объявить о перевод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LE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25360" y="4065480"/>
            <a:ext cx="0" cy="735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3680" y="50101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рупповой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0160" y="5288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76160" y="5291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8640" y="54482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486400"/>
            <a:ext cx="379404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INTERCOM GROUP C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оединитесь со свободной станцией в групп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5360" y="5456160"/>
            <a:ext cx="0" cy="639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8000" y="6381720"/>
            <a:ext cx="456876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лучение доступа к телефону, который находится в режиме D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0160" y="66596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576160" y="6662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6858000"/>
            <a:ext cx="3794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прямого доступа DSS (Вы услышите гудки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VERRID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5360" y="6827760"/>
            <a:ext cx="0" cy="563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8640" y="254808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8640" y="407196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8640" y="6819840"/>
            <a:ext cx="449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78440" y="792000"/>
            <a:ext cx="168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1520" y="1119240"/>
            <a:ext cx="244800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становление внешних звонков .................…..4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пользователя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апрос в очереди 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 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 на ожидании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микрофона 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жидание 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06760" y="1119240"/>
            <a:ext cx="2523960" cy="43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DND .........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ставленные сообщения 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 34 Скоростной набор на станции 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...…..4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б ожидании ................................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9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анция DVU ...................................................… 4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внешнего звонка.........................…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звонка по интеркому  ..............…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Ф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Voice Over 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бор музыкального канала оператором 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тереть сообщение на станции 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Звонок по интеркому с помощью кнопок DSS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по интеркому 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рупповой звонок по интеркому 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оступ к станции в режиме DND 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мешательство оператора 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ей линии  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формата даты и времени 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аспечатка отчетов SMDR 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тирание отчетов SMDR  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ременное изменение класса услуг 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иветствия, записанные в системе 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нализ трафика 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Дневной/ночной режим обслуживания 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5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USER</dc:creator>
  <dc:description/>
  <dc:language>en-US</dc:language>
  <cp:lastModifiedBy>lg</cp:lastModifiedBy>
  <cp:lastPrinted>1998-03-04T11:35:14Z</cp:lastPrinted>
  <dcterms:modified xsi:type="dcterms:W3CDTF">1998-04-04T05:41:38Z</dcterms:modified>
  <cp:revision>38</cp:revision>
  <dc:subject/>
  <dc:title>ЅЅ¶уАМµе Б¦ёс ѕшАЅ</dc:title>
</cp:coreProperties>
</file>