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20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СИСТЕМА КНОПОЧНЫХ ТЕЛЕФОНОВ GHX / Руководство пользователя SLT      GHX-308A/616/36/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792000"/>
            <a:ext cx="4724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уководство пользователя терминала абонентской линии (SLT) GHX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6760" indent="-2667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1969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88840" indent="-1774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244520" indent="-177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  <a:tab algn="l" pos="9667800"/>
                <a:tab algn="l" pos="10128240"/>
                <a:tab algn="l" pos="10588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8320" y="6027840"/>
            <a:ext cx="175284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3640" y="1397160"/>
            <a:ext cx="1600200" cy="431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660760" y="1017720"/>
            <a:ext cx="2573280" cy="70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5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09 : 36/46,  00-19 : 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, который вы хотите сохрани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и сразу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использовать скоростной на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7 5 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 758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09 : 36/46,  00-19 : 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еревести звонок на ожид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и сразу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оворите, когда номер ответит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олучить звонок на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ваш телефон поступил предупрежд.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, чтобы ответить на второй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 проигнорируйте второй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ставить сообщение об ожидани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и сразу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тветить на сообщение об ожидани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Только на GHX-36/46, нельзя применять без специального устройств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ок поступит на оставившую сообщение станцию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ставить запрос на возвратный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. (Если занят, услышите коротк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удки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можете установить конференцию с двумя внешними или одной внутренней станцией. (Чтобы установить конференцию с внешними станциями, необходимо включить функцию многоканальной конференции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одной стороны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и сразу поднимите трубку и набери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внутренней стороны, которую в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хотите подключить к разговор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положите и сразу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011240"/>
            <a:ext cx="2286000" cy="64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ужный код доступа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8A : 9 ,  81~83 или  8801~88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 : 9,  81~87 или  8801~88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 : 9,  81~87 или  8801~8814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16 : 9,  81~87 или  8801~880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3-значный  номер интерком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оставить звонок на удержание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отдельная линия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тупил внешний звонок. Положите и сраз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о же самое, чтобы продолжить разгов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систем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тупил внешний звонок. Положите и сраз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продолжить разговор, 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8 *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восстановить звонок на удерж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8 9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или  8 #) и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1-03 : 308A,  01-12 : 36, 01-14 : 46, 01-06 : 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еревести звонок на другой номе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тупил внешний звонок. Положите и сраз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ужный номер станц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или, повесьте трубку после того, как объяв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 перевод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зъединяет внешнюю лин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тупил внешний звонок. Положите и сраз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1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телефонный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5 4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для переадресац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- без условий,      2 - если номер заня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- если номер не отвечает,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 - если занят или не отвеча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 - если находится вне сет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В GHX-308A не нужно набирать номер дл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переадресации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используете типы 1-4, наберите доп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мер.  (Если выбираете тип 5, набер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ный номер для переадресации.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менить: поднимите трубку, 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54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743200" y="6000840"/>
            <a:ext cx="2286000" cy="654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3200" y="5146560"/>
            <a:ext cx="2209680" cy="457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55800" y="1174680"/>
            <a:ext cx="219708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863800"/>
            <a:ext cx="220968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5520" y="1036800"/>
            <a:ext cx="2361960" cy="63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доступа позволяет заблокировать вашу станцию во избежание неавторизованного пользования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4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 введите 4-значный код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00~999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изменить идентификационный код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5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ведите ваш старый идентификационный к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вый к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аша станция зарегистрирована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7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аша станция была зарегистрирована и заблокирована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8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 введите код доступ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будильни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истема может автоматически сделать звонок на вашу станцию в определенное время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1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постоянно) или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2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один раз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ведите время (HHMM) в 24-часовом режим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HH (часы) : 00~23, MM (минуты) :00~5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4 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Универсальный ночной отв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чью поступает звонок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код доступа UNA (универсальн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го ответа)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7 7 7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такой код запрограммирован, то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можете  ответить на этот звонок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тандарт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можете выбрать стандартные сообщения, кото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ые будут появлятся на дисплее звонящего ва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 2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ообщения (01~20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45640" y="1011240"/>
            <a:ext cx="2531880" cy="69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Сообщения типа 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:  отмена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:  OUT OF LUN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:  ON VA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:  OUT OF OFFICE - BACK A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:  OUT OF OFFICE - BACK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:  OUT OF OFFICE - BACK T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:  OUT OF OFFICE - BACK UNK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:  OUT OF T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:  IN A MEE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: 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: 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~2 0 :  Собственные сообщения пользователя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Сообщения типа 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Только для GHX-36/46/616. Вы можете выбра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сообщения типа I или II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: отмена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:  Lunch, return at xx:xx 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: On vacation, return on xx:xx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или дата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: Absent, return at clk xx:xx (xx:xx : вр.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: Absent, return at dt xx:xx(xx:xx : дата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: Out Of Office - Back T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: Out Of Office - Call To xxxx (макс. 12 цифр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: In Office xxx (номер интерк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: Meeting clk xx:xx 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: At H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: At Branch Off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~2 0 : Собственные сообщения пользователя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ызов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Для GHX-308A только внешний вызов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зоны вызов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делайте свое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Зоны вызов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: # 0   Все внутренние зоны   : #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 1  : # 1    Внешний вызов            : #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 2  : # 2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Чтобы ответить на вызов: # 7 ( ## на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рограммирование имен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55*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и введите имя (до 7 букв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 = [1] [2]  B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2]  C = [#] [2]  D = [1] [3]  E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3]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 = [#] [3]  G = [1] [4]  H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4]  I  = [#] [4]   J = [1] [5]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K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5]  L = [#] [5]  M = [1] [6]  N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6] O = [#] [6]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P = [1] [7]  Q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1]  R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7]  S = [#] [7]  T = [1] [8]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U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8]  V = [#] [8]  W = [1] [9]  X = [</a:t>
            </a:r>
            <a:r>
              <a:rPr b="0" lang="ru-RU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] [9] Y = [#] [9]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Z = [#] [1]  .   = [1] [1]  пробел = [#] [#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и сразу 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Чтобы стереть имя, 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55*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 Затем положите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разу поднимите трубку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DND (“не беспокоить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753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, чтобы вкл/выкл. функцию DN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есь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5T10:29:19Z</dcterms:created>
  <dc:creator>USER</dc:creator>
  <dc:description/>
  <dc:language>en-US</dc:language>
  <cp:lastModifiedBy>lg</cp:lastModifiedBy>
  <cp:lastPrinted>1998-04-04T07:05:14Z</cp:lastPrinted>
  <dcterms:modified xsi:type="dcterms:W3CDTF">1998-04-04T07:05:20Z</dcterms:modified>
  <cp:revision>37</cp:revision>
  <dc:subject/>
  <dc:title>ЅЅ¶уАМµе Б¦ёс ѕшАЅ</dc:title>
</cp:coreProperties>
</file>