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РУКОВОДСТВО ПОЛЬЗОВАТЕЛЯ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         в системе GD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71800" y="739440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E1B8E21-579B-4DBF-945F-C576217B7E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57400" y="1219320"/>
            <a:ext cx="31096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введите сначала 1 цифру, потом 2 цифру дл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шагового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5180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56200" y="1252440"/>
            <a:ext cx="841320" cy="9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2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65896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068640"/>
            <a:ext cx="0" cy="969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01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4560" y="2901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43400" y="29034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49720" y="3068640"/>
            <a:ext cx="0" cy="969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06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02120"/>
            <a:ext cx="304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32900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групповой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4713120"/>
            <a:ext cx="0" cy="696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4320" y="4557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73840" y="4556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45514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9720" y="4713120"/>
            <a:ext cx="0" cy="696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4713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360" y="4745160"/>
            <a:ext cx="286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делать групповой звонок по интеркому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групповой номер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6200" y="477216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25360" y="1200240"/>
            <a:ext cx="0" cy="1200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9720" y="1200240"/>
            <a:ext cx="0" cy="1200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0368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4880" y="6170760"/>
            <a:ext cx="2972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 4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1 для Handsfree, 2 для тонального звонка или 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ля конфиденциального режим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25360" y="6134040"/>
            <a:ext cx="0" cy="857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6480" y="6134040"/>
            <a:ext cx="0" cy="857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4320" y="596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73840" y="596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59706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6135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572616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2440" y="5715000"/>
            <a:ext cx="3355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менение режима ответа на звонки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23880" y="129852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560" y="195264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23880" y="312732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23880" y="4842000"/>
            <a:ext cx="264960" cy="212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601560" y="62294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625320" y="6539040"/>
            <a:ext cx="26352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43000" y="4243320"/>
            <a:ext cx="3124080" cy="24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во время звонк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нажмите  запрограммированн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35800" y="2082960"/>
            <a:ext cx="242136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8480" y="798480"/>
            <a:ext cx="213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25360" y="1204920"/>
            <a:ext cx="0" cy="2338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73840" y="1028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226040" y="1204920"/>
            <a:ext cx="0" cy="2338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8400" y="1324080"/>
            <a:ext cx="285012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тип переадреса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омер станции или номер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148400" y="2765520"/>
            <a:ext cx="308340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4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 нажмите запрограммированную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125360" y="4202280"/>
            <a:ext cx="0" cy="246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4320" y="4041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74560" y="4041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26040" y="4202280"/>
            <a:ext cx="0" cy="246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4202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40370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37828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9560" y="12207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3520" y="1403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9560" y="26463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8288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9560" y="468792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48704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9560" y="590724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897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625320" y="14526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01560" y="233208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601560" y="438948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25360" y="1204920"/>
            <a:ext cx="0" cy="3672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26040" y="1204920"/>
            <a:ext cx="0" cy="3672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43000" y="1235160"/>
            <a:ext cx="3200400" cy="35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а скор. набора н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имя для набора по имени. (Доп. опц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 кнопку 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. набора ста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. набора системы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, который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05880" y="3875040"/>
            <a:ext cx="824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омера скор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набора систем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200~9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200~39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388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6426360"/>
            <a:ext cx="3124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змен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старый  5-значный идентификационный к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ведите  новый 5-знач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у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" y="5105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125360" y="5810400"/>
            <a:ext cx="0" cy="1500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4320" y="5649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73840" y="5649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26040" y="5810400"/>
            <a:ext cx="0" cy="1500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5810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143000" y="584676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5-значный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у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56451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9560" y="5343480"/>
            <a:ext cx="449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атр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тся 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601560" y="133812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601560" y="152712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3"/>
          <a:stretch/>
        </p:blipFill>
        <p:spPr>
          <a:xfrm>
            <a:off x="625320" y="18334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625320" y="2971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5"/>
          <a:stretch/>
        </p:blipFill>
        <p:spPr>
          <a:xfrm>
            <a:off x="601560" y="320040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6"/>
          <a:stretch/>
        </p:blipFill>
        <p:spPr>
          <a:xfrm>
            <a:off x="601560" y="60008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7"/>
          <a:stretch/>
        </p:blipFill>
        <p:spPr>
          <a:xfrm>
            <a:off x="625320" y="6222960"/>
            <a:ext cx="26352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25360" y="1370160"/>
            <a:ext cx="0" cy="763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4320" y="1209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73840" y="1209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26040" y="1370160"/>
            <a:ext cx="0" cy="763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" y="1370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139212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4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агорится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жд.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будет гореть до тех пор, пока блокиров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будет снят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204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341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31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2419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125360" y="2819520"/>
            <a:ext cx="0" cy="795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4680" y="2658960"/>
            <a:ext cx="4611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73840" y="2658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26040" y="2819520"/>
            <a:ext cx="0" cy="795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819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2846520"/>
            <a:ext cx="25909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43400" y="26542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25360" y="4532400"/>
            <a:ext cx="0" cy="1792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4320" y="437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374560" y="4371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226040" y="4532400"/>
            <a:ext cx="0" cy="1792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532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572000"/>
            <a:ext cx="3124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время будильни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4 1 и 4 цифры времени (HHMM) в 24-часово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ежиме. (HH(часы) = 00~23, MM(минуты) = 0~5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ля того, чтобы звонок был “оди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” ил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затем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“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давался регулярно, пока эта функция не буде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тменена”. (Вы услышите подтверждающий сигнал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3671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1280" y="409104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143000" y="5638680"/>
            <a:ext cx="312408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функцию будильника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" y="383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будильни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601560" y="13939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625320" y="15764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601560" y="29354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"/>
          <a:stretch/>
        </p:blipFill>
        <p:spPr>
          <a:xfrm>
            <a:off x="601560" y="46926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5"/>
          <a:stretch/>
        </p:blipFill>
        <p:spPr>
          <a:xfrm>
            <a:off x="625320" y="50338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266840" y="2287440"/>
            <a:ext cx="2895480" cy="836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4320" y="1362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374560" y="1362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522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1571760"/>
            <a:ext cx="297180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наберите  0 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нужный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мя (до 7 букв с помощью указанных кодов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135720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226040" y="1522440"/>
            <a:ext cx="0" cy="2021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5748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9120" y="104292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125360" y="1522440"/>
            <a:ext cx="0" cy="2021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76040" y="2274840"/>
            <a:ext cx="308484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2] [1]  B = [2] [2]  C = [2] [3]  D = [3] [1]  E = [3] [2]  F = [3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4] [1]  H = [4] [2]  I = [4] [3]   J = [5] [1]   K = [5] [2]  L = [5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6] [1]  N = [6] [2] O = [6] [3]  P = [7] [1]  Q = [7]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 R = [7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7] [3]   T = [8] [1] U = [8] [2]  V = [8] [3]  W = [9] [1]  X = [9] [2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9] [3]   Z = [9] [#]  .  = [1] [3]  ,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 : 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пробел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0 = [0] [0]   1 = [1] [0]  2 = [2] [0]  3 = [3] [0]   4 = [3] [0]   5 = [5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 = [6] [0]   7 = [7] [0]  8 = [8] [0]  9 = [9] [0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25720" y="3144960"/>
            <a:ext cx="1417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5320" y="792000"/>
            <a:ext cx="234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5067360"/>
            <a:ext cx="2819160" cy="1523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7200" y="3801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4320" y="427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374560" y="427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57200" y="443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4470480"/>
            <a:ext cx="30481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ообщения, а также дату, время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станции, если необходим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LUNCH, RTN HH:MM (обедаю, вернусь в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ON VACATION/RTN DATE (MM:DD) (в отпуске, вернусь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OUT OF OFFICE/RTN TIME (HH:MM) (ушел, вернусь в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OUT OF OFFICE/RTN DATE (MM:DD) (уехал, вернусь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OUT OF OFFICE/RTN UNKNOWN (уехал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CALL : XXXXX (позвоните по номеру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IN OFFICE/STA XXXX (в офисе 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IN A MEETING/RTN TIME (HH:MM) (на встрече, вернусь в ..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AT BRANCH OFFICE 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#    to cancel (отмен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используются  для сообщений, программируемых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амим пользователем.(См. “Как создать сообщение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43400" y="42721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125360" y="4430880"/>
            <a:ext cx="0" cy="2693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226040" y="4437000"/>
            <a:ext cx="0" cy="26877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4600" y="4014720"/>
            <a:ext cx="450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предварительно составленное сообщение, которое будет появля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телефона, с которого вам звонят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1920" y="6620040"/>
            <a:ext cx="23198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далить сообщение с дисплея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95440" y="160488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601560" y="180036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3"/>
          <a:stretch/>
        </p:blipFill>
        <p:spPr>
          <a:xfrm>
            <a:off x="625320" y="1986120"/>
            <a:ext cx="262080" cy="20772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595440" y="4495680"/>
            <a:ext cx="311040" cy="13176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5"/>
          <a:stretch/>
        </p:blipFill>
        <p:spPr>
          <a:xfrm>
            <a:off x="625320" y="4805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6"/>
          <a:stretch/>
        </p:blipFill>
        <p:spPr>
          <a:xfrm>
            <a:off x="601560" y="6784920"/>
            <a:ext cx="31140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343160" y="2095560"/>
            <a:ext cx="2209680" cy="1638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37456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1251000"/>
            <a:ext cx="3124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е 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DK-162    GDK-100   GDK-FP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25360" y="1217520"/>
            <a:ext cx="0" cy="3125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226040" y="1217520"/>
            <a:ext cx="0" cy="3125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371600" y="2305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9060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6542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362960" y="2303640"/>
            <a:ext cx="215100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         4    9          4    9         4    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1          4 0 1          4 0 1         4 0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05        4 0 5          4 0 5         4 0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15        4 1 5          4 1 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:                              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ен. зона 20        4 2 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общ.вызов       4    3          4    3         4    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яя зона 1         4    6          4    6         4    6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яя зона 2         4    7          4    7            -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.общ.вызов       4    8          4    8          4    8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25360" y="3733920"/>
            <a:ext cx="26276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41720" y="792000"/>
            <a:ext cx="60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11480" y="2165400"/>
            <a:ext cx="0" cy="153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4320" y="4873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373840" y="4873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57200" y="5033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43400" y="48690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5079960"/>
            <a:ext cx="30481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ступил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осстановить внешний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ON/OFF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для ожидания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207320" y="5329080"/>
            <a:ext cx="732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601~6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25360" y="5033880"/>
            <a:ext cx="0" cy="1182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26040" y="5033880"/>
            <a:ext cx="0" cy="1182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46483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и постановка на ожид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601560" y="5230800"/>
            <a:ext cx="31140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44320" y="1089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74560" y="1089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124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143000" y="12873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 Ес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яя линия не установлена, наберите 6 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оединитесь с внешней линие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1084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25360" y="1251000"/>
            <a:ext cx="0" cy="7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26040" y="1251000"/>
            <a:ext cx="0" cy="793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141560" y="2743200"/>
            <a:ext cx="145116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4320" y="2556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374560" y="2556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" y="5827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43400" y="25509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125360" y="2716200"/>
            <a:ext cx="0" cy="560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26040" y="2716200"/>
            <a:ext cx="0" cy="560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2316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3581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164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73840" y="4164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4324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435780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упил внешний звонок.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343400" y="41590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25360" y="4325760"/>
            <a:ext cx="0" cy="47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26040" y="4325760"/>
            <a:ext cx="0" cy="474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3880" y="3868560"/>
            <a:ext cx="4618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3880" y="792000"/>
            <a:ext cx="2084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ниверсальный ночной отве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" y="51735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 (громкоговоритель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136160" y="5859360"/>
            <a:ext cx="2583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4320" y="5667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73840" y="5667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2716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43400" y="5683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125360" y="582768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226040" y="582768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9200" y="539892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601560" y="278604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601560" y="44146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627120" y="599292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46400" y="792000"/>
            <a:ext cx="2580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ция DVU (системных сообщений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34000" y="1243080"/>
            <a:ext cx="30344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ремя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Time is XX : XX PM.” (Время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Дата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Date is December, 20th.” (Дата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омер станции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 “This is station XXXX.” (Номер станции: ..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14800" y="1046160"/>
            <a:ext cx="893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25360" y="1211400"/>
            <a:ext cx="0" cy="5379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26040" y="1211400"/>
            <a:ext cx="0" cy="5379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139760" y="2630520"/>
            <a:ext cx="302256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Запись ваших сообщений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окончить запись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автоматически стирается через 48 часо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запись сохраняется, пока не будет стерт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сообщение записано, то звонящий услышит ваш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общение, если вы не ответите на его звонок в течени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ределенного периода времени. (4 сек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стереть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Как проиграть ваше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(Вы услышите свое сообще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Статус станции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7.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услышите следующие сообще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 (a) по (h). Пункты c-g будут пропущены, если э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и не включены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a) Номер станции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b) Сообщения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c) Время будильника XXXX AM или P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d) Функция D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e) Переадресация на 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)  Переадресация на номер скоростного набора  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g) Блокировка (временное изменение CO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h) COS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ызов вашего сообщен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6 7 8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, чтобы записать сообщени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627120" y="2900520"/>
            <a:ext cx="260280" cy="20772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625320" y="3124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3"/>
          <a:stretch/>
        </p:blipFill>
        <p:spPr>
          <a:xfrm>
            <a:off x="625320" y="60958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37400" y="3176640"/>
            <a:ext cx="2268360" cy="30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номер ожидания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на ожидание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162 :601~619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601~6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601~605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поиск внутр. групп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TRANS + 8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идание                      TRANS +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ункция будильник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(постоян.)    TRANS + 4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                         TRANS + 4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зов                             См. страницу 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. 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 TRANS +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                   TRANS +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звонка       TRANS + 4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TRANS + 4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90640" y="5670720"/>
            <a:ext cx="2033640" cy="990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424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4080" y="1219320"/>
            <a:ext cx="25650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уководствуясь таблицей,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нужную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7456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114800" y="1065240"/>
            <a:ext cx="8938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 станций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125360" y="1230480"/>
            <a:ext cx="0" cy="1398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26040" y="1230480"/>
            <a:ext cx="0" cy="1398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" y="2871720"/>
            <a:ext cx="4495680" cy="2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63680" y="3168720"/>
            <a:ext cx="448308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629080" y="316224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3162240"/>
            <a:ext cx="0" cy="3390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28960" y="316224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25720" y="5697360"/>
            <a:ext cx="0" cy="882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25320" y="1676520"/>
            <a:ext cx="262080" cy="207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2625840" y="3176640"/>
            <a:ext cx="253044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общения                     TRANS/PGM + 7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   TRANS/PGM + 7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 интеркома   TRANS/PGM + 8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. звонок      6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TRANS/PGM +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ии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овой доступ                9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1                         8 0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2                         8 0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:                                    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48                       8 4 8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До группы #24 в GDK-10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дельный доступ к         8 8 +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№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лавиатура GSX/E, GK-8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                             TRANS + 9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ONF                                TRANS + 9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ALLBK                            TRANS + 9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ND/FOR                          TRANS + 9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FLASH                               TRANS + 9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UTE                                TRANS + 9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ON/OFF                             TRANS + 9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25360" y="1211400"/>
            <a:ext cx="0" cy="107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10461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26040" y="1211400"/>
            <a:ext cx="0" cy="1074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2280" y="1260360"/>
            <a:ext cx="3043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280" y="25509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17440" y="2954160"/>
            <a:ext cx="0" cy="1208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6400" y="2793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65920" y="2793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8120" y="2954160"/>
            <a:ext cx="0" cy="1208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280" y="2954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38320" y="2986200"/>
            <a:ext cx="30704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2782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4244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внешний звонок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5360" y="4811760"/>
            <a:ext cx="0" cy="1969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4320" y="4651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3840" y="4651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811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1920" y="4836960"/>
            <a:ext cx="3128040" cy="12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мигающую кнопку внешн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6404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880" y="792000"/>
            <a:ext cx="2307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2520" y="6093000"/>
            <a:ext cx="114768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28600" y="6273720"/>
            <a:ext cx="217944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8 # # или  8 # +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6600" y="6310440"/>
            <a:ext cx="63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01~9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01~48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 : 01~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289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26040" y="4811760"/>
            <a:ext cx="0" cy="1969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5320" y="4881600"/>
            <a:ext cx="263520" cy="208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79600" y="3078000"/>
            <a:ext cx="341280" cy="25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68440" y="3433680"/>
            <a:ext cx="361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95280" y="1517760"/>
            <a:ext cx="24386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6040" y="792000"/>
            <a:ext cx="3382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поставить 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25360" y="1193760"/>
            <a:ext cx="0" cy="147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26040" y="1193760"/>
            <a:ext cx="0" cy="147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39400" y="1235160"/>
            <a:ext cx="31140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лавиатура GSX/E должна включать запрограммированн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ягк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TRANS + Мягкая кнопка + TRANS + 8 3 +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загорится и вы услышите сигнал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2843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25360" y="3230640"/>
            <a:ext cx="0" cy="25286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4320" y="3070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3840" y="3070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226040" y="3230640"/>
            <a:ext cx="0" cy="25286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230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2640" y="3268800"/>
            <a:ext cx="3050280" cy="24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будет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единен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0592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06960" y="3544920"/>
            <a:ext cx="7171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STA No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560" y="4127400"/>
            <a:ext cx="614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9920" y="4508640"/>
            <a:ext cx="750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е отслеж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956200"/>
            <a:ext cx="449892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4320" y="6365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73840" y="6365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65260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1200" y="6559560"/>
            <a:ext cx="305316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интеркому или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тупает второй звонок, то будет горе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сигнала вы соединитесь с обеими звонящи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 поговорить с новым звонящ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бы переключиться на друг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63547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5360" y="6526080"/>
            <a:ext cx="0" cy="85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26040" y="6534000"/>
            <a:ext cx="0" cy="844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0640" y="6173640"/>
            <a:ext cx="3036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запрограммирована на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1036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25320" y="1909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1560" y="33973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625320" y="668016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44240" y="792000"/>
            <a:ext cx="2594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25360" y="1193760"/>
            <a:ext cx="0" cy="93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26040" y="1193760"/>
            <a:ext cx="0" cy="939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2640" y="1235160"/>
            <a:ext cx="2946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на GK-24/36 или если запро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аммирована на GSX/Е.)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341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25360" y="272880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4320" y="2568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560" y="2568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2563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26040" y="2728800"/>
            <a:ext cx="0" cy="1157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28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0120" y="274644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83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5360" y="487512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4320" y="4714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73840" y="4714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3400" y="47102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26040" y="487512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875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0840" y="4908600"/>
            <a:ext cx="283212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040" y="440856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9480" y="1620720"/>
            <a:ext cx="311400" cy="11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3360" y="1857240"/>
            <a:ext cx="311040" cy="12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1560" y="3048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601560" y="555300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601560" y="350532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295280" y="1968480"/>
            <a:ext cx="228600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5360" y="1509840"/>
            <a:ext cx="0" cy="1461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4320" y="1349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3840" y="1341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136044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26040" y="1509840"/>
            <a:ext cx="0" cy="1461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509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1542960"/>
            <a:ext cx="3200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GSX/E нужно запрограммировать мягкую кнопку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REDIAL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 + Мягкая кнопка + TRANS + 8 8 + HOL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не отвечает, то он будет набран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автоматически после определенного период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аются кнопки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нача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0200" y="104292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2367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5360" y="3929040"/>
            <a:ext cx="0" cy="8715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4320" y="3768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73840" y="3768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37638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26040" y="3929040"/>
            <a:ext cx="0" cy="8715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3929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395460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520" y="350676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4240" y="792000"/>
            <a:ext cx="214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00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5360" y="5695920"/>
            <a:ext cx="0" cy="1506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4320" y="5535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73840" y="5535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5530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6040" y="5695920"/>
            <a:ext cx="0" cy="1506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5695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737320"/>
            <a:ext cx="312408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запрограммировали кнопку CALLBK на 8-кнопоч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й клавиатуре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160" y="522288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141200" y="4379760"/>
            <a:ext cx="2846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ключить микрофон.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0720" y="64911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9560" y="422928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44118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666576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01560" y="162252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01560" y="264492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601560" y="402444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625320" y="5759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601560" y="6031080"/>
            <a:ext cx="311400" cy="12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75200" y="798480"/>
            <a:ext cx="188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25360" y="2760840"/>
            <a:ext cx="0" cy="1049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4320" y="2600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73840" y="2600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6040" y="2760840"/>
            <a:ext cx="0" cy="1049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608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0188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ункции ожидания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5956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0752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шагов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25360" y="4475160"/>
            <a:ext cx="0" cy="1074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4320" y="43149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73840" y="43149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3400" y="4309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26040" y="4475160"/>
            <a:ext cx="0" cy="1074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475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450864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нутренни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услышите сигнал ICM, указывающий на то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 линия занята, введите последнюю цифру нужног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мер в той же группе номер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апример, если занят номер “112”, нажмите  “4”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рать номер  “114”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внешнем звонке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 последню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цифр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842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25360" y="6242040"/>
            <a:ext cx="0" cy="820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4320" y="6081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73840" y="6081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60768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26040" y="6242040"/>
            <a:ext cx="0" cy="820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2420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43000" y="62769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лышите поступающи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303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25360" y="1217520"/>
            <a:ext cx="0" cy="776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4320" y="10573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74560" y="10573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43400" y="10526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26040" y="1217520"/>
            <a:ext cx="0" cy="776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2175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43000" y="125100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27120" y="6626160"/>
            <a:ext cx="260280" cy="2080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601560" y="523548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47120" y="792000"/>
            <a:ext cx="3766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25360" y="1197000"/>
            <a:ext cx="0" cy="936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4320" y="1036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73840" y="1036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26040" y="1197000"/>
            <a:ext cx="0" cy="936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197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21932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ругой групп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10317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06960" y="1308240"/>
            <a:ext cx="717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2382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25360" y="2770200"/>
            <a:ext cx="0" cy="4316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320" y="2610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373840" y="2610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43400" y="2604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2778120"/>
            <a:ext cx="0" cy="4308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2770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2819520"/>
            <a:ext cx="304812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одключить к конференции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 в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ключить другое лицо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ы должны участвовать в конференции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того лица, которое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хотите отключить от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1920" y="6572160"/>
            <a:ext cx="2827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вам нужн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ть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как мягкую кноп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39560" y="640404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6580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25320" y="13366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01560" y="3065400"/>
            <a:ext cx="311400" cy="127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25320" y="49561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601560" y="6175440"/>
            <a:ext cx="311400" cy="127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601560" y="6718320"/>
            <a:ext cx="31140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42440" y="792000"/>
            <a:ext cx="1289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жидание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125360" y="1477800"/>
            <a:ext cx="0" cy="11131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4320" y="1317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74560" y="1317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26040" y="1477800"/>
            <a:ext cx="0" cy="11131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1477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3000" y="152712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“*”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последню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фру номера или кнопку прямого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 .Вы мож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говорить с ним или повесить трубку, чтобы перевес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тупивший звонок на его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312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32000" y="1042920"/>
            <a:ext cx="390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я этого 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2868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вонок, находящийся на ожидании с функцие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25360" y="3344760"/>
            <a:ext cx="0" cy="846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4320" y="3184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373840" y="3184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26040" y="3344760"/>
            <a:ext cx="0" cy="846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3344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339084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ожидания и загорится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 звонящ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ервый звонок 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сможете продолжить первый разговор, когда законч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торой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43400" y="31798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456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25360" y="5021280"/>
            <a:ext cx="0" cy="1227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4320" y="4861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373840" y="4861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226040" y="5021280"/>
            <a:ext cx="0" cy="1227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5029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5046840"/>
            <a:ext cx="312408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 +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485604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360" y="468648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9560" y="522756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230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5320" y="347184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601560" y="508176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01560" y="543564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625320" y="583740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25360" y="4386240"/>
            <a:ext cx="0" cy="2776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4320" y="4226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74560" y="4226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26040" y="4386240"/>
            <a:ext cx="41040" cy="2776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4386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143000" y="4419720"/>
            <a:ext cx="31240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горитс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Follow me (отслежива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Busy/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Station off-net (если станция вне сети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6 - Incoming outside line to off-net (system attendant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ходящий внешний звонок на станцию, котор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ходится вне сети - только со станции оператор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- DVU forward (переадресация DVU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нажмите кнопку прямого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группы интерком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установлен тип Follow-me, наберит идентифика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онный код доступ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 подтверждающий сигнал, а на друго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танции загорится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42210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25360" y="1204920"/>
            <a:ext cx="0" cy="25290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26040" y="1204920"/>
            <a:ext cx="0" cy="25290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38400"/>
            <a:ext cx="3048120" cy="24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не отвечае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другом телефоне загорится индикатор CALLBK 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интеркома занят,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 +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ветить на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ам было оставлено сообщение, будет мигать ин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тор MSG и/или запрограммированная кнопка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тавивший сообщение пользователь услышит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10396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3520" y="792000"/>
            <a:ext cx="1486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9862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03720" y="5460840"/>
            <a:ext cx="738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Станция 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62 : 100~29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100 : 100~17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PII: 100~13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06600" y="5932440"/>
            <a:ext cx="8848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Группа интерком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62 : 620~64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00 : 620~63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FPII : 620~62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2520" y="273672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291924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2520" y="1525680"/>
            <a:ext cx="8463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BTN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708200"/>
            <a:ext cx="3657600" cy="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01560" y="12654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01560" y="1752480"/>
            <a:ext cx="311400" cy="130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601560" y="24084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4"/>
          <a:stretch/>
        </p:blipFill>
        <p:spPr>
          <a:xfrm>
            <a:off x="612720" y="44434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5"/>
          <a:stretch/>
        </p:blipFill>
        <p:spPr>
          <a:xfrm>
            <a:off x="601560" y="46753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6"/>
          <a:stretch/>
        </p:blipFill>
        <p:spPr>
          <a:xfrm>
            <a:off x="601560" y="662940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lg</cp:lastModifiedBy>
  <cp:lastPrinted>1998-02-23T00:27:24Z</cp:lastPrinted>
  <dcterms:modified xsi:type="dcterms:W3CDTF">1998-04-04T06:29:42Z</dcterms:modified>
  <cp:revision>124</cp:revision>
  <dc:subject/>
  <dc:title>ЅЅ¶уАМµе Б¦ёс ѕшАЅ</dc:title>
</cp:coreProperties>
</file>