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5335588" cy="8002588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460440"/>
                <a:tab algn="l" pos="920880"/>
                <a:tab algn="l" pos="1380960"/>
                <a:tab algn="l" pos="1841400"/>
                <a:tab algn="l" pos="2301840"/>
                <a:tab algn="l" pos="2762280"/>
                <a:tab algn="l" pos="3222720"/>
                <a:tab algn="l" pos="3683160"/>
                <a:tab algn="l" pos="4143240"/>
                <a:tab algn="l" pos="4603680"/>
                <a:tab algn="l" pos="5064120"/>
                <a:tab algn="l" pos="5524560"/>
                <a:tab algn="l" pos="5985000"/>
                <a:tab algn="l" pos="6445080"/>
                <a:tab algn="l" pos="6905520"/>
                <a:tab algn="l" pos="7365960"/>
                <a:tab algn="l" pos="7826400"/>
                <a:tab algn="l" pos="8286840"/>
                <a:tab algn="l" pos="8747280"/>
                <a:tab algn="l" pos="9207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АНАЛОГОВЫЕ КНОПОЧНЫЕ ТЕЛЕФОНЫ / ДЕЙСТВИЯ ОПЕРАТОРА СИСТЕМЫ                 GSX/E, G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40120" y="741348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2E17DD1-1B38-45E3-A6B6-F9DD5E02FE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43880" y="792000"/>
            <a:ext cx="1555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 будильник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143000" y="1211400"/>
            <a:ext cx="380988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установить время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3 1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регулярный) или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3 2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только один раз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зону станций. (6 цифр) Если одна, наберите номер дважд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время, после того, как услышите подтверждающий сигнал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HHMM=час и минуты) в 24-часовом режим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HH/час = 00~23,  MM/минуты = 0~59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25360" y="1200240"/>
            <a:ext cx="0" cy="1923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7688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201680"/>
            <a:ext cx="452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173320"/>
            <a:ext cx="350532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звонок будильн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3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зону станций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3680" y="345456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давление функции DND (“не беспокоить”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0160" y="38847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25360" y="4044960"/>
            <a:ext cx="0" cy="717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76160" y="38876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58840" y="4084560"/>
            <a:ext cx="364176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того, как вы услышите сигнал DND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Ждите, пока не ответит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600" y="3710160"/>
            <a:ext cx="2670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системы может подавить функцию DND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038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3680" y="505476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ключение доступа к внешней лин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0160" y="5332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25360" y="5492880"/>
            <a:ext cx="0" cy="793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75440" y="5319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58840" y="5524560"/>
            <a:ext cx="379404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и внешних линий, которые вы хотите отключ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Блокированная внешняя линия постоянно горит на станции оператор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ругие станции не будут иметь доступа к блокированной внешне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5486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25320" y="192420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25320" y="259560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6400" y="792000"/>
            <a:ext cx="288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0160" y="1036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25360" y="1197000"/>
            <a:ext cx="0" cy="1927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76520" y="1039680"/>
            <a:ext cx="607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8840" y="1236600"/>
            <a:ext cx="3641760" cy="17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3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, под которым вы хотите сохранить свое сообщ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1~20)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ообщение с помощью кодов, которые указаны ниж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Сообщение не должно превышать 24 символа, включая пробелы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ож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3680" y="330192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становка времени/да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0160" y="3579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5360" y="3740040"/>
            <a:ext cx="0" cy="870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76160" y="3583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3780000"/>
            <a:ext cx="36417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3 9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10 цифр  YY(год) MM(месяц) DD(дата) HH(час) mm(минуты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YY(год) = 90~99, MM(месяц) = 01~12, DD(дата) = 01~31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H(час) = 00~23, mm(минуты) = 00~59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 подтверждающий сигнал и увидите новую дату и врем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33440" y="1914480"/>
            <a:ext cx="281952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87280" y="1830240"/>
            <a:ext cx="304812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= [1] [2]  B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2]  C = [#] [2]  D = [1] [3]  E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3]  F = [#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= [1] [4]  H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4]  I = [#] [4]   J = [1] [5]   K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5]  L = [#] [5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 = [1] [6]  N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6] O = [#] [6]  P = [1] [7]  Q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1]  R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7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 = [#] [7]   T = [1] [8] U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8]  V = [#] [8]  W = [1] [9]  X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9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 = [#] [9]   Z = [#] [1]  .  = [1] [3]  ,  = [1] [1]  пробел = [#] [#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3746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2002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3680" y="480996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даление парол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0160" y="5240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5360" y="5400720"/>
            <a:ext cx="0" cy="780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5440" y="52434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43000" y="5440320"/>
            <a:ext cx="36417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3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зону станций (6 цифр). (Вы услышите подтверждающ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5407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7760" y="5065560"/>
            <a:ext cx="432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забыли пароль, то удалить его можно  только со станции оператора системы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0160" y="6691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76160" y="6694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25360" y="6858000"/>
            <a:ext cx="0" cy="40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6867360"/>
            <a:ext cx="3657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на станции оператора системы, чтоб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ключить или выключить функци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851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3680" y="6413400"/>
            <a:ext cx="4483080" cy="241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3520" y="6418440"/>
            <a:ext cx="1687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очной перевод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52320" y="2671920"/>
            <a:ext cx="262080" cy="207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25320" y="569124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01560" y="6961320"/>
            <a:ext cx="311400" cy="1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60160" y="12114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75440" y="1214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9480" y="1401840"/>
            <a:ext cx="3946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4 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и ваш 4-значный код. (Вы услышите сигнал подтвержден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5360" y="1378080"/>
            <a:ext cx="0" cy="2660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58840" y="1690560"/>
            <a:ext cx="387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поставить пароль на внешние звон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4 7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. (Вы услышите подтверждающий сигнал, а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U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удет мигать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вы сможете сделать только звонки по интеркому. Если пароль не за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егистрирован, то другие станции не могут воспользоваться этой функцией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3716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3080" y="1042920"/>
            <a:ext cx="4109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стема может заблокировать станции других пользователей с помощью парол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58840" y="2514600"/>
            <a:ext cx="379404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пароль блокировки внешних звонков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и ваш пароль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пароль не зарегистрирован, то другие станции не могут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оспользоваться этой функцией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58840" y="3205080"/>
            <a:ext cx="37940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изменить пароль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и ваш старый пароль. (Вы услышите подтверждающи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гнал, если он правильный.) Введите новый пароль(4 цифр: 0000~999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пароль не зарегистрирован, то другие станции не могут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оспользоваться этой функцие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5032440"/>
            <a:ext cx="373392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ва раза.  (Или нажмите кнопку SPEED 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у внешней лин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. (20~9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омер, который нужно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5360" y="4991040"/>
            <a:ext cx="0" cy="723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4320" y="4826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928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160" y="4519440"/>
            <a:ext cx="4653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системе можно сохранить группу номеров, которые могут быть доступны для станций. Эт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омера дают доступ к наиболее часто набираемым номерам внешних ли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73840" y="48261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3680" y="4267080"/>
            <a:ext cx="44830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коростной набор из систем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3520" y="792000"/>
            <a:ext cx="186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становка пароля досту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73840" y="6429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6657840"/>
            <a:ext cx="38862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3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омер сообщения пользователя (10-20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ообщение. (До 24 букв. См. коды в “Программирование ваше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мени”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4320" y="64674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66340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3880" y="6161040"/>
            <a:ext cx="398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ператор может запрограммировать сообщение, которое будет появляться 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исплее телефона, пользователь которого звонит на вашу станци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5360" y="6626160"/>
            <a:ext cx="0" cy="689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680" y="5931000"/>
            <a:ext cx="4483080" cy="241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2800" y="5915160"/>
            <a:ext cx="3092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граммирование сообщений пользовател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5320" y="146844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01560" y="507672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25320" y="6969240"/>
            <a:ext cx="262080" cy="2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71520" y="1119240"/>
            <a:ext cx="2448000" cy="56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набор последнего номера 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Автоматический выбор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Б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локировка внешних звонков 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Будильник 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звратный звонок .....................................……..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ызов ................................................................…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осстановление внешних звонков 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Г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Горячая линия  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...........................…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дентификационный код пользователя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Изменение сигнала интеркома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..............…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делать внешний звонок .............................…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ответить на запрос в очереди 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онференция 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Музыка .........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стройка громкости 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чередь  ...........................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групповой звонок 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ок на ожидании.....................…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жидание звонка 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ключение микрофона ..................................… 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вет на звонки, поступающие в другую группу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П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адресация 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на ожидание 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...................................................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-секретарь 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еревод звонка по интеркому 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 .......…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имени 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6120" y="792000"/>
            <a:ext cx="1681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лфавитный указател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38440" y="1119240"/>
            <a:ext cx="2390760" cy="31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Режим DND .....................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ставленные сообщения ...........................…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пикер ............................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хранение номеров ........................................…11 Скоростной набор на станции 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брос ...........................................................…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ообщение об ожидании ................................…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держание внешнего звонка..............................….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держание звонка по интеркому  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.1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Действия оператора систем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одавление функции DND..................................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тключение доступа к внешним линиям ............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даление пароля .................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становка времени/даты ............................…….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коростной набор из системы 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Установка пароля доступа 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Программирование сообщений пользователя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Функция будильника .....................................…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7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Как создать свои собственные сообщения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очной перевод звонков .................................…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209556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2T07:37:16Z</dcterms:created>
  <dc:creator>USER</dc:creator>
  <dc:description/>
  <dc:language>en-US</dc:language>
  <cp:lastModifiedBy>lg</cp:lastModifiedBy>
  <cp:lastPrinted>1998-04-04T05:26:24Z</cp:lastPrinted>
  <dcterms:modified xsi:type="dcterms:W3CDTF">1998-04-04T05:26:36Z</dcterms:modified>
  <cp:revision>42</cp:revision>
  <dc:subject/>
  <dc:title>ЅЅ¶уАМµе Б¦ёс ѕшАЅ</dc:title>
</cp:coreProperties>
</file>