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5335588" cy="8002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903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13960" y="187236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667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18903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3513960" y="4296600"/>
            <a:ext cx="154584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480132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760" y="318960"/>
            <a:ext cx="4801320" cy="619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27000" y="429660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760" y="318960"/>
            <a:ext cx="480132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76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727000" y="1872360"/>
            <a:ext cx="234288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760" y="4296600"/>
            <a:ext cx="48013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619200"/>
            <a:ext cx="4738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АНАЛОГОВЫЕ КНОПОЧНЫЕ ТЕЛЕФОНЫ / РУКОВОДСТВО ПОЛЬЗОВАТЕЛЯ                    GSX/E, G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800280"/>
            <a:ext cx="4495680" cy="237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90880" y="7400880"/>
            <a:ext cx="707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126766-40D4-43E5-8D3C-43A5F370E1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143000" y="1239840"/>
            <a:ext cx="31100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внешней линии или 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код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доступа к внешней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нужны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того, как на ваш звонок ответят, поднимите труб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говорите с помощью спикер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48560" y="804960"/>
            <a:ext cx="197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сделать внешни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203720" y="1252440"/>
            <a:ext cx="8254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9, 8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1~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/36/46 :1~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Или, 88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отдельная кнопка внешней линии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: 01~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27360"/>
            <a:ext cx="449892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внешний звонок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25360" y="3129120"/>
            <a:ext cx="0" cy="893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2962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73840" y="2962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2963880"/>
            <a:ext cx="106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26040" y="3129120"/>
            <a:ext cx="0" cy="893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129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178080"/>
            <a:ext cx="3048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оспользоваться спикер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Если вы запрограммировали функцию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вет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отдельные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то вы можете ответить на звон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осто подняв трубк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275000"/>
            <a:ext cx="4495680" cy="381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сделать звонок по интеркому                                     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25360" y="1200240"/>
            <a:ext cx="0" cy="12762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26040" y="1200240"/>
            <a:ext cx="0" cy="12762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4320" y="103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74560" y="103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1036800"/>
            <a:ext cx="9903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201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5360" y="4675320"/>
            <a:ext cx="0" cy="103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4320" y="4514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73840" y="4514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4419720"/>
            <a:ext cx="838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26040" y="4675320"/>
            <a:ext cx="0" cy="103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6753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2280" y="4724280"/>
            <a:ext cx="307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интеркома или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услышит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Гудки в тональном режиме. Подождите, по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ая сторона не ответит на ваш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3 сигнала в режиме HF(громкоговорящая связь) ил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PV(конфиденциальный режим). Говорите после сигнал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9230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25360" y="6310440"/>
            <a:ext cx="0" cy="1081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4320" y="6149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4560" y="6149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26040" y="6310440"/>
            <a:ext cx="0" cy="10810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10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38320" y="6359400"/>
            <a:ext cx="307044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ключен интерком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TN(тональный), после звонка по интерком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PV , после 3 тональных сигналов и после того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к услышите голос звонящего,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- в режиме HF (Handsfree), после 3 тональных сигналов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после того, как услышите голос звонящего, подними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рубку или воспользуйтесь громкоговорящей связь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6138720"/>
            <a:ext cx="914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27120" y="130032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27120" y="318924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85720" y="4764240"/>
            <a:ext cx="344520" cy="260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576360" y="5122800"/>
            <a:ext cx="361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295280" y="4764240"/>
            <a:ext cx="20764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3520" y="792000"/>
            <a:ext cx="283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онференция (многосторонний разговор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25360" y="1782720"/>
            <a:ext cx="0" cy="34750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44320" y="16225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4560" y="1622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16178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26040" y="1790640"/>
            <a:ext cx="0" cy="3467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782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8920" y="1049400"/>
            <a:ext cx="3757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уществуют два типа конференций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бычная = 3 внутренних станции или 1 из внешней линии и 2 внутренних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ширенная  = 1 внутренняя станция и 2 из внешней линии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функция расширенной конференции включен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1795320"/>
            <a:ext cx="31240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ча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 (внешний или внутренн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Первый номер ставится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второй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ще раз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ременно выйти из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повесь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ругие номера останутс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Повторное подключение к конференц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Теперь вы опять подключилис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 конференции и подтверждающий сигнал услыша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 участники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закончить конферен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ONF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если в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вляетесь инициатором конференц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9200" y="429084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44672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25360" y="6270480"/>
            <a:ext cx="0" cy="892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320" y="61102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373840" y="61102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26040" y="6270480"/>
            <a:ext cx="0" cy="892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7200" y="627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143000" y="628812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мер по интеркому занят.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говаривающий по телефону, номер которого занят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лышит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он может ответить на ваш звонок, нажав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Вы можете поговорить с ним или повесить трубку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перевести поступивший звонок на его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3400" y="61056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9920" y="5799240"/>
            <a:ext cx="3902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станции, который вы набираете, занят, вы можете предупреди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ьзователя этого телефон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" y="5516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Функция ожидания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560" y="2062080"/>
            <a:ext cx="311400" cy="128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625320" y="677052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128240" y="4464000"/>
            <a:ext cx="276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воспользоваться этой функцией, вы должны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едварительно запрограммировать кнопку CONF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CONF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6 * + Мягкая кнопка + 7 6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300320" y="3938760"/>
            <a:ext cx="20761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6400" y="792000"/>
            <a:ext cx="342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звонок, находящийся на ожида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25360" y="1204920"/>
            <a:ext cx="0" cy="8524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26040" y="1204920"/>
            <a:ext cx="0" cy="8524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43000" y="122220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и замигает 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поговорить со вторым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ящи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утренняя линия разъединяется, а внешняя лин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вится на 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10396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22971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озвратны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25360" y="2870280"/>
            <a:ext cx="0" cy="19303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4320" y="2709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73840" y="2709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26040" y="2870280"/>
            <a:ext cx="0" cy="19303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2878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270504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1360" y="2535120"/>
            <a:ext cx="4359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, который вы набираете, занят, вы можете сообщить о своем звонк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360" y="3478320"/>
            <a:ext cx="1768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6734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25360" y="5738760"/>
            <a:ext cx="0" cy="1538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4320" y="5578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74560" y="5578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226040" y="5738760"/>
            <a:ext cx="0" cy="1538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" y="5738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143000" y="5788080"/>
            <a:ext cx="312408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в режиме DND,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LLBК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общение о вашем звонке будет оставлен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занят или в режиме DND, 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кнопку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общение о вашем звонке будет оставлен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43400" y="55738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50403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0560" y="5272200"/>
            <a:ext cx="432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бранный вами номер занят или находится в режиме DND, вы можете остави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общение о вашем звонке. На одном телефоне можно оставить до 5 сообще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41360" y="6299280"/>
            <a:ext cx="17683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3520" y="6488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625320" y="13762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1560" y="296244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625320" y="322416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25320" y="41148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601560" y="579132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6"/>
          <a:stretch/>
        </p:blipFill>
        <p:spPr>
          <a:xfrm>
            <a:off x="625320" y="6024600"/>
            <a:ext cx="262080" cy="2095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143000" y="2919240"/>
            <a:ext cx="3276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омер по интеркому занят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услышите, что номер по интеркому занят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или нажмите запрограммированную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CALLBK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 6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 сообщит вам, когда на ваш звонок ответя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219320" y="6869160"/>
            <a:ext cx="213336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82680" y="2629080"/>
            <a:ext cx="22226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25360" y="1204920"/>
            <a:ext cx="0" cy="1576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26040" y="1204920"/>
            <a:ext cx="0" cy="1576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1039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40640" y="792000"/>
            <a:ext cx="2277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общение о звонк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3960" y="1785960"/>
            <a:ext cx="15271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125360" y="3433680"/>
            <a:ext cx="0" cy="3881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4320" y="32734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74560" y="32734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26040" y="3433680"/>
            <a:ext cx="0" cy="3881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57200" y="3433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3443400"/>
            <a:ext cx="3048120" cy="37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охранить номер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е номера, которые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сигнал подтверждения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В GHX-36/46, на любой станции можно запрограммировать 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омеров скоростного набора, удалив номера скоростного набор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а других станциях. Таким образом, число номеров скоростного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набора на станции составляет 20 (00~19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остного набора (00~19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телефонный номер, который нужно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использова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коростного набора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стереть номера скоростного набор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номер скор. набора, который нужно стереть.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SPEED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2688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207320" y="3741840"/>
            <a:ext cx="849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Номер скор. наб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08A : 00~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6 : 00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6 : 00~0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616 : 00-1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30020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коростной набор на стан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2120" y="6645240"/>
            <a:ext cx="2631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GSX/E 8 кнопок, GK-8S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19810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1227240"/>
            <a:ext cx="30481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ответить на звонок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мигающую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телефоне, с которого было оставлено сообщение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дастся тональны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ам было оставлено сообщение, будет мигать инд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атор MSG и/или запрограммированная кнопка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CALLBK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ставивший сообщение пользователь услышит 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CALLBK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6* + Мягкая кнопка + 76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520" y="683424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01560" y="1419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601560" y="35812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601560" y="3962520"/>
            <a:ext cx="3114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125360" y="1484280"/>
            <a:ext cx="0" cy="1639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4320" y="13240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4560" y="13240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26040" y="1484280"/>
            <a:ext cx="0" cy="1639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1484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43000" y="1501920"/>
            <a:ext cx="3124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установить время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регулярный) или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(один раз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время (HHMM) в 24-часовом режиме. (HH = 00~23,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M = 0~59) (Вы услышите сигнал подтверждения.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установленное время, на вашей станции раздас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ок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1319040"/>
            <a:ext cx="838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1280" y="1042920"/>
            <a:ext cx="4203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истема автоматически звонит на станцию, на которой был установлен будильни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типа таких звонков: звонок один раз и регулярный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143000" y="243828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ключить будильник,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сигнал подтверждения и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000" y="798480"/>
            <a:ext cx="881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удильни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19320" y="4572000"/>
            <a:ext cx="2895480" cy="685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4320" y="3952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374560" y="3952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4113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43000" y="4114800"/>
            <a:ext cx="29718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ще раз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имя (до 7 букв с помощью указанных кодов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343400" y="39481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26040" y="4113360"/>
            <a:ext cx="0" cy="2287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0880" y="3848040"/>
            <a:ext cx="914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20" y="3633840"/>
            <a:ext cx="4263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запрограммировать свое имя. Если вы сделаете это, то у пользователе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лефонов с дисплеем на нем будет появляться ваше имя, а не 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25360" y="4113360"/>
            <a:ext cx="0" cy="2287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89720" y="4597560"/>
            <a:ext cx="28656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 = [1] [2]  B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2]  C = [#] [2]  D = [1] [3]  E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3]  F = [#] [3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 = [1] [4]  H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4]  I = [#] [4]   J = [1] [5]   K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5]  L = [#] [5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 = [1] [6]  N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6] O = [#] [6]  P = [1] [7]  Q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1]  R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7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 = [#] [7]   T = [1] [8] U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8]  V = [#] [8]  W = [1] [9]  X = [</a:t>
            </a:r>
            <a:r>
              <a:rPr b="0" lang="en-US" sz="900" spc="-1" strike="noStrike" baseline="-25000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] [9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Y = [#] [9]   Z = [#] [1]  .  = [1] [3]  ,  = [1] [1]  пробел = [#] [#]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128240" y="5270400"/>
            <a:ext cx="23637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стереть ваше имя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3382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вашего имен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25320" y="198108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601560" y="419112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3"/>
          <a:stretch/>
        </p:blipFill>
        <p:spPr>
          <a:xfrm>
            <a:off x="609480" y="535464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219320" y="3933720"/>
            <a:ext cx="2666880" cy="1714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58840" y="3456000"/>
            <a:ext cx="3124080" cy="29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 u="sng">
                <a:solidFill>
                  <a:srgbClr val="000000"/>
                </a:solidFill>
                <a:uFillTx/>
                <a:latin typeface="Arial"/>
              </a:rPr>
              <a:t>Сообщения II тип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(Только для GHX-36/46/616. Вы можете выбрать сообщения I или II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700" spc="-1" strike="noStrike">
                <a:solidFill>
                  <a:srgbClr val="000000"/>
                </a:solidFill>
                <a:latin typeface="Arial"/>
              </a:rPr>
              <a:t>типа.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  отменить сообщение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 LUNCH  RETURN AT (обедаю, вернусь в) xx: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 VACATION RETURN ON (в отпуске, вернусь) xx:xx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или дата (4 цифры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 ABSENT, RETURN AT CLK (ушел, вернусь в) xx:xx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 ABSENT, RETURN AT DATE (ушел, вернусь) xx:xx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xx:xx : дата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 OUT OF OFFICE  - BACK  TOM (ушел, буду завт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 CALL  TO (перезвоните) xxxx (макс. 12 цифр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 IN OFFICE (в офисе) xxx (3 цифры внутр. номе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 MEETING CLK (встреча) xx:xx (xx:xx : время (4 цифры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: AT HOME (д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: AT BRANCH OFFICE  (в филиал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~2 0 : собственные сообщения пользователя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выключить дисплей с сообщениями,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0 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1400" y="2104920"/>
            <a:ext cx="2674800" cy="14004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143000" y="1471680"/>
            <a:ext cx="3048120" cy="20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2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нужного сообщения. (00~20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Сообщения II ти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0  Отмена сообщени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1  OUT OF LUNCH (обедаю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2  ON VACATION (в отпуск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3  OUT OF OFFICE-BACK AM (ушел - вернусь в...а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4  OUT OF OFFICE-BACK PM (ушел - вернусь в...рm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5  OUT OF OFFICE-BACK TOM (ушел - вернусь завтр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6  OUT OF OFFICE-BACK UNKN (ушел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7  OUT OF TOWN (уехал из город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8  IN A MEETING (на переговорах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0 9  AT HOME (дома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0  AT BRANCH OFFICE (в филиале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1 1 ~ 2 0  используются  для сообщений, программируемых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самим пользователем.(См. “Как создать сообщение”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3880" y="792000"/>
            <a:ext cx="177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тандартные сообщ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44320" y="1305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374560" y="1305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465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43400" y="13003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125360" y="1459080"/>
            <a:ext cx="0" cy="4941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226040" y="1465200"/>
            <a:ext cx="0" cy="4935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2160" y="1042920"/>
            <a:ext cx="4502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выбрать предварительно составленное сообщение, которое будет появлять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 дисплее телефона, который звонит ва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25320" y="1528920"/>
            <a:ext cx="26208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517680" y="124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1270080"/>
            <a:ext cx="304812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GSX/E-21/33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уществуют 2  переключателя громкости звука, которые расположены на передней панели телефона. Громкость увеличивается, если сдвинуть переключатель вправо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авый переключатель - настраивает громкость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евый  - регулирует громкость спикера и микро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GK-24/36/8S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кнопки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а, когда телефон звон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кнопки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а, когда вы им пользуетес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имайте кнопки (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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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), чтобы настроить громкос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ука, когда вы говорите по внешней ли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65040" y="101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42080" y="792000"/>
            <a:ext cx="153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астройка громк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4320" y="1063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374560" y="1063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1224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43400" y="105876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125360" y="1217520"/>
            <a:ext cx="0" cy="2097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26040" y="1224000"/>
            <a:ext cx="0" cy="2090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8360" y="384336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4320" y="3870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374560" y="3870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4030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4056120"/>
            <a:ext cx="304812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внешней линии, кнопку скоростного набора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танции или набираете номер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38656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25360" y="4032360"/>
            <a:ext cx="0" cy="691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26040" y="4032360"/>
            <a:ext cx="0" cy="691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7200" y="50306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Горячая линия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4320" y="5308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373840" y="5308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" y="54687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5502240"/>
            <a:ext cx="3048120" cy="12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не набираете номер с запрограммированным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тервалами, то функция горячей линии включае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втоматичес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 режиме горячей линии можно запрограммировать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ки по интеркому, выбор внешней линии, вы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 внешних линий, функции, программируемые с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мощью мягкой кнопки, и функция скоростного набор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оспользоваться этой функцией, ее над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267080" y="530388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125360" y="5470560"/>
            <a:ext cx="0" cy="14479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26040" y="5470560"/>
            <a:ext cx="0" cy="14479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57200" y="3598920"/>
            <a:ext cx="4495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3520" y="3592440"/>
            <a:ext cx="168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выбо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12640" y="2327400"/>
            <a:ext cx="55260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787320" y="1816200"/>
            <a:ext cx="295200" cy="2444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528480" y="1816200"/>
            <a:ext cx="260640" cy="2444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623880" y="5626080"/>
            <a:ext cx="264960" cy="2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88360" y="1042920"/>
            <a:ext cx="213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4320" y="1076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4560" y="1076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" y="12366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126216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Благодаря этой функции, при разговоре по внешне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линии каждые 3 минуты дается периодический звуков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функцию необходимо запрограммировать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1071720"/>
            <a:ext cx="8380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125360" y="1238400"/>
            <a:ext cx="0" cy="742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226040" y="1238400"/>
            <a:ext cx="0" cy="742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27160" y="2933640"/>
            <a:ext cx="312408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е поднимая трубку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 3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 в 36/46/616)/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 7 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в 308A) или нажм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нную кноп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7 3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 в 36/46/616)/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 7 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(в 308A) или нажм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нную кнопку, чтобы отключить музы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44320" y="27590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4560" y="27590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29192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2754360"/>
            <a:ext cx="9144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125360" y="2919240"/>
            <a:ext cx="0" cy="928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226040" y="2919240"/>
            <a:ext cx="0" cy="928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232236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5600" y="2567160"/>
            <a:ext cx="3321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а функция должна быть предварительно запрограммирована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4600" y="792000"/>
            <a:ext cx="200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-минутное предупрежде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457200" y="11476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зменение сигнала интерко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4320" y="1425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374560" y="1425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57200" y="1585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1600200"/>
            <a:ext cx="32767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время внутреннего звонка, нажмите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станция в тональном режиме, то она переключ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режим громкоговорящей связи (Handsfree)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она в режиме громкоговорящей связи (Handsfre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конфиденциальном режиме (Privacy), то переключитс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ональный режи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142092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125360" y="1587600"/>
            <a:ext cx="0" cy="888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226040" y="1587600"/>
            <a:ext cx="0" cy="888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6040" y="792000"/>
            <a:ext cx="322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Следующие функции имеет только GHX-36/4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57200" y="2703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еревод звонка по интерком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4320" y="2930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373840" y="2930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57200" y="3090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3103560"/>
            <a:ext cx="312408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 (только если функци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программирован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3-значный номер станции или нажмите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D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слеживаемый перев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набранный номер занят или не отвечает, вы можете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пять поговорить со звонящим, нажав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43400" y="29257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25360" y="3092400"/>
            <a:ext cx="0" cy="12826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226040" y="3092400"/>
            <a:ext cx="0" cy="12826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316160" y="5927760"/>
            <a:ext cx="1936800" cy="604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44320" y="49230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373840" y="49230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57200" y="50832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43000" y="5100480"/>
            <a:ext cx="312408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можете делать вызов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зону вызова. (См. таблицу ниже.) И вы услыш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едупре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сигнал прекратится, говорите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491796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25360" y="5083200"/>
            <a:ext cx="0" cy="21351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26040" y="5083200"/>
            <a:ext cx="0" cy="21351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295640" y="5907240"/>
            <a:ext cx="1945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Общий вызов    : # 0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1    : # 1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зона 2    : # 2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утр. вызов     : # 5  (GHX-308A не имеет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Внешний вызов : # 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127160" y="6532560"/>
            <a:ext cx="29876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ответить на вызов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ойдите к ближайшему кнопочному телефон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 7 (‘# #’ в GHX-308A)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вы соединитесь с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зывающим вас лиц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" y="4619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з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01560" y="3384720"/>
            <a:ext cx="311400" cy="1299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625320" y="5241960"/>
            <a:ext cx="2620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312920" y="1685880"/>
            <a:ext cx="19684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19040" y="2460600"/>
            <a:ext cx="196884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44320" y="1227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73840" y="1227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" y="1387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343400" y="122220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25360" y="1389240"/>
            <a:ext cx="0" cy="2006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226040" y="1389240"/>
            <a:ext cx="0" cy="2006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38840" y="1036800"/>
            <a:ext cx="4164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можете поставить звонок по интеркому на удержание с помощью кнопк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1360" y="2100240"/>
            <a:ext cx="1844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3520" y="2295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45680" y="792000"/>
            <a:ext cx="3347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поставить звонок по интеркому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625320" y="1838160"/>
            <a:ext cx="262080" cy="2080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35080" y="140328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ы могли воспользоваться этой функцией, у теле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фона должна быть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IC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+ SPEED + Мягкая кнопка +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интеркому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43000" y="2298600"/>
            <a:ext cx="3124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зможно, если 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ICM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является мягкой кнопко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ировать кнопку ICM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 +  Мягкая кнопка +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должить разговор,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ICM, которая запрограммирована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ягкая кнопка, еще раз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851200" y="6121440"/>
            <a:ext cx="1568520" cy="946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1360" y="4091040"/>
            <a:ext cx="35971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прямого доступа       номер стан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вод на ожидание     700~7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иск группы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710~7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номера        7 7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дентификационный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д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становка                        7 4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зменение                       7 4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локировка звонка          7 4 7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мена блокировки        7 4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од кода регистра         7 5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Автонабор                       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едв. сообщения          7200 ~722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ниверсальный ответ     7 7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кличная кнопка           7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ICM                      7 7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остной на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. наб. станции        SPEED + номер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00~19)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кор. наб. системы       SPEED + номер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20~99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торный набор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днего номера      SPEED +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в GK-24/36)       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ие                   SPEED +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44240" y="792000"/>
            <a:ext cx="236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рограммирование мягких кноп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139040" y="1235160"/>
            <a:ext cx="2597040" cy="21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запрограммировать мягкие кнопк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зучите таблицу и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Как стереть мягкую кнопку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, которую нужно стере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6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ягкую кноп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зучите таблицу и введите нужный ко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4320" y="1069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374560" y="1069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" y="12304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7080" y="1065240"/>
            <a:ext cx="60984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125360" y="1230480"/>
            <a:ext cx="0" cy="22748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226040" y="1230480"/>
            <a:ext cx="0" cy="22748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786120"/>
            <a:ext cx="4495680" cy="214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Коды программирования мягких кнопок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3680" y="4083120"/>
            <a:ext cx="448308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076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53000" y="407664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17680" y="2527200"/>
            <a:ext cx="1844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33520" y="27226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759120" y="612144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74880" y="4076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601560" y="139536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601560" y="20098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601560" y="2235240"/>
            <a:ext cx="311400" cy="1299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703600" y="4086360"/>
            <a:ext cx="253044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узыка                         7 7 3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* 7 3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08A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брос                           7 7 5 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(в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внеш. лин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 к группам        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1                     8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2                     8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3                     8 3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4                     8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5                     8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6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8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а # 7                     8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700" spc="-1" strike="noStrike">
                <a:solidFill>
                  <a:srgbClr val="000000"/>
                </a:solidFill>
                <a:latin typeface="Arial"/>
              </a:rPr>
              <a:t>(Группы #4~#7 только у GHX-36/46/616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ндивидуальная линия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Клавиатура GSX/E, GK-8-кнопочн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                        7 6 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ONF                           7 6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CALLBK                       7 6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DND/FOR                    7 6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FLASH                         7 6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UTE                           7 6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MON                             7 6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671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поставить звонок из внешней линии на удержани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25360" y="3059280"/>
            <a:ext cx="0" cy="34938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4320" y="2898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74560" y="2898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0592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1920" y="3108240"/>
            <a:ext cx="3128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Два раза, если хотите поставить на удержание тольк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эту линию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Один раз, если хотите поставить на удержание систе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в обратном порядке, в зависимости от того, как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программирована эта функци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систем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28875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2520" y="4319640"/>
            <a:ext cx="2214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24280" y="4511520"/>
            <a:ext cx="30556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двухзначный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находящейся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держан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Таким способом можно восстановить находящийся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удержании звонок только с той станции, которая е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тавила на удержание.)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6240" y="4467240"/>
            <a:ext cx="67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: 01~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5165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26040" y="3059280"/>
            <a:ext cx="0" cy="34938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5360" y="1204920"/>
            <a:ext cx="0" cy="12333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26040" y="1204920"/>
            <a:ext cx="0" cy="12333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0335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2080" y="792000"/>
            <a:ext cx="3336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ак ответить на звонок по интерком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040" y="1249200"/>
            <a:ext cx="221472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4640" y="1457280"/>
            <a:ext cx="31258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здается звонок по интеркому. Подним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можете выбрать режим TN (тональный) или HF (громко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оворящая связь), если нажмете подряд кнопк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6 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чт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зволяет переключатся между тональным и конфиден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альным режимом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конфиденциальном режиме вы услышите три сигнала, 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тональном режиме подтверждающий сигнал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430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2520" y="5551560"/>
            <a:ext cx="2214360" cy="19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5360" y="5743440"/>
            <a:ext cx="30531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олько с той станции, которая поставила этот звонок на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ание (если вы нажмете на такой станции мигающую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у). Вы также можете нажать кнопки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8 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or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8 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сти двухзначный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лин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которая поставлена 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удержани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06240" y="5899320"/>
            <a:ext cx="67932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08A : 01~0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36 : 01~12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46 : 01~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616: 01-06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7484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6800" y="5199120"/>
            <a:ext cx="3010680" cy="3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восстановить звонок при удержании линии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мигающую кнопку, чтобы продолжить разгово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" y="320508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2080" y="79200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25360" y="1204920"/>
            <a:ext cx="0" cy="2681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4320" y="10447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74560" y="10447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26040" y="1204920"/>
            <a:ext cx="0" cy="2681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204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2640" y="1243080"/>
            <a:ext cx="305028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огда на линии внешний звонок,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Звонок будет поставлен на удержание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кнопку прямого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перь вы можете сделать отслеживаемый и не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мый перевод звонк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лицо, дополнительный номер которого был набран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ит, сообщите о переводе звонка и 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сто повесьте трубку, чтобы законч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сле того, как наберете номер станции или нажме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 и услышите гудк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Как ответить на отслеживаемый перевод звонк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вашем телефоне раздается такой звонок, который бы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ран вами в режиме ответа на звонки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тветьте на звонок по интерком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ередающий звонок повесит трубку и звонок будет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единен  с вам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103356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090880"/>
            <a:ext cx="898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тслеживае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мый перево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7280" y="2440080"/>
            <a:ext cx="81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е отслеж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ваемы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5360" y="4546440"/>
            <a:ext cx="0" cy="9399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26040" y="4546440"/>
            <a:ext cx="0" cy="93996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2640" y="4587840"/>
            <a:ext cx="29469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памяти телефона сохраняется последний набранный во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нешнюю линию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набрать такой последний номер автоматическ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 GK-24/3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если не запрограммирована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8230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абранно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5360" y="6210360"/>
            <a:ext cx="0" cy="1157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4320" y="60498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и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73840" y="60498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604512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26040" y="6210360"/>
            <a:ext cx="0" cy="1157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6210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0120" y="6259680"/>
            <a:ext cx="311760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ы хотите сохранить последний набранный вами ном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сле набора номера не клади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два раз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4320" y="43974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73840" y="43974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39272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5543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41702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торный набор последнего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01560" y="137160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01560" y="4992840"/>
            <a:ext cx="311400" cy="112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01560" y="5211720"/>
            <a:ext cx="311400" cy="1224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01560" y="6477120"/>
            <a:ext cx="311400" cy="122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01560" y="7010280"/>
            <a:ext cx="311400" cy="1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39920" y="7272360"/>
            <a:ext cx="1218960" cy="152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04960"/>
            <a:ext cx="236232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0840" y="1523880"/>
            <a:ext cx="283212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Dial Memo, набер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+ SPEED + Мягкая кнопка + 7 7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уж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нова, чтобы сохран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набра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ru-RU" sz="900" spc="-1" strike="noStrike">
                <a:solidFill>
                  <a:srgbClr val="000000"/>
                </a:solidFill>
                <a:latin typeface="Arial"/>
              </a:rPr>
              <a:t>Чтобы проверить сохраненный номер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режиме ожидания,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IAL MEMO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охраненный номер появится на дисплее (если есть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4548240"/>
            <a:ext cx="2057400" cy="380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5320" y="792000"/>
            <a:ext cx="2042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охранение номера в памя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5360" y="1494000"/>
            <a:ext cx="0" cy="16524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4320" y="1333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73840" y="1333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13446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26040" y="1494000"/>
            <a:ext cx="0" cy="16524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14940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9880" y="1042920"/>
            <a:ext cx="450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 или по интеркому вы можете сохранить номер в памят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5360" y="3979800"/>
            <a:ext cx="0" cy="1658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4320" y="38196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74560" y="38196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3814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26040" y="3979800"/>
            <a:ext cx="0" cy="1658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39798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" y="3557520"/>
            <a:ext cx="447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омер на внешней линии занят или не отвечает, система может набрать номер ещ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 автоматически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300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Автоматический набор номер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802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ыключение микрофон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25360" y="6494400"/>
            <a:ext cx="0" cy="935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320" y="633420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74560" y="633420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43400" y="63295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26040" y="6494400"/>
            <a:ext cx="0" cy="935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6494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6527880"/>
            <a:ext cx="31240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чтобы выключить микрофон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еще раз, чтобы включить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4520" y="6019920"/>
            <a:ext cx="448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разговариваете по телефону, но хотите что-нибудь сказать присутствующим пр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шем разговоре лицам, вы можете сделать так, что звонящий ничего не услыши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39040" y="6973920"/>
            <a:ext cx="3057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запрограммированную MUTЕ, чтобы выключи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8840" y="6810480"/>
            <a:ext cx="14882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69930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39120" y="7115040"/>
            <a:ext cx="214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MU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6* + Flex. button + 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01560" y="4076640"/>
            <a:ext cx="311400" cy="111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01560" y="6600960"/>
            <a:ext cx="311400" cy="1238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43000" y="4022640"/>
            <a:ext cx="32004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REDIA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 GK-24/36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жмите запрограммированную кнопку Auto Red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 клавиатуре GSX/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автоматического набор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SPEED + SPEED + Мягкая кнопка +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 6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анятый или неотвечающий номер будет набран автомат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ески еще раз после определенного интервала (загор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номер ответит, поднимите трубку и говорит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42800" y="792000"/>
            <a:ext cx="1271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чередь в лин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5360" y="1525680"/>
            <a:ext cx="0" cy="1620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4320" y="13651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73840" y="13651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3604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26040" y="1525680"/>
            <a:ext cx="0" cy="1620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15256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1558800"/>
            <a:ext cx="312408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 или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группы линий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огда вы нажме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, загорится кнопк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 вы услышите подтверждающий сигнал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занятой внешне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Если вы запрограммировали кнопку CALLBK на 8-кнопоч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й клавиатуре, 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CALLBK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5 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4160" y="1066680"/>
            <a:ext cx="4397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линия занята и вы хотите встать в очередь, чтобы подключится к линии, когда он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дится, проделайте следующее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2520" y="2227320"/>
            <a:ext cx="14882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242244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5360" y="3868560"/>
            <a:ext cx="0" cy="8557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4320" y="3708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73840" y="3708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37036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26040" y="3868560"/>
            <a:ext cx="0" cy="8557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38685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3909960"/>
            <a:ext cx="3124080" cy="6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огда внешняя линия или одна из линий группы лини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свобождаетс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услышите гудки и загорится кнопка этой линии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 нажмите кнопку внешней линии в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течение 15 секунд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4304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вет на запрос в очеред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4320" y="5248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74560" y="5248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5408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524340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5408640"/>
            <a:ext cx="0" cy="1144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26040" y="5408640"/>
            <a:ext cx="0" cy="1144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50040"/>
            <a:ext cx="30481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разговоре по внешней линии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700~7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Чтобы отменить перевод звонка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700~70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9705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звонка на определенную станцию для ожидания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01560" y="1833480"/>
            <a:ext cx="311400" cy="1238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25320" y="196992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01560" y="5605560"/>
            <a:ext cx="311400" cy="13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625320" y="6024600"/>
            <a:ext cx="2620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305000" y="2295360"/>
            <a:ext cx="20476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1360" y="798480"/>
            <a:ext cx="1585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брос (кнопка FLAS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4320" y="13683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74560" y="13683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5289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77880"/>
            <a:ext cx="30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ри соединении с внешней линией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43400" y="1363680"/>
            <a:ext cx="7621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25360" y="1530360"/>
            <a:ext cx="0" cy="113652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26040" y="1530360"/>
            <a:ext cx="0" cy="1136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2680" y="1023840"/>
            <a:ext cx="467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ъединяет внешнюю линию. Может использоваться для повторного набора, если систем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ключена к мини-АТС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040" y="1785960"/>
            <a:ext cx="19972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На 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981080"/>
            <a:ext cx="373392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8880" y="3741840"/>
            <a:ext cx="2583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включить спикер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внешней линии или интерком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4320" y="35719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74560" y="35719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3732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67080" y="35672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25360" y="3732120"/>
            <a:ext cx="0" cy="6494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26040" y="3732120"/>
            <a:ext cx="0" cy="649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3800" y="3176640"/>
            <a:ext cx="4331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пикер автоматически включается, когда вы нажимаете кнопку внешней линии,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коростного набора, кнопку станции или набираете номер станции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913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Спикер (громкоговоритель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43000" y="6087960"/>
            <a:ext cx="312408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5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вой старый четырехзначный код 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свой новый четырехзначный код 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461484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дентификационный код доступ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25360" y="5319720"/>
            <a:ext cx="0" cy="18050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4320" y="515952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74560" y="515952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6040" y="5319720"/>
            <a:ext cx="0" cy="18050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3197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5345280"/>
            <a:ext cx="312408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установить код доступа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 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ведите четырехзначный код доступа. (Вы услыш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51544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" y="4853160"/>
            <a:ext cx="449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о избежание неавторизованного использования вашей станции, в системе предусматр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ается система блокировки станции с помощью идентификационного кода доступ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1560" y="1644480"/>
            <a:ext cx="311400" cy="1288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25320" y="389088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625320" y="579132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625320" y="6724800"/>
            <a:ext cx="262080" cy="209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143000" y="202104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и соединении с внешней линией нажмите запрограмми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ованную кнопку FLASH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FLASH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 +  Мягкая кнопка  + 7 6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43000" y="4267080"/>
            <a:ext cx="3124080" cy="25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берите тип переадресации звонка 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0 - Unconditional (без условий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1 - No answer calls (если номер 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2 - Busy calls (если номер заня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 - Busy / no answer calls (если номер занят/не отвечает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4 - Follow me (отслеживание)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 - Off-net (Переадресация на внешнюю линию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В GHX-308A, можно установить только тип 0. Вам не нужно выбирать тип переадресации звонк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0" lang="ru-RU" sz="800" spc="-1" strike="noStrike" u="sng">
                <a:solidFill>
                  <a:srgbClr val="000000"/>
                </a:solidFill>
                <a:uFillTx/>
                <a:latin typeface="Arial"/>
              </a:rPr>
              <a:t>номер станции.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(100~699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вы выбрали тип  5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SPEED и введите номер скоростного набор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HOL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жмите кнопку внешней линии и наберит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телефонный номер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HOLD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25360" y="1407960"/>
            <a:ext cx="0" cy="687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4320" y="12477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74560" y="12477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26040" y="1407960"/>
            <a:ext cx="0" cy="687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14079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1441440"/>
            <a:ext cx="3124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4 7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МUTE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будет мигать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 (Теперь вы не сможете сделать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нешний звонок, только звонки по интеркому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124308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4160" y="1017720"/>
            <a:ext cx="3659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Примечани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: Необходимо установить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3160" y="792000"/>
            <a:ext cx="2080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Блокировка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3479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Отмена блокировки внешних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25360" y="2747880"/>
            <a:ext cx="0" cy="79560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4320" y="25876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74560" y="25876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26040" y="2747880"/>
            <a:ext cx="0" cy="79560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74788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2781360"/>
            <a:ext cx="304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4 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ваш идентификационный код доступ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а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МUTЕ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погаснет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2590920"/>
            <a:ext cx="6094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25360" y="4218120"/>
            <a:ext cx="0" cy="2585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4320" y="40575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373840" y="40575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26040" y="4218120"/>
            <a:ext cx="0" cy="2585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21812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05288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38178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22200" y="6673680"/>
            <a:ext cx="18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625320" y="1681200"/>
            <a:ext cx="262080" cy="2095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01560" y="4403880"/>
            <a:ext cx="31140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118116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41360" y="93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25360" y="1389240"/>
            <a:ext cx="0" cy="3182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22640" y="93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2520" y="1195560"/>
            <a:ext cx="132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 GK-8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44320" y="101916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74560" y="101916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1014480"/>
            <a:ext cx="685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6280" y="1376280"/>
            <a:ext cx="371484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35800" y="3276720"/>
            <a:ext cx="24213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переадресацию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1560" y="3933720"/>
            <a:ext cx="309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4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жмите запрограммированную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9200" y="381312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00536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26040" y="1149480"/>
            <a:ext cx="0" cy="342252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6040" y="792000"/>
            <a:ext cx="253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адресация звонка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25360" y="5192640"/>
            <a:ext cx="0" cy="21988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4320" y="50324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74560" y="50324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26040" y="5192640"/>
            <a:ext cx="0" cy="21988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1926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5226120"/>
            <a:ext cx="3124080" cy="22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на вашем телефоне, запрограммирована эта функция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ложите трубку, нажмите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или во время звонка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агорится индикатор, указывающий на режим DND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запрограммированну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Вы услышите подтверждающий сигнал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Чтобы отменить данную функцию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не поднимая трубку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ндикатор погаснет и функция будет отключена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аберите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 5 3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или запрограммированную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343400" y="50277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477360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нкция “не беспокоить” (Do Not Distur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9200" y="563076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583740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9200" y="6827760"/>
            <a:ext cx="9651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SX/E 8 кнопок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7010280"/>
            <a:ext cx="3657600" cy="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25320" y="2971800"/>
            <a:ext cx="262080" cy="208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601560" y="359568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601560" y="5380200"/>
            <a:ext cx="311400" cy="1252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01560" y="6568920"/>
            <a:ext cx="311400" cy="12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305000" y="1828800"/>
            <a:ext cx="2276280" cy="228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28960" y="1411200"/>
            <a:ext cx="3112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7 5 4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ли нажмите запрограммированную кнопк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DND/FOR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Чтобы запрограммировать кнопку DND/FO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7 6 * + Мягкая кнопка + 76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ведите тип переадресации. (0~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(В GHX-308A, можно установить только тип 0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Вам не нужно выбирать тип переадресации звонка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номер станции (100~699) или нажмите кнопк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ямого доступ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(Если вы выбрали тип переадресации 5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SPEED и введите номер скоростного набор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Или нажмите кнопку внешней линии и наберите номер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весьте трубку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125360" y="1211400"/>
            <a:ext cx="0" cy="101124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4320" y="10508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6040" y="1211400"/>
            <a:ext cx="0" cy="10112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1244520"/>
            <a:ext cx="31240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главной станцией и он занят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или находится в режиме DND (“не беспокоить”), то вс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звонки будут передаваться на станцию-секретаря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Если ваш телефон является станцией-секретарем, то вы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ожете сообщить на главную станцию, которая находитс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 режиме DND, о поступившем звонке с помощью функции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ожидания звонка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105264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" y="250812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групповой звоно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125360" y="2908440"/>
            <a:ext cx="0" cy="89676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4320" y="274788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73840" y="274788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275760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26040" y="2908440"/>
            <a:ext cx="0" cy="90144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08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95740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должны находится в той же группе станций, что и стан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ция, на которую поступил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слышите поступающий 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бер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 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121140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74560" y="10508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6400" y="792000"/>
            <a:ext cx="3034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еревод главная станция/станция-секретар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125360" y="4600440"/>
            <a:ext cx="0" cy="962280"/>
          </a:xfrm>
          <a:prstGeom prst="line">
            <a:avLst/>
          </a:prstGeom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4320" y="4440240"/>
            <a:ext cx="43668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Кнопк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73840" y="4440240"/>
            <a:ext cx="62280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6040" y="4600440"/>
            <a:ext cx="0" cy="962280"/>
          </a:xfrm>
          <a:prstGeom prst="line">
            <a:avLst/>
          </a:prstGeom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4600440"/>
            <a:ext cx="449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4649760"/>
            <a:ext cx="3124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ы слышите звонок по интеркому или из внешней лини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 другой группе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однимите трубку или нажмите кнопку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и введите номер станции, на которую поступи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Звонок соединится с вашим телефоном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43400" y="4435560"/>
            <a:ext cx="5335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Разброс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4038480"/>
            <a:ext cx="4495680" cy="22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Как ответить на звонок, поступающий в другую группу стан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0200" y="4243320"/>
            <a:ext cx="3598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ы можете ответить на звонок, поступающий в другую группу станций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27120" y="3290760"/>
            <a:ext cx="260280" cy="2095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627120" y="4892760"/>
            <a:ext cx="26028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8T08:39:32Z</dcterms:created>
  <dc:creator>USER</dc:creator>
  <dc:description/>
  <dc:language>en-US</dc:language>
  <cp:lastModifiedBy>lg</cp:lastModifiedBy>
  <cp:lastPrinted>1998-02-23T02:29:20Z</cp:lastPrinted>
  <dcterms:modified xsi:type="dcterms:W3CDTF">1998-04-04T05:22:44Z</dcterms:modified>
  <cp:revision>170</cp:revision>
  <dc:subject/>
  <dc:title>ЅЅ¶уАМµе Б¦ёс ѕшАЅ</dc:title>
</cp:coreProperties>
</file>