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5335588" cy="8002588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АНАЛОГОВЫЕ КНОПОЧНЫЕ ТЕЛЕФОНЫ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СЕРИИ GSX/E,G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70160" y="761688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59640" y="7462800"/>
            <a:ext cx="70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BF3CCA-7C45-41CB-AA41-79660596FFC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81960" y="792000"/>
            <a:ext cx="1140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41360" y="1119240"/>
            <a:ext cx="4587840" cy="61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Аналоговые кнопочные телефоны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Клавиатура аналоговых кнопочных телефонов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…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внешний звонок  ............................................................................................................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......................................................................................................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поставить звонок на удержание 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..............................................................................................................................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 .........................................................................................…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абранного номера 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а в памяти .....................................................................................................…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матический набор номера ..........................................................................................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ключение микрофона 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чередь в линии 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апрос в очереди 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на определенную станцию для ожидания ..............................................................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брос ...............................................................................................................................................…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пикер .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дентификационный код доступа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их звонков .......................................................................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мена блокировки внешних звонков .........................................................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адресация звонков ......................................................................................................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ежим “не беспокоить” 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 секретарь 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групповой звонок ..................................................................................................…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вонок, поступающий в другую группу станций 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нференция 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ожидания звонка 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вонок, находящийся на ожидании 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звратный звонок 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о звонке ....................................................................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на станции 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удильник 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вашего имени на дисплее 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едварительно составленное сообщение 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ройка громкости 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матический выбор 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Горячая линия” ..................................................................................................................................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-минутное предупреждение 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узыка 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сигнала интеркома 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по звонка интеркому 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зов ..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поставить звонок по интеркому на удержание............................................................................2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мягких кнопок 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ействия оператора систем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будильника 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авление функции DND 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ключение доступа к внешней линии 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 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становка времени/даты 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даление пароля 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очной перевод звонков 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становка пароля доступа 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из системы 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сообщений пользователя 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Алфавитный указатель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41360" y="1119240"/>
            <a:ext cx="4587840" cy="61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Аналоговый кнопочный телефон в системе GDK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внешний звонок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групповой звонок по интеркому 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режима ответа на звонки по интеркому 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 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 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поставить внешний звонок на удержание 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поставить звонок по интеркому на удержание 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Voice Over  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 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последнего номера 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ов 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матический набор номера 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ключение микрофона 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чередь 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апрос в очереди  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 секретарь 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шаговый звонок 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групповой звонок 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вонок, поступивший в другую группу номеров 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нференция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жидание звонка 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вонок, находящийся на ожидании 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звратный звонок 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о звонке 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адресация звонка 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DND  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на станции 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дентификационный код доступа 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их звонков 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мена блокировки внешних звонков 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будильника 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имени 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едварительно составленные сообщения 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зов  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и постановка на ожидание 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ниверсальный ночной ответ 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узыка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брос ..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пикер .........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анция DVU......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мягких кнопок 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ействия оператора систем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будильника 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мешательство оператора  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ей линии для исходящих звонков 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формата даты и времени 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 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аспечатка отчетов SMDR 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ирание отчетов SMDR  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ременное изменение класса услуг 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ветствия, записанные в системе 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нализ трафика ..............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невной/ночной режим обслуживания (ручной/автоматический) 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8280" y="792000"/>
            <a:ext cx="110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41360" y="1119240"/>
            <a:ext cx="458784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из системы 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бор музыкального канала оператором 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тереть сообщение на станции 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 с помощью кнопок DSS 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по интеркому 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Групповой звонок по интеркому 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учение доступа к телефону, который находится в режиме DND 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Алфавитный указатель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09572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8280" y="792000"/>
            <a:ext cx="110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03:21:08Z</dcterms:created>
  <dc:creator>USER</dc:creator>
  <dc:description/>
  <dc:language>en-US</dc:language>
  <cp:lastModifiedBy>lg</cp:lastModifiedBy>
  <cp:lastPrinted>1998-04-04T06:14:58Z</cp:lastPrinted>
  <dcterms:modified xsi:type="dcterms:W3CDTF">1998-04-04T06:15:14Z</dcterms:modified>
  <cp:revision>22</cp:revision>
  <dc:subject/>
  <dc:title>ЅЅ¶уАМµе Б¦ёс ѕшАЅ</dc:title>
</cp:coreProperties>
</file>