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5335588" cy="8002588"/>
  <p:notesSz cx="672465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723960"/>
            <a:ext cx="449604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54600" y="74674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CC61932-98D3-437A-B730-3B4160693FD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02120" y="522360"/>
            <a:ext cx="449604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                                                                СЕРИИ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439560" y="716040"/>
            <a:ext cx="239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налоговые кнопочные телефон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28400" y="2706840"/>
            <a:ext cx="449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3-кнопочный расширенны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3-кнопочный управляющий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DSS/DLS Панель управления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48920" y="1049400"/>
            <a:ext cx="4437720" cy="4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SX/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8- кнопочный             </a:t>
            </a: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1- кнопочный расширенный           </a:t>
            </a:r>
            <a:r>
              <a:rPr b="0" lang="ru-RU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1- кнопочный управляющ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9320" y="5715000"/>
            <a:ext cx="4552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36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36S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SS-DLS Панель управле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3480" y="4038480"/>
            <a:ext cx="2948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24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24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32000" y="722160"/>
            <a:ext cx="322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лавиатура аналоговых кнопочных телефон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042920"/>
            <a:ext cx="1728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нопочные телефоны GSX/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" y="1295280"/>
            <a:ext cx="4222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SX/E-8 кнопо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SX/E-21 кнопок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SX/E-33 кнопо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8880" y="4002120"/>
            <a:ext cx="4159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K-8(E/S)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24(E/S)                     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Marlett"/>
                <a:ea typeface="Marlett"/>
              </a:rPr>
              <a:t>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GK-36(E/S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06:31:22Z</dcterms:created>
  <dc:creator>USER</dc:creator>
  <dc:description/>
  <dc:language>en-US</dc:language>
  <cp:lastModifiedBy>lg</cp:lastModifiedBy>
  <cp:lastPrinted>1998-04-04T06:13:42Z</cp:lastPrinted>
  <dcterms:modified xsi:type="dcterms:W3CDTF">1998-04-04T06:14:32Z</dcterms:modified>
  <cp:revision>14</cp:revision>
  <dc:subject/>
  <dc:title>ЅЅ¶уАМµе Б¦ёс ѕшАЅ</dc:title>
</cp:coreProperties>
</file>