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E5E-4215-4AFF-9C59-8FE1DB83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AF8-02E4-4093-A793-ABC6EBAF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6CF-B72E-4A18-99C5-B9B0C758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72F-0571-4527-A5F1-2B956972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F60-5379-46C5-A6E8-DB211E69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D6A-4876-4F8B-A8A9-73F92128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97C2-558B-42FC-BE20-2FBDCFF1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888-ED02-4D53-BBE8-0B12349E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B3A8-5F59-49D5-8693-74ED6C4D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DE4D-153C-46BE-94F7-59A68C9A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098-4AD2-415E-B6D4-B1A89140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C3A-00E2-4B18-A37F-DB454471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C63F800-5017-4C28-8F71-ACEE4F91C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54160" y="119052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АНАЛОГОВЫЙ КНОПОЧНЫЙ ТЕЛЕФОН / Краткое руководство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СЕРИИ GS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X/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E, G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19320" y="137160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55600" y="1690560"/>
            <a:ext cx="2349720" cy="18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нопк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используется для прекращения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азгово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еспечивает доступ к функциям ско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остного набора, сохранения номера для пов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орного набора и повторного набора послед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его номера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TRANSFER) используется для пере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да звонка с одной станции на другую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CALLBACK) позволяет оставить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 вашем звонке, если номер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анят или находится в режиме DND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используется для конференций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(FORWARD) позволяет вам пере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дресовывать звонки на другой телефон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371600"/>
            <a:ext cx="4267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раткое руководство по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налоговый кнопочной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телефон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68520" y="1792440"/>
            <a:ext cx="23274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MUTE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зволяет отключать микрофон или спике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позволяет сделать звонок или ответит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 звонок без поднятия трубки. Включает 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ключает спикер.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позволяет поставить входящий звонок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 удержа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REDIAL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зволяет автоматически набрать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ледний набранный вами номе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HF-P-T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зволяет выбрать режим интерком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ISM, режимы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ands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ree,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rivacy и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on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зволяет настроить громкост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вонка и спике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3530520"/>
            <a:ext cx="44193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7160" y="3605040"/>
            <a:ext cx="2349360" cy="48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адресация звон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DND/FOR и введите тип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0 : Unconditional (без условий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1 : No answer calls (если номер не отвеча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2 : Busy calls (если номер заня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3 : Busy/no answer calls (если занят/не отвеча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4 : Follow me (отслеживани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5 : Off-net (находится вне сети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 GHX-308A тип переадресации выбирать н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ужно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танции (Вы услыш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тверждающий сигнал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вы выберете тип 5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и введите номер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го набо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HOL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ли, нажмите кнопку внешней линии и наберит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елефонный номер.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HOLD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Функция ожида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 вы можете сообщить о вашем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вонк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Пользователь станции, номер которой занят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слышит сигнал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он ответит, говорите с ним или повесьте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рубку, чтобы перевести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онференц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первого пользовател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нешний или внутренний). Когда он ответит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CONF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берите другую линию, чтобы подключить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ще одного пользователя к конференции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он ответит, нажмите CONF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Чтобы установить конференцию с внешним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линиями, необходима мультик анальная линия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Чтобы закончить конференцию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акончить конференцию должен ее инициато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ожите трубку или нажмите кнопку M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81480" y="3605040"/>
            <a:ext cx="248580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общение об ожида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, не отвечает или находится 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ежиме DND, вы можете оставить сообщение о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ашем звонк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интеркома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CALLBK. На телефоне друг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льзователя будет мигать индикатор CALLBK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Чтобы ответить на звонок, находящийся на ожидан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мигающую кнопку CALLBK. На станц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торая оставила сообщение, раздастся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станция не отвечает, нажмите кнопку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CALLBK один раз, чтобы оставить сообщени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Как поставить внешний звонок на удержа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 по внешней лин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HOL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Два раза, чтобы поставить на удержани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дельную линию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Один раз, чтобы поставить на удержание систем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оборот, если кнопка запрограммирована 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ратном порядке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ледний набранный во внешнюю линию номе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яется в памяти системы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REDIAL. (GK-24/36) ил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 и нажмите *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хранение повторного набора номе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вы хотите сохранить последний набранный вами номер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сле набора номера во внешнюю линию не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ладите труб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Чтобы набрать сохраненный номер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и нажмите #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27160" y="1676520"/>
            <a:ext cx="234936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Перевод звон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 разговоре по внешней лини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TRAN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танции или кнопку прям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оступа DS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ы можете выбрать отслеживаемый перевод ил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е отслеживаемый перевод 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Отслеживаемый перевод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лицо, на номер которого переводится звонок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ит, сообщите ему о переводе и положите трубку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Неотслеживаемый перевод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вы услышите гудки, положите трубку, чтоб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ести звонок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Сохранение номеров скоростного набо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коростного набор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00~19 скор. набор со станции  (GHX-308A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0~09 скор. набор со станции (GHX-36/4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- 20~99  номера скор. набора из систем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Программируются оператором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телефонные номера, которые в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хотите сохранить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Чтобы стереть номер скоростного набора,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берите номер скоростного набора, которы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 хотите стереть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Набор номера скоростного набор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SPEED  и наберите номер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го набора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номер ответит, поднимите трубку ил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спользуйтесь спикером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Возвратный звон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Если номер занят, вы можете оставить сообщение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жмите кнопку CALLBK и повесьте трубку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гда занятый номер прекратит разговор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телефон сообщит вам об этом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 M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3627360"/>
            <a:ext cx="2349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Программирование мягких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SPEED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мягкую кноп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В соответствии с таблицей введите код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HOL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14680" y="4324320"/>
            <a:ext cx="2124000" cy="199404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89480" y="4294080"/>
            <a:ext cx="266688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д прямого доступа  100~107 (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~127 (GHX-36)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~139 (GHX-4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жидание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700~7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иск группы               710~7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. набор со стан.   SPEED + 00~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00~09 в GHX-36/4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. набор из сист.   SPEED + 20~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ниверс. ночной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7  7  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т. набор номера  SPEED +  *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а  SPEED + #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щий вызов             #  0  (нет у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зона 1              #  1 (нет у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зона 2              #  2 (нет у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все                   #  5 (нет у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ешний вызов          #  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ндивид. вызов         #  7  (## в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11800" y="6324480"/>
            <a:ext cx="1659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Чтобы стереть мягкую кнопку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SPEED два раза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нужную мягкую кноп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FLASH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M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3160" y="1676520"/>
            <a:ext cx="260676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Очередь в ли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Если линия занята и вы хотите встать в очередь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что-бы подключится к линии, когда она освободится, проделайте следующее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жмите кнопку занятой внешней линии ил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у группы линий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огда вы нажмете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, она загоритс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и вы услышите подтверждающий сигнал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Как ответить на звонок, находящийся в очереди,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огда внешняя линия или одна из линий группы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линий освобождается, вы услышите гудки и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загорится кнопка этой лини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однимите трубку и нажмите эту кнопку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1363680"/>
            <a:ext cx="40384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раткое руководство по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налоговый кнопочной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телефон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23T08:04:16Z</dcterms:created>
  <dc:creator>USER</dc:creator>
  <dc:description/>
  <dc:language>en-US</dc:language>
  <cp:lastModifiedBy>lg</cp:lastModifiedBy>
  <cp:lastPrinted>1998-03-29T13:12:56Z</cp:lastPrinted>
  <dcterms:modified xsi:type="dcterms:W3CDTF">1998-04-04T06:56:18Z</dcterms:modified>
  <cp:revision>27</cp:revision>
  <dc:subject/>
  <dc:title>ЅЅ¶уАМµе Б¦ёс ѕшАЅ</dc:title>
</cp:coreProperties>
</file>