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5335588" cy="8002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952F-3D0A-491E-A981-B141AA9E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7854-494F-40A0-9E62-DC8819AD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0E3F-701E-4BD8-A414-E21492F6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F84-C600-4645-A960-FAEDF0F4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B44-06F6-4FAB-8476-574F2637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C435-2A78-4373-9BCD-064E1583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224-9317-4867-BBFB-8C766228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115E-A6EB-4615-892E-ED78C284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73E8-EB72-48F7-BB4F-0B721994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EA3F-E5F5-4A4A-99E4-BE54A438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5E74-0985-4097-B799-67BA923A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4061-C94C-4AB1-B6B2-BB67B81C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80520" y="7277040"/>
            <a:ext cx="1143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828440" y="7277040"/>
            <a:ext cx="1676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809520" y="7277040"/>
            <a:ext cx="1143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D9D173-BAE7-4C08-961A-BF8410230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9040" y="723960"/>
            <a:ext cx="449604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154600" y="741996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BF5508-E114-4022-8C59-C724CB2F9E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3680" y="522360"/>
            <a:ext cx="4626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ЦИФРОВЫЕ КНОПОЧНЫЕ ТЕЛЕФОНЫ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              СЕРИИ  KD, KD/E, LK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6667560"/>
            <a:ext cx="2895840" cy="609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413240"/>
            <a:ext cx="289584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520" y="2795760"/>
            <a:ext cx="2505960" cy="22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Серия K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D-36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D-36D : дисплей, 24 мягких кнопки, два индикато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D-36N : без дисплея, 24 мягких кнопки, два индикато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D-24D : дисплей, 12 мягких кнопок, два индикато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D-24N : без дисплея, 24 мягких кнопки, два индикато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4680" y="1042920"/>
            <a:ext cx="2471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Большие цифровые кнопочные телефон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KD-33LD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9800" y="5005440"/>
            <a:ext cx="2713320" cy="23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Серия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KD/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D/E-36EX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D/E-36EXE : дисплей, 24 мягких кнопки, два индикато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D/E-36ENH : без дисплея, 24 мягких кнопки, два индикато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D/E-24EXE : дисплей, 12 мягких кнопок, два индикато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D/E-24ENH : без дисплея, 24 мягких кнопки, два индикато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D/E-8 BTN :  без дисплея, 8 мягких кнопок, два индикато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716040"/>
            <a:ext cx="230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Цифровые кнопочные телефон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8320" y="1303200"/>
            <a:ext cx="84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KD/E-36LD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960" y="3036960"/>
            <a:ext cx="72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KD-24N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5160" y="5257800"/>
            <a:ext cx="84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D/E-24E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41040" y="5257800"/>
            <a:ext cx="77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D/E-8B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908440"/>
            <a:ext cx="2895840" cy="55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1600" y="1042920"/>
            <a:ext cx="2832120" cy="24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Серия LK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KD-2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KD-2NS : без дисплея, 2 мягких кнопки, один индикатор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KD-8DS : дисплей, 8 мягких кнопок, один индикатор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KD-30DS : дисплей, 30 мягких кнопок, один индикатор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KD-30LD : большой дисплей, 30 мягких кнопок, один индикатор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KD-48DSS : 44 мягких кнопки, один индикатор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3960" y="3557520"/>
            <a:ext cx="468072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Серии KE/C, KD/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нопки телефонов серий KE/C и KD/C имеют такие же функции, что и кнопки KD, KD/E и C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Компьютерно-телефонная интеграция = СTI), для подключения к компьютеру (RS-232C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ункция интерфейса). При подключении к модулю CTI, кнопки телефонов серий КE/C и KD/C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едназначены для получения или передачи информации на компьют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Руководство по подключению модуля CTI к клавиатуре KE/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.  Подключите клавиатуру KE/C, KD/C к порту KTU модуля CTI с помощью 6-контактног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бел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.  Подключите KSU к порту KSU модуля CTI с помощью 4-контактного кабел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.  Подключите последовательный порт компьютера к последовательному порту модуля C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помощью  9-контактного кабеля RS-232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6320" y="722160"/>
            <a:ext cx="230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Цифровые кнопочные телефон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11120" y="1295280"/>
            <a:ext cx="7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KD-8D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11160" y="1295280"/>
            <a:ext cx="71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KD-30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3160" y="716040"/>
            <a:ext cx="3082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лавиатура цифрового кнопочного телефо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066680"/>
            <a:ext cx="242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Большие цифровые кнопочные телефон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KD-33LD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200" y="4110120"/>
            <a:ext cx="793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Серия K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D-36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8320" y="1303200"/>
            <a:ext cx="84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KD/E-36LD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5320" y="4351320"/>
            <a:ext cx="69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KD-3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82640" y="4357800"/>
            <a:ext cx="69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D-24D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640" y="4352760"/>
            <a:ext cx="69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KD-2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3160" y="716040"/>
            <a:ext cx="3082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лавиатура цифрового кнопочного телефо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040" y="1066680"/>
            <a:ext cx="1387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Серия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KD/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D/E-36EX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5160" y="1319040"/>
            <a:ext cx="84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D/E-24E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41040" y="1319040"/>
            <a:ext cx="77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D/E-8B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040" y="4038480"/>
            <a:ext cx="14637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Серия LK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KD-2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11120" y="4290840"/>
            <a:ext cx="7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KD-8D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1160" y="4290840"/>
            <a:ext cx="71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KD-30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g</cp:lastModifiedBy>
  <dcterms:modified xsi:type="dcterms:W3CDTF">1998-04-03T08:06:36Z</dcterms:modified>
  <cp:revision>21830</cp:revision>
  <dc:subject/>
  <dc:title>Заголовок слайда отсутствует</dc:title>
</cp:coreProperties>
</file>