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335588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F90-BC41-4293-A287-50454F36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8F6-075B-45C6-8E40-C429F3ED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A79-D436-4139-AC2F-5FE0288C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D2D-BCC0-46A1-99B1-676E1168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3BB-0E3A-42DD-BB42-99EDDB3D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A01-E817-46C3-8894-E812FCC1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014-6D66-4FA3-9B67-07916BB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E33-5B49-4D5E-980A-64357D8F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54B-9318-42E0-95CE-67336352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412-C8B8-4627-8034-273C57E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E1A-667D-41C1-BBD3-CAE6371E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D5A-714B-4287-828E-19824F3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828440" y="7277040"/>
            <a:ext cx="1676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809520" y="727704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62C0C3-54B1-424E-865E-597E66681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0948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СЕРИИ KD, KD/E, LK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8440" y="73882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60CE11-BEA4-4C0D-B04D-CAAD31B7B9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32720" y="793800"/>
            <a:ext cx="110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1119240"/>
            <a:ext cx="466416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Цифровые кнопочные телефоны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……....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Клавиатура цифрового кнопочного телефона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………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.....................................................................……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режима ответа на звонки по интеркому .............................................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 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 .....................................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Voice Over  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последнего номера 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набор номера 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ключение микрофона 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апрос в очереди  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шаговый звонок 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групповой звонок 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, поступивший в другую группу номеров 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, находящийся на ожидании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звонке 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звонка 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DND  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на станции 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доступа 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по имени 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ор по имени 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дартные сообщения 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здание своих собственных сообщений 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 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 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альный ночной ответ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спикера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звонка 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ция DVU (цифровых сообщений)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ISA (Прямой внутренний системный доступ) 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дифференциального звонка 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яркости дисплея 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будильника 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Open doors 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аршрутиризация прямой связи 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лендарь 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языка дисплея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 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360" y="1090440"/>
            <a:ext cx="451152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истемные сообщения 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бор по имени (для ICM) 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мешательство оператора .......................................................................................................…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 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Изменение формата даты и времени 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 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спечатка отчетов SMDR 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тирание отчетов SMDR  .............................................................................................................…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Анализ трафика ........................................................................................................................…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(ручной/автоматический) ........................................…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 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Язык дисплея ..........................................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Управление кнопками прямого доступа .................................................................................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…........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9960" y="792000"/>
            <a:ext cx="110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cp:lastPrinted>1998-03-29T13:22:30Z</cp:lastPrinted>
  <dcterms:modified xsi:type="dcterms:W3CDTF">1998-04-03T13:23:16Z</dcterms:modified>
  <cp:revision>21837</cp:revision>
  <dc:subject/>
  <dc:title>Заголовок слайда отсутствует</dc:title>
</cp:coreProperties>
</file>