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5335588" cy="8002588"/>
  <p:notesSz cx="673893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19D-55B5-4A56-818F-313DE3FA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A1A-AFE4-4424-A543-6C922143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92D-517C-48BC-AADD-C5FC86C3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39D-131E-41BB-92DF-6553F079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265-D8F9-458C-AC4B-35CDC5D7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DDF-9A31-45BB-8029-B50C10D3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662-12C3-484A-B0E4-849CC0FA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B54-6970-4949-98D1-B4E9D01F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70C-D5B9-46B4-A8FB-5121A975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EC1-80D6-46BA-8E24-859E7A42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F3F-BA60-453D-A359-4656420F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B3E-BEC2-4E07-9D43-133CE0E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828440" y="7277040"/>
            <a:ext cx="1676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809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93D784-50BF-4B4B-8ADF-F97E7DE3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6840" y="619200"/>
            <a:ext cx="4814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 / ДЕЙСТВИЯ ОПЕРАТОРА                   СЕРИИ KD, KD/E, LK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800280"/>
            <a:ext cx="441972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92400" y="744552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6B8479-E709-4788-9C10-DACE79BE4A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4320" y="792000"/>
            <a:ext cx="3287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активна, пока не будет отменен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195560"/>
            <a:ext cx="396252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установить функцию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 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агорится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зону станций. (6 цифр) Если она одна, наберите номер дважд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ремя, после того, как услышите подтверждающий сигнал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HHMM=час и минуты) в 24-часовом режиме. (HH/час = 00~23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M/минуты = 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для одного раза) или 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постоянно, пока не будет отменена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25360" y="1203480"/>
            <a:ext cx="0" cy="6226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380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468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560680"/>
            <a:ext cx="3886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, чтобы выбрать мен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На дисплее вы увидите следующе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28840" y="29019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12200" y="2925720"/>
            <a:ext cx="980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РОГРАМ. СТАНЦИ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РКОСТЬ ДИСПЛЕ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ЗВОНО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РОМКОСТЬ СПИКЕР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25600" y="34686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88160" y="345744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2520" y="240048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780000"/>
            <a:ext cx="37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28840" y="402912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2840" y="4052880"/>
            <a:ext cx="8067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ДАЛИТЬ БУД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ДАЛИТЬ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ИЗМЕНИТЬ ДАТУ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ИЗМЕН. ВРЕМ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25600" y="459576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88160" y="458460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883040"/>
            <a:ext cx="39625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СТ. БУДИЛЬНИК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диапазон станций (XXX-YYY), которые будут получать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ремя (HHmm) в 24-часовом режим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для одного раза) или 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постоянно, пока не будет отменена)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583240"/>
            <a:ext cx="3110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функцию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4 2. (Вы услышите подтверждающий сигнал 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диапазон станци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ерестанет мигать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520" y="6432480"/>
            <a:ext cx="34336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720" y="6605640"/>
            <a:ext cx="2536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УДАЛИТЬ БУ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иапазон станций (XXX~YYY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6400" y="259092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400" y="662292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ranspgm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66" name="holdsave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04920" cy="20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39480" y="29178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23720" y="290988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21840" y="352440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12200" y="344484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36240" y="404496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21560" y="403704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7880" y="465120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45720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oldsave" descr=""/>
          <p:cNvPicPr/>
          <p:nvPr/>
        </p:nvPicPr>
        <p:blipFill>
          <a:blip r:embed="rId3"/>
          <a:stretch/>
        </p:blipFill>
        <p:spPr>
          <a:xfrm>
            <a:off x="609480" y="527832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76" name="holdsave" descr=""/>
          <p:cNvPicPr/>
          <p:nvPr/>
        </p:nvPicPr>
        <p:blipFill>
          <a:blip r:embed="rId4"/>
          <a:stretch/>
        </p:blipFill>
        <p:spPr>
          <a:xfrm>
            <a:off x="609480" y="619272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77" name="transpgm" descr=""/>
          <p:cNvPicPr/>
          <p:nvPr/>
        </p:nvPicPr>
        <p:blipFill>
          <a:blip r:embed="rId5"/>
          <a:stretch/>
        </p:blipFill>
        <p:spPr>
          <a:xfrm>
            <a:off x="533520" y="571500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78" name="holdsave" descr=""/>
          <p:cNvPicPr/>
          <p:nvPr/>
        </p:nvPicPr>
        <p:blipFill>
          <a:blip r:embed="rId6"/>
          <a:stretch/>
        </p:blipFill>
        <p:spPr>
          <a:xfrm>
            <a:off x="609480" y="7031160"/>
            <a:ext cx="304920" cy="20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19320" y="3639960"/>
            <a:ext cx="2743200" cy="3065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58840" y="2887560"/>
            <a:ext cx="379404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[TRANS/PGM] +  5 1  + номер станции (начало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+ номер станции (конец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+ Введите (00~25)  +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[HOLD/SAVE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 (00~2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  GDK-FPII/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0                0 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нглий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              0 1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корей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              0 2             итальян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              0 3             англий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              0 4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швед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              0 5             норвеж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              0 6             фин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              0 7             голланд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              0 8             испан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               0 9             корей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               1 0             дат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.                 1 1             немец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.                 1 2             немец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3                1 3             эстон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2                1 4             эстон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4                1 5             швед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5                1 6             итальян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6                1 7             норвеж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7                1 8             фин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8                1 9             голланд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 0                2 0             рус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                 2 1             испан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 1                2 2             рус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                2 3             дат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.                 2 4             португальск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.                 2 5             португальский для большого диспле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54240" y="3786120"/>
            <a:ext cx="27176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38360" y="3651120"/>
            <a:ext cx="0" cy="3025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79520" y="3652920"/>
            <a:ext cx="0" cy="3025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0160" y="1297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75440" y="1300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25360" y="1467000"/>
            <a:ext cx="0" cy="720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360" y="1030320"/>
            <a:ext cx="457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отключить функции DND, CALL FORWARD и предварительные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ругой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37600" y="1471680"/>
            <a:ext cx="172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*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0440" y="14698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9200" y="792000"/>
            <a:ext cx="239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9800" y="24382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Язык диспле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0160" y="2697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5440" y="2700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0440" y="2860560"/>
            <a:ext cx="4416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5360" y="2867040"/>
            <a:ext cx="0" cy="4067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transpgm" descr=""/>
          <p:cNvPicPr/>
          <p:nvPr/>
        </p:nvPicPr>
        <p:blipFill>
          <a:blip r:embed="rId1"/>
          <a:stretch/>
        </p:blipFill>
        <p:spPr>
          <a:xfrm>
            <a:off x="533520" y="153684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320" name="holdsave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304920" cy="2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60160" y="3916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75440" y="3919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6560" y="4076640"/>
            <a:ext cx="441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25360" y="4078440"/>
            <a:ext cx="0" cy="684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4320" y="10396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73840" y="1039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0440" y="12063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1246320"/>
            <a:ext cx="380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DSS нужной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закончи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гово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25360" y="1208160"/>
            <a:ext cx="0" cy="663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680" y="213984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бщение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0160" y="2416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75440" y="2419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264492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ажите свое сообще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25360" y="2585880"/>
            <a:ext cx="0" cy="797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0440" y="25779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8000" y="3638520"/>
            <a:ext cx="449244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внешнего звонка на другую станци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4145040"/>
            <a:ext cx="40226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л звонок по внешней линии. Нажмите кнопку прямого доступа DS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подождать, пока на звонок ответят, чтобы объявить о перевод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5840" y="792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правление кнопками прямого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0160" y="5288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5440" y="5291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0440" y="544824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551664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INTERCOM GROUP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ок будет соединен со свободной станцией в систем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25360" y="5457960"/>
            <a:ext cx="0" cy="676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3680" y="63817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лучение доступа к телефону, который находится в режиме D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0160" y="66596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75440" y="6662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6560" y="6819840"/>
            <a:ext cx="441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688824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DSS (Вы услышите гудки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VERRID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25360" y="6829560"/>
            <a:ext cx="0" cy="676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3680" y="5029200"/>
            <a:ext cx="440676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1000" y="5027760"/>
            <a:ext cx="223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рупповой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mon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04920" cy="200160"/>
          </a:xfrm>
          <a:prstGeom prst="rect">
            <a:avLst/>
          </a:prstGeom>
          <a:ln w="0">
            <a:noFill/>
          </a:ln>
        </p:spPr>
      </p:pic>
      <p:pic>
        <p:nvPicPr>
          <p:cNvPr id="353" name="mon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304920" cy="200160"/>
          </a:xfrm>
          <a:prstGeom prst="rect">
            <a:avLst/>
          </a:prstGeom>
          <a:ln w="0">
            <a:noFill/>
          </a:ln>
        </p:spPr>
      </p:pic>
      <p:pic>
        <p:nvPicPr>
          <p:cNvPr id="354" name="mon" descr=""/>
          <p:cNvPicPr/>
          <p:nvPr/>
        </p:nvPicPr>
        <p:blipFill>
          <a:blip r:embed="rId3"/>
          <a:stretch/>
        </p:blipFill>
        <p:spPr>
          <a:xfrm>
            <a:off x="609480" y="5562720"/>
            <a:ext cx="304920" cy="19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56120" y="792000"/>
            <a:ext cx="168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лфавитный указател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1143000"/>
            <a:ext cx="244800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набор последнего номера 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удильник 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становление внешних звонков .................…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пользователя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сигнала интеркома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 ......................……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…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апрос в очереди 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 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 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е собственное сообщение .....…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..…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групповой звонок ....................…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 .......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звонка 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спикера 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 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 на ожидании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микрофона 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на ожидание 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…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ISA (прямой внутренний системный доступ) 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шаговый звонок 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3840" y="1119240"/>
            <a:ext cx="2295360" cy="55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 DND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дартные сообщения ............................…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на станции 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б ожидании 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ция DVU 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а по имени 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альный ночной ответ 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Voice Over 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Только для большого диспле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будильника 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лендарь ................................................…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дифференциального кольца 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oor Open 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яркости дисплея 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языка 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аршрутиризация линии  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Действия операт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ные сообщения 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ор по имени (для ICM) .................……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мешательство обслуживающего лица 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ков …………………………………………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формата даты и времени 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 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спечатка отчетов SMDR 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ирание отчетов SMDR  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нализ трафика 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невной/ночной режим 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 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Язык дисплея 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00160"/>
                <a:tab algn="r" pos="219060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правление кнопками прямого доступа 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1720" y="792000"/>
            <a:ext cx="164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истем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424160"/>
            <a:ext cx="37339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#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DVU, наберите 0 1 для сообщения 1, наберите 0 2 для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или 0 3 для сообщения 3. (Сообщение 3 воспроизводится, ес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занят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EDVU вам предлагается 31 (01~31) системно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~9 : для поиска или информации о компан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 : для неправильной информа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 : для Timeout message (сообщение об окончании разговорного времен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 : для Try again message (попробуйте еще раз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 : для Transfer to attendant message  (перевод звонка на станцию операто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 : для Leave message (оставьт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 : для Record message (запишит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 : для Enter authorization message (введите сообщение о разрешени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 : для MOH message (сообщение МОН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 : для Busy message (сообщение “занято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прослушает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ишите сообщение и 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25360" y="1387440"/>
            <a:ext cx="0" cy="2651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4320" y="1219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73840" y="1219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0440" y="13860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880" y="1042920"/>
            <a:ext cx="2981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и сообщения может записать только оператор систем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3680" y="4343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бор по имени (для IC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0160" y="4621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5360" y="4784760"/>
            <a:ext cx="0" cy="1933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5440" y="4616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479124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станции и введите имя с помощью этих кодо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08240" y="5283360"/>
            <a:ext cx="289548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64240" y="5308560"/>
            <a:ext cx="308484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2] [1]  B = [2] [2]  C = [2] [3]  D = [3] [1]  E = [3] [2]  F = [3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4] [1]  H = [4] [2]  I = [4] [3]   J = [5] [1]   K = [5] [2]  L = [5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6] [1]  N = [6] [2] O = [6] [3]  P = [7] [1]  Q = [7]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 R = [7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7] [3]   T = [8] [1] U = [8] [2]  V = [8] [3]  W = [9] [1]  X = [9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9] [3]   Z = [9] [#]  .  = [1] [3]  ,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 :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пробел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 = [0] [0]   1 = [1] [0]  2 = [2] [0]  3 = [3] [0]   4 = [3] [0]   5 = [5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= [6] [0]   7 = [7] [0]  8 = [8] [0]  9 = [9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5360" y="6275520"/>
            <a:ext cx="169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0440" y="47829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ranspgm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7240" cy="153720"/>
          </a:xfrm>
          <a:prstGeom prst="rect">
            <a:avLst/>
          </a:prstGeom>
          <a:ln w="0">
            <a:noFill/>
          </a:ln>
        </p:spPr>
      </p:pic>
      <p:pic>
        <p:nvPicPr>
          <p:cNvPr id="96" name="transpgm" descr=""/>
          <p:cNvPicPr/>
          <p:nvPr/>
        </p:nvPicPr>
        <p:blipFill>
          <a:blip r:embed="rId2"/>
          <a:stretch/>
        </p:blipFill>
        <p:spPr>
          <a:xfrm>
            <a:off x="549360" y="4851360"/>
            <a:ext cx="417600" cy="154080"/>
          </a:xfrm>
          <a:prstGeom prst="rect">
            <a:avLst/>
          </a:prstGeom>
          <a:ln w="0">
            <a:noFill/>
          </a:ln>
        </p:spPr>
      </p:pic>
      <p:pic>
        <p:nvPicPr>
          <p:cNvPr id="97" name="holdsave" descr=""/>
          <p:cNvPicPr/>
          <p:nvPr/>
        </p:nvPicPr>
        <p:blipFill>
          <a:blip r:embed="rId3"/>
          <a:stretch/>
        </p:blipFill>
        <p:spPr>
          <a:xfrm>
            <a:off x="609480" y="6299280"/>
            <a:ext cx="304920" cy="20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1405080"/>
            <a:ext cx="39625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3 раза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5360" y="1219320"/>
            <a:ext cx="0" cy="1904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080" y="792000"/>
            <a:ext cx="261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бор по имени (для ICM)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8840" y="18795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54320" y="1903320"/>
            <a:ext cx="945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НАБЕРИТЕ ИМ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АВТО ДЕНЬ-НОЧ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25600" y="24462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23080" y="243540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703600"/>
            <a:ext cx="3071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станции и введите имя с помощью кодов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680" y="33526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мешательство операто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0160" y="3782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25360" y="3946680"/>
            <a:ext cx="0" cy="1768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75440" y="37861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0920" y="3963960"/>
            <a:ext cx="364176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настроить мягкую кнопку для вызова этой функ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ягкую кнопку, которую хотите запрограммирова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8 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воспользоваться этой функцией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ой станции, на которую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отите позвонить (Вы услышите короткие гудки)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ATD INTRUS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На такой станции будет слышен предупреждающий сигнал, посл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его будет установлена 3-сторонняя конферен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8840" y="3608280"/>
            <a:ext cx="354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системы может вмешиваться в разговор по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596916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0160" y="6246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25360" y="6410160"/>
            <a:ext cx="0" cy="981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75440" y="6249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58840" y="6427800"/>
            <a:ext cx="38703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блокировку на исходящие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кнопка внешней линии заблокирова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торите процедуру, чтобы отменить блокиров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2520" y="1228680"/>
            <a:ext cx="35100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" y="140976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0440" y="64134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440" y="39495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41640" y="18972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1720" y="18972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25080" y="250524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1280" y="243216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holdsave" descr=""/>
          <p:cNvPicPr/>
          <p:nvPr/>
        </p:nvPicPr>
        <p:blipFill>
          <a:blip r:embed="rId1"/>
          <a:stretch/>
        </p:blipFill>
        <p:spPr>
          <a:xfrm>
            <a:off x="633240" y="277956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29" name="transpgm" descr=""/>
          <p:cNvPicPr/>
          <p:nvPr/>
        </p:nvPicPr>
        <p:blipFill>
          <a:blip r:embed="rId2"/>
          <a:stretch/>
        </p:blipFill>
        <p:spPr>
          <a:xfrm>
            <a:off x="533520" y="4113360"/>
            <a:ext cx="417240" cy="153720"/>
          </a:xfrm>
          <a:prstGeom prst="rect">
            <a:avLst/>
          </a:prstGeom>
          <a:ln w="0">
            <a:noFill/>
          </a:ln>
        </p:spPr>
      </p:pic>
      <p:pic>
        <p:nvPicPr>
          <p:cNvPr id="130" name="holdsave" descr=""/>
          <p:cNvPicPr/>
          <p:nvPr/>
        </p:nvPicPr>
        <p:blipFill>
          <a:blip r:embed="rId3"/>
          <a:stretch/>
        </p:blipFill>
        <p:spPr>
          <a:xfrm>
            <a:off x="609480" y="4551480"/>
            <a:ext cx="304920" cy="207720"/>
          </a:xfrm>
          <a:prstGeom prst="rect">
            <a:avLst/>
          </a:prstGeom>
          <a:ln w="0">
            <a:noFill/>
          </a:ln>
        </p:spPr>
      </p:pic>
      <p:pic>
        <p:nvPicPr>
          <p:cNvPr id="131" name="transpgm" descr=""/>
          <p:cNvPicPr/>
          <p:nvPr/>
        </p:nvPicPr>
        <p:blipFill>
          <a:blip r:embed="rId4"/>
          <a:stretch/>
        </p:blipFill>
        <p:spPr>
          <a:xfrm>
            <a:off x="557280" y="6559560"/>
            <a:ext cx="417600" cy="1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16880" y="784080"/>
            <a:ext cx="430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380960"/>
            <a:ext cx="39625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1 раз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1203480"/>
            <a:ext cx="0" cy="1958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8840" y="18669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52880" y="1890720"/>
            <a:ext cx="957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БЛОКИРОВАТ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СТЕРЕТЬ СООБЩ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ВЫБОР МУЗ. КА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СТАН. ВРЕМЕНИ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ТОЛЬКО ИНТЕРК.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25600" y="24336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23080" y="242244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37960" y="2727360"/>
            <a:ext cx="3688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БЛОКИРОВАТ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. (Вы услышите сигнал подтвержден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3680" y="337824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формата времени/да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0160" y="3656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5360" y="3819600"/>
            <a:ext cx="0" cy="250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75440" y="3659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50920" y="3844800"/>
            <a:ext cx="36417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изменить формат даты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ормат будет изменяться с  DDMMYY на MMDDYY и наоборот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год, MM : месяц, DD : день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2520" y="4554360"/>
            <a:ext cx="38145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722840"/>
            <a:ext cx="3886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1 раз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ИЗМЕНИТЬ ДАТУ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ормат будет изменяться с  DDMMYY на MMDDYY и наоборот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год, MM : месяц, DD : день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8840" y="5549760"/>
            <a:ext cx="3641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изменить формат времени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12-часовой или 24-часовой реж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2520" y="1212840"/>
            <a:ext cx="36622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" y="139716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440" y="38163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" y="473868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38400" y="187632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30560" y="18684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1840" y="248436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20120" y="240336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ranspgm" descr=""/>
          <p:cNvPicPr/>
          <p:nvPr/>
        </p:nvPicPr>
        <p:blipFill>
          <a:blip r:embed="rId1"/>
          <a:stretch/>
        </p:blipFill>
        <p:spPr>
          <a:xfrm>
            <a:off x="577800" y="4038480"/>
            <a:ext cx="417600" cy="152640"/>
          </a:xfrm>
          <a:prstGeom prst="rect">
            <a:avLst/>
          </a:prstGeom>
          <a:ln w="0">
            <a:noFill/>
          </a:ln>
        </p:spPr>
      </p:pic>
      <p:pic>
        <p:nvPicPr>
          <p:cNvPr id="160" name="transpgm" descr=""/>
          <p:cNvPicPr/>
          <p:nvPr/>
        </p:nvPicPr>
        <p:blipFill>
          <a:blip r:embed="rId2"/>
          <a:stretch/>
        </p:blipFill>
        <p:spPr>
          <a:xfrm>
            <a:off x="593640" y="5715000"/>
            <a:ext cx="417600" cy="1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1393920"/>
            <a:ext cx="3886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пятую кнопку меню от главного меню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. АT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25360" y="1203480"/>
            <a:ext cx="0" cy="1882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28840" y="17463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54320" y="1770120"/>
            <a:ext cx="9594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СТ. БУДИЛЬНИ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ДАЛИТЬ БУД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УДАЛИТЬ ПАРОЛЬ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ИЗМЕНИТЬ ДАТУ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&gt;ИЗМЕН. ВРЕМ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25600" y="23130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23080" y="230184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27160" y="2590920"/>
            <a:ext cx="2949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ИЗМЕН. ВРЕМ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12-часовой или 24-часовой реж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0280" y="792000"/>
            <a:ext cx="3195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формата времени/даты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9800" y="327672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160" y="3579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5440" y="3583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808440"/>
            <a:ext cx="36417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7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нужного сообщения. (11~20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 с помощью кодов, указанных в пункте “Набор п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ни (для ICM)”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25360" y="3749760"/>
            <a:ext cx="0" cy="93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3680" y="495936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спечатка отчетов S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160" y="5237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75440" y="5240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544212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О станция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четы SMDR будут распечатаны с помощью принтера, подключен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 KS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360" y="5407200"/>
            <a:ext cx="0" cy="1031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2520" y="122544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" y="140976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0440" y="37530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440" y="54039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41640" y="176688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3800" y="175896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5080" y="237492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23360" y="229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transpgm" descr=""/>
          <p:cNvPicPr/>
          <p:nvPr/>
        </p:nvPicPr>
        <p:blipFill>
          <a:blip r:embed="rId1"/>
          <a:stretch/>
        </p:blipFill>
        <p:spPr>
          <a:xfrm>
            <a:off x="533520" y="3870360"/>
            <a:ext cx="457200" cy="168120"/>
          </a:xfrm>
          <a:prstGeom prst="rect">
            <a:avLst/>
          </a:prstGeom>
          <a:ln w="0">
            <a:noFill/>
          </a:ln>
        </p:spPr>
      </p:pic>
      <p:pic>
        <p:nvPicPr>
          <p:cNvPr id="191" name="holdsave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192" name="holdsave" descr=""/>
          <p:cNvPicPr/>
          <p:nvPr/>
        </p:nvPicPr>
        <p:blipFill>
          <a:blip r:embed="rId3"/>
          <a:stretch/>
        </p:blipFill>
        <p:spPr>
          <a:xfrm>
            <a:off x="609480" y="5811840"/>
            <a:ext cx="304920" cy="2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1393920"/>
            <a:ext cx="3886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8840" y="174636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2160" y="1770120"/>
            <a:ext cx="990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ВНУТР.ВЫЗОВ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(01-2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ОБЩИЙ ВЫЗО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ЕШ. ОБЩ. ВЫЗО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НЕШ/ВНУТР. ВЫЗО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ВСТРЕТЬ МЕНЯ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25600" y="231300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23080" y="230184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25360" y="1203480"/>
            <a:ext cx="0" cy="4854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7384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0440" y="120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9200" y="792000"/>
            <a:ext cx="265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спечатка отчетов SMD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07040" y="1741320"/>
            <a:ext cx="910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1~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 ~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05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612880"/>
            <a:ext cx="388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 На дисплее вы увидите следующе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8840" y="2832120"/>
            <a:ext cx="85068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53960" y="2855880"/>
            <a:ext cx="981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ЕЧАТЬ SMDR СТАН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ПЕЧАТЬ SMDR ГРУП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ДАЛИТЬ SMDR СТАН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УДАЛИТЬ SMR ГРУП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ОИМОСТЬ ЗВОНК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25600" y="3398760"/>
            <a:ext cx="86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23080" y="3387600"/>
            <a:ext cx="856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СТАН. №  102  (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ОЯ   02    01:40p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3679920"/>
            <a:ext cx="36576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ЕЧАТЬ SMDR СТА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137120"/>
            <a:ext cx="4038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Об отчетных группа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1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ужную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отчетную группу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Отчеты SMDR будут распечатаны с помощью принтера, подключен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 KSU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67360" y="4230720"/>
            <a:ext cx="8722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2520" y="494676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146560"/>
            <a:ext cx="388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261040"/>
            <a:ext cx="3657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ЕЧАТЬ SMDR ГРУ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ужную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отчетную группу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5680" y="5430960"/>
            <a:ext cx="8722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" y="123192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6400" y="140976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6400" y="512460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41640" y="175896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33800" y="175104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5080" y="236700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23360" y="22860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38400" y="285912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30560" y="2851200"/>
            <a:ext cx="2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21840" y="3467160"/>
            <a:ext cx="28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20120" y="338616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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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holdsave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228" name="holdsave" descr=""/>
          <p:cNvPicPr/>
          <p:nvPr/>
        </p:nvPicPr>
        <p:blipFill>
          <a:blip r:embed="rId2"/>
          <a:stretch/>
        </p:blipFill>
        <p:spPr>
          <a:xfrm>
            <a:off x="609480" y="4516560"/>
            <a:ext cx="304920" cy="207720"/>
          </a:xfrm>
          <a:prstGeom prst="rect">
            <a:avLst/>
          </a:prstGeom>
          <a:ln w="0">
            <a:noFill/>
          </a:ln>
        </p:spPr>
      </p:pic>
      <p:pic>
        <p:nvPicPr>
          <p:cNvPr id="229" name="holdsave" descr=""/>
          <p:cNvPicPr/>
          <p:nvPr/>
        </p:nvPicPr>
        <p:blipFill>
          <a:blip r:embed="rId3"/>
          <a:stretch/>
        </p:blipFill>
        <p:spPr>
          <a:xfrm>
            <a:off x="609480" y="5583240"/>
            <a:ext cx="304920" cy="2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60160" y="1065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5440" y="1068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50920" y="126360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Стирание отчетов о станция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Будут стерты отчеты SMDR о всех указанных станциях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25360" y="1235160"/>
            <a:ext cx="0" cy="4822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360" y="792000"/>
            <a:ext cx="1731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ирание отчетов S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2520" y="201924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2181240"/>
            <a:ext cx="39625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УДАЛИТЬ SMDR СТА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8840" y="281772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Стирание информации об отчетной групп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отчетной групп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Будут стерты отчеты SMDR о всех указанных станциях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2520" y="3556080"/>
            <a:ext cx="36622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718080"/>
            <a:ext cx="40384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УДАЛИТЬ SMDR ГРУ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58840" y="4417920"/>
            <a:ext cx="29559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знать оплату за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2520" y="502272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Или с помощью дисплея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Только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5184720"/>
            <a:ext cx="38862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4 кнопку меню от главного меню, чтобы выбрать мен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П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из четыре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СТОИМОСТЬ ЗВОН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0440" y="12384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" y="220968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" y="374652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" y="5207040"/>
            <a:ext cx="4340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holdsave" descr=""/>
          <p:cNvPicPr/>
          <p:nvPr/>
        </p:nvPicPr>
        <p:blipFill>
          <a:blip r:embed="rId1"/>
          <a:stretch/>
        </p:blipFill>
        <p:spPr>
          <a:xfrm>
            <a:off x="617400" y="168588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248" name="holdsave" descr=""/>
          <p:cNvPicPr/>
          <p:nvPr/>
        </p:nvPicPr>
        <p:blipFill>
          <a:blip r:embed="rId2"/>
          <a:stretch/>
        </p:blipFill>
        <p:spPr>
          <a:xfrm>
            <a:off x="609480" y="260028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249" name="holdsave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304920" cy="218880"/>
          </a:xfrm>
          <a:prstGeom prst="rect">
            <a:avLst/>
          </a:prstGeom>
          <a:ln w="0">
            <a:noFill/>
          </a:ln>
        </p:spPr>
      </p:pic>
      <p:pic>
        <p:nvPicPr>
          <p:cNvPr id="250" name="holdsave" descr=""/>
          <p:cNvPicPr/>
          <p:nvPr/>
        </p:nvPicPr>
        <p:blipFill>
          <a:blip r:embed="rId4"/>
          <a:stretch/>
        </p:blipFill>
        <p:spPr>
          <a:xfrm>
            <a:off x="609480" y="413856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251" name="holdsave" descr=""/>
          <p:cNvPicPr/>
          <p:nvPr/>
        </p:nvPicPr>
        <p:blipFill>
          <a:blip r:embed="rId5"/>
          <a:stretch/>
        </p:blipFill>
        <p:spPr>
          <a:xfrm>
            <a:off x="609480" y="4734000"/>
            <a:ext cx="304920" cy="218880"/>
          </a:xfrm>
          <a:prstGeom prst="rect">
            <a:avLst/>
          </a:prstGeom>
          <a:ln w="0">
            <a:noFill/>
          </a:ln>
        </p:spPr>
      </p:pic>
      <p:pic>
        <p:nvPicPr>
          <p:cNvPr id="252" name="holdsave" descr=""/>
          <p:cNvPicPr/>
          <p:nvPr/>
        </p:nvPicPr>
        <p:blipFill>
          <a:blip r:embed="rId6"/>
          <a:stretch/>
        </p:blipFill>
        <p:spPr>
          <a:xfrm>
            <a:off x="609480" y="5648400"/>
            <a:ext cx="304920" cy="21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40640" y="792000"/>
            <a:ext cx="283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(C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1546200"/>
            <a:ext cx="36576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Включение функции временного изменения класса услуг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5360" y="1508040"/>
            <a:ext cx="0" cy="1501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4320" y="133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73840" y="133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0440" y="150660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2000" y="1042920"/>
            <a:ext cx="437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ьзователь станции может временно изменить класс услуг, чтобы защитить себя о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еавторизованного пользования станцие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232000"/>
            <a:ext cx="38862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Включение функции временного изменения класса услуг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#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диапазон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3680" y="322596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из траф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0160" y="4724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75440" y="47275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58840" y="4952880"/>
            <a:ext cx="36417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эту функ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ключить данную функцию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распечатать результаты анализ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менить распечатку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25360" y="4894200"/>
            <a:ext cx="0" cy="2460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360" y="3481560"/>
            <a:ext cx="443556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а будет отслеживать и записывать различную информацию о рабочих нагрузках (трафике), которую затем можно распечатать. С помощью этой информации можно определить, правильно ли работает система.  Если данная функция включена, то информация о работе системы будет записываться  до тех пор, пока не будет отключена. Информация о трафике направляется на порт RS232C. Информация о трафике бывает двух типов. К первому типу относится информация о том, сколько раз выполнялась та или иная операция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нформация имеет цифровые значения в пределах от  00000 до 99999. Ко второму типу относится информация о времени использования того или иного устройства, т.е. станций, внешних линий, ресиверов DTMF и т.д. Время использования дается в секундах от  00000 дo 99999. Данная информация накапливается со времени, когда функция была включена, и сбрасывается только после выключения функции или после того, как значения превысят указанные пределы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440" y="489744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transpgm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17240" cy="153720"/>
          </a:xfrm>
          <a:prstGeom prst="rect">
            <a:avLst/>
          </a:prstGeom>
          <a:ln w="0">
            <a:noFill/>
          </a:ln>
        </p:spPr>
      </p:pic>
      <p:pic>
        <p:nvPicPr>
          <p:cNvPr id="269" name="holdsave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270" name="transpgm" descr=""/>
          <p:cNvPicPr/>
          <p:nvPr/>
        </p:nvPicPr>
        <p:blipFill>
          <a:blip r:embed="rId3"/>
          <a:stretch/>
        </p:blipFill>
        <p:spPr>
          <a:xfrm>
            <a:off x="533520" y="5049720"/>
            <a:ext cx="417240" cy="154080"/>
          </a:xfrm>
          <a:prstGeom prst="rect">
            <a:avLst/>
          </a:prstGeom>
          <a:ln w="0">
            <a:noFill/>
          </a:ln>
        </p:spPr>
      </p:pic>
      <p:pic>
        <p:nvPicPr>
          <p:cNvPr id="271" name="holdsave" descr=""/>
          <p:cNvPicPr/>
          <p:nvPr/>
        </p:nvPicPr>
        <p:blipFill>
          <a:blip r:embed="rId4"/>
          <a:stretch/>
        </p:blipFill>
        <p:spPr>
          <a:xfrm>
            <a:off x="609480" y="5354640"/>
            <a:ext cx="304920" cy="2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41360" y="792000"/>
            <a:ext cx="425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(ручной/автоматический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35080" y="1622520"/>
            <a:ext cx="37940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включить/выключить ночной/дневной режим или режи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по требованию вручну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на станции оператор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тем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мигает. (Система стоит в режиме “по требованию”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нажме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еще раз, система перейдет в ночной режи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бслуживания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ежим “по требованию” нельзя установить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0160" y="1415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89680" y="1415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6280" y="158256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080" y="1042920"/>
            <a:ext cx="462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анция оператора имеет ночной режим обслуживания, которая позволяет воспользовать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ециальными функциями тем станциям, которые не имеют таких привилегий дне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5080" y="2590920"/>
            <a:ext cx="4022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изменить режим автоматичес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#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ДНЕВНОЕ + НОЧНОЕ ВРЕМЯ, или ДНЕВНОЕ + * или НОЧНОЕ + *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 формате HHMM (HH(часы) = 00~23, mm (минуты) =  00~5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1584360"/>
            <a:ext cx="0" cy="207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9520" y="39625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из систем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6000" y="454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1280" y="4548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50920" y="477360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1560" y="4714920"/>
            <a:ext cx="0" cy="631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6920" y="4218120"/>
            <a:ext cx="455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Группу номеров скоростного набора можно сохранить в системе. К ним будут иметь досту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олько определенные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83920" y="4890960"/>
            <a:ext cx="969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200~2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9520" y="565164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6000" y="6081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1280" y="608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50920" y="626256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ыбрать канал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*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музыкальный канал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1560" y="6251400"/>
            <a:ext cx="0" cy="1013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3600" y="5907240"/>
            <a:ext cx="338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выбрать источник музыкального канала для IC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82840" y="6629400"/>
            <a:ext cx="7747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~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6280" y="471168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280" y="6254640"/>
            <a:ext cx="441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50800" y="2854440"/>
            <a:ext cx="43992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dndfor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04920" cy="207720"/>
          </a:xfrm>
          <a:prstGeom prst="rect">
            <a:avLst/>
          </a:prstGeom>
          <a:ln w="0">
            <a:noFill/>
          </a:ln>
        </p:spPr>
      </p:pic>
      <p:pic>
        <p:nvPicPr>
          <p:cNvPr id="298" name="holdsave" descr=""/>
          <p:cNvPicPr/>
          <p:nvPr/>
        </p:nvPicPr>
        <p:blipFill>
          <a:blip r:embed="rId3"/>
          <a:stretch/>
        </p:blipFill>
        <p:spPr>
          <a:xfrm>
            <a:off x="609480" y="3200400"/>
            <a:ext cx="304920" cy="208080"/>
          </a:xfrm>
          <a:prstGeom prst="rect">
            <a:avLst/>
          </a:prstGeom>
          <a:ln w="0">
            <a:noFill/>
          </a:ln>
        </p:spPr>
      </p:pic>
      <p:pic>
        <p:nvPicPr>
          <p:cNvPr id="299" name="speed" descr=""/>
          <p:cNvPicPr/>
          <p:nvPr/>
        </p:nvPicPr>
        <p:blipFill>
          <a:blip r:embed="rId4"/>
          <a:stretch/>
        </p:blipFill>
        <p:spPr>
          <a:xfrm>
            <a:off x="557280" y="4800600"/>
            <a:ext cx="457200" cy="152280"/>
          </a:xfrm>
          <a:prstGeom prst="rect">
            <a:avLst/>
          </a:prstGeom>
          <a:ln w="0">
            <a:noFill/>
          </a:ln>
        </p:spPr>
      </p:pic>
      <p:pic>
        <p:nvPicPr>
          <p:cNvPr id="300" name="transpgm" descr=""/>
          <p:cNvPicPr/>
          <p:nvPr/>
        </p:nvPicPr>
        <p:blipFill>
          <a:blip r:embed="rId5"/>
          <a:stretch/>
        </p:blipFill>
        <p:spPr>
          <a:xfrm>
            <a:off x="609480" y="6400800"/>
            <a:ext cx="417600" cy="154080"/>
          </a:xfrm>
          <a:prstGeom prst="rect">
            <a:avLst/>
          </a:prstGeom>
          <a:ln w="0">
            <a:noFill/>
          </a:ln>
        </p:spPr>
      </p:pic>
      <p:pic>
        <p:nvPicPr>
          <p:cNvPr id="301" name="holdsave" descr=""/>
          <p:cNvPicPr/>
          <p:nvPr/>
        </p:nvPicPr>
        <p:blipFill>
          <a:blip r:embed="rId6"/>
          <a:stretch/>
        </p:blipFill>
        <p:spPr>
          <a:xfrm>
            <a:off x="685800" y="6705720"/>
            <a:ext cx="304920" cy="20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4-03T12:57:32Z</cp:lastPrinted>
  <dcterms:modified xsi:type="dcterms:W3CDTF">1998-04-03T15:31:16Z</dcterms:modified>
  <cp:revision>21844</cp:revision>
  <dc:subject/>
  <dc:title>Заголовок слайда отсутствует</dc:title>
</cp:coreProperties>
</file>