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ЦИФРОВЫЕ КНОПОЧНЫЕ ТЕЛЕФОНЫ / РУКОВОДСТВО ПОЛЬЗОВАТЕЛЯ                                     СЕРИИ KD, KD/E, LK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35520" y="74325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F5B560-E82B-4303-8476-21AC784C61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856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2004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8413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81280"/>
            <a:ext cx="449100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068640"/>
            <a:ext cx="0" cy="1046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01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3840" y="2901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90340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49720" y="3068640"/>
            <a:ext cx="0" cy="1046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7240" y="3117960"/>
            <a:ext cx="2800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67160"/>
            <a:ext cx="449100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5360" y="47512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320" y="4595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3840" y="4594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5896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49720" y="4751280"/>
            <a:ext cx="0" cy="735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751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360" y="4791240"/>
            <a:ext cx="286452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сделать групповой звонок по интеркому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групповой номер интерком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07320" y="483408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25360" y="1200240"/>
            <a:ext cx="0" cy="1133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49720" y="1200240"/>
            <a:ext cx="0" cy="1133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036800"/>
            <a:ext cx="838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075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mon" descr=""/>
          <p:cNvPicPr/>
          <p:nvPr/>
        </p:nvPicPr>
        <p:blipFill>
          <a:blip r:embed="rId1"/>
          <a:stretch/>
        </p:blipFill>
        <p:spPr>
          <a:xfrm>
            <a:off x="609480" y="125100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66" name="mon" descr=""/>
          <p:cNvPicPr/>
          <p:nvPr/>
        </p:nvPicPr>
        <p:blipFill>
          <a:blip r:embed="rId2"/>
          <a:stretch/>
        </p:blipFill>
        <p:spPr>
          <a:xfrm>
            <a:off x="609480" y="316872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67" name="mon" descr=""/>
          <p:cNvPicPr/>
          <p:nvPr/>
        </p:nvPicPr>
        <p:blipFill>
          <a:blip r:embed="rId3"/>
          <a:stretch/>
        </p:blipFill>
        <p:spPr>
          <a:xfrm>
            <a:off x="609480" y="4905360"/>
            <a:ext cx="3049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992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25360" y="1204920"/>
            <a:ext cx="0" cy="4129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26040" y="1204920"/>
            <a:ext cx="0" cy="4129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1219320"/>
            <a:ext cx="32004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а скор. набора со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кнопку 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спользовать номера скор. набор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спользовать номера скор. набора систем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, который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6708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7320" y="4027320"/>
            <a:ext cx="73260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омера ск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а с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ан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602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25360" y="6307200"/>
            <a:ext cx="0" cy="931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4320" y="6146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73840" y="61466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26040" y="6307200"/>
            <a:ext cx="0" cy="931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6307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635652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5-значный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6141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9560" y="5840280"/>
            <a:ext cx="457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отре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ranspgm" descr=""/>
          <p:cNvPicPr/>
          <p:nvPr/>
        </p:nvPicPr>
        <p:blipFill>
          <a:blip r:embed="rId1"/>
          <a:stretch/>
        </p:blipFill>
        <p:spPr>
          <a:xfrm>
            <a:off x="577800" y="1384200"/>
            <a:ext cx="380880" cy="139680"/>
          </a:xfrm>
          <a:prstGeom prst="rect">
            <a:avLst/>
          </a:prstGeom>
          <a:ln w="0">
            <a:noFill/>
          </a:ln>
        </p:spPr>
      </p:pic>
      <p:pic>
        <p:nvPicPr>
          <p:cNvPr id="364" name="speed" descr=""/>
          <p:cNvPicPr/>
          <p:nvPr/>
        </p:nvPicPr>
        <p:blipFill>
          <a:blip r:embed="rId2"/>
          <a:stretch/>
        </p:blipFill>
        <p:spPr>
          <a:xfrm>
            <a:off x="533520" y="154476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5" name="holdsave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66" name="speed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7" name="speed" descr=""/>
          <p:cNvPicPr/>
          <p:nvPr/>
        </p:nvPicPr>
        <p:blipFill>
          <a:blip r:embed="rId5"/>
          <a:stretch/>
        </p:blipFill>
        <p:spPr>
          <a:xfrm>
            <a:off x="533520" y="471168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68" name="transpgm" descr=""/>
          <p:cNvPicPr/>
          <p:nvPr/>
        </p:nvPicPr>
        <p:blipFill>
          <a:blip r:embed="rId6"/>
          <a:stretch/>
        </p:blipFill>
        <p:spPr>
          <a:xfrm>
            <a:off x="593640" y="4549680"/>
            <a:ext cx="381240" cy="139680"/>
          </a:xfrm>
          <a:prstGeom prst="rect">
            <a:avLst/>
          </a:prstGeom>
          <a:ln w="0">
            <a:noFill/>
          </a:ln>
        </p:spPr>
      </p:pic>
      <p:pic>
        <p:nvPicPr>
          <p:cNvPr id="369" name="holdsave" descr=""/>
          <p:cNvPicPr/>
          <p:nvPr/>
        </p:nvPicPr>
        <p:blipFill>
          <a:blip r:embed="rId7"/>
          <a:stretch/>
        </p:blipFill>
        <p:spPr>
          <a:xfrm>
            <a:off x="625320" y="49086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70" name="transpgm" descr=""/>
          <p:cNvPicPr/>
          <p:nvPr/>
        </p:nvPicPr>
        <p:blipFill>
          <a:blip r:embed="rId8"/>
          <a:stretch/>
        </p:blipFill>
        <p:spPr>
          <a:xfrm>
            <a:off x="609480" y="6489720"/>
            <a:ext cx="381240" cy="139680"/>
          </a:xfrm>
          <a:prstGeom prst="rect">
            <a:avLst/>
          </a:prstGeom>
          <a:ln w="0">
            <a:noFill/>
          </a:ln>
        </p:spPr>
      </p:pic>
      <p:pic>
        <p:nvPicPr>
          <p:cNvPr id="371" name="holdsave" descr=""/>
          <p:cNvPicPr/>
          <p:nvPr/>
        </p:nvPicPr>
        <p:blipFill>
          <a:blip r:embed="rId9"/>
          <a:stretch/>
        </p:blipFill>
        <p:spPr>
          <a:xfrm>
            <a:off x="609480" y="68025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40280" y="792000"/>
            <a:ext cx="331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1206360"/>
            <a:ext cx="0" cy="495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26040" y="1204920"/>
            <a:ext cx="0" cy="4929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10396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1392120"/>
            <a:ext cx="253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28840" y="1606680"/>
            <a:ext cx="7570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880" y="163044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ЗВОН. ИНТЕРКО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ИСТ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П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22360" y="217332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23800" y="2162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09880" y="16066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02960" y="163044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03400" y="217332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03400" y="2162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2520" y="122544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44620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и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17680" y="2673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05000" y="2697120"/>
            <a:ext cx="946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11200" y="3240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1200" y="3228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351324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ИЗМЕН. ПАРОЛЬ и введите 5-значны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измен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тарый  5-значный идентификационный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оступ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.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2520" y="49528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5126040"/>
            <a:ext cx="2971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ИЗМЕН. ПАРОЛЬ и введите стар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7040" y="1403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51436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60240" y="1873080"/>
            <a:ext cx="324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Monotype Sorts" charset="2"/>
              <a:buChar char="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44880" y="162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41640" y="161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27960" y="222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4080" y="214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24120" y="162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21240" y="161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07560" y="222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13680" y="214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39840" y="2706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44880" y="2698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23280" y="3314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37320" y="3233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holdsave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413" name="holdsave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414" name="transpgm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415" name="holdsave" descr=""/>
          <p:cNvPicPr/>
          <p:nvPr/>
        </p:nvPicPr>
        <p:blipFill>
          <a:blip r:embed="rId4"/>
          <a:stretch/>
        </p:blipFill>
        <p:spPr>
          <a:xfrm>
            <a:off x="685800" y="573552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25360" y="1407960"/>
            <a:ext cx="0" cy="2364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4320" y="1247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3840" y="1247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26040" y="1407960"/>
            <a:ext cx="0" cy="2364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457280"/>
            <a:ext cx="32004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жд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будет гореть, пока блокировка 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2430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95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3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7720" y="1898640"/>
            <a:ext cx="3637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208584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Услышите подтв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будет гореть, пока блокировка 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243828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и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25600" y="2673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13640" y="269712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27040" y="3240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2360" y="3224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5000" y="3481560"/>
            <a:ext cx="16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ТОЛЬКО ИНТЕР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4044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25360" y="4444920"/>
            <a:ext cx="0" cy="279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4320" y="428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3840" y="428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26040" y="4444920"/>
            <a:ext cx="0" cy="2795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444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449424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4280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2520" y="508788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524988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Ўе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560232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17680" y="58374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05000" y="5861160"/>
            <a:ext cx="909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ОССТАН. 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АШИ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ОТВЕТ IC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МУЗ. КАНАЛ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СТАНД.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11200" y="64040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1200" y="63928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6621480"/>
            <a:ext cx="25909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ОССТАН. C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2095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265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transpgm" descr=""/>
          <p:cNvPicPr/>
          <p:nvPr/>
        </p:nvPicPr>
        <p:blipFill>
          <a:blip r:embed="rId1"/>
          <a:stretch/>
        </p:blipFill>
        <p:spPr>
          <a:xfrm>
            <a:off x="585720" y="1460520"/>
            <a:ext cx="405000" cy="149040"/>
          </a:xfrm>
          <a:prstGeom prst="rect">
            <a:avLst/>
          </a:prstGeom>
          <a:ln w="0">
            <a:noFill/>
          </a:ln>
        </p:spPr>
      </p:pic>
      <p:pic>
        <p:nvPicPr>
          <p:cNvPr id="452" name="holdsave" descr=""/>
          <p:cNvPicPr/>
          <p:nvPr/>
        </p:nvPicPr>
        <p:blipFill>
          <a:blip r:embed="rId2"/>
          <a:stretch/>
        </p:blipFill>
        <p:spPr>
          <a:xfrm>
            <a:off x="617400" y="161604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453" name="holdsave" descr=""/>
          <p:cNvPicPr/>
          <p:nvPr/>
        </p:nvPicPr>
        <p:blipFill>
          <a:blip r:embed="rId3"/>
          <a:stretch/>
        </p:blipFill>
        <p:spPr>
          <a:xfrm>
            <a:off x="609480" y="215424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239840" y="26938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36960" y="2685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23280" y="33019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26160" y="32209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transpgm" descr=""/>
          <p:cNvPicPr/>
          <p:nvPr/>
        </p:nvPicPr>
        <p:blipFill>
          <a:blip r:embed="rId4"/>
          <a:stretch/>
        </p:blipFill>
        <p:spPr>
          <a:xfrm>
            <a:off x="533520" y="4535640"/>
            <a:ext cx="404640" cy="1490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231920" y="5857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9040" y="58500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5360" y="64659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1480" y="63849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holdsave" descr=""/>
          <p:cNvPicPr/>
          <p:nvPr/>
        </p:nvPicPr>
        <p:blipFill>
          <a:blip r:embed="rId5"/>
          <a:stretch/>
        </p:blipFill>
        <p:spPr>
          <a:xfrm>
            <a:off x="609480" y="682164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41000" y="792000"/>
            <a:ext cx="1519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1484280"/>
            <a:ext cx="0" cy="541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4320" y="1324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73840" y="1324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26040" y="1484280"/>
            <a:ext cx="0" cy="5411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1484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3000" y="1494000"/>
            <a:ext cx="31240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время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ля того, чтобы звонок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дин раз” ил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вонок раздавался регулярно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2438280"/>
            <a:ext cx="3581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261936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3665520"/>
            <a:ext cx="312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33520" y="282564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36320" y="2849400"/>
            <a:ext cx="9201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27040" y="3392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03280" y="33814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13190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5240" y="104292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33520" y="386064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21560" y="3884760"/>
            <a:ext cx="9446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27040" y="4427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27040" y="44164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43000" y="46893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УСТ.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ля того, чтобы звонок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ин раз” или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вонок раздавался регуляр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5527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2520" y="5987880"/>
            <a:ext cx="35859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13728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УДАЛ. БУДИЛЬ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629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61657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transpgm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491" name="holdsave" descr=""/>
          <p:cNvPicPr/>
          <p:nvPr/>
        </p:nvPicPr>
        <p:blipFill>
          <a:blip r:embed="rId2"/>
          <a:stretch/>
        </p:blipFill>
        <p:spPr>
          <a:xfrm>
            <a:off x="585720" y="198108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247760" y="2844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44880" y="2836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31200" y="3452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4080" y="3371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47760" y="3878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44880" y="3870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31200" y="44863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34080" y="4405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transpgm" descr=""/>
          <p:cNvPicPr/>
          <p:nvPr/>
        </p:nvPicPr>
        <p:blipFill>
          <a:blip r:embed="rId3"/>
          <a:stretch/>
        </p:blipFill>
        <p:spPr>
          <a:xfrm>
            <a:off x="533520" y="561492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501" name="holdsave" descr=""/>
          <p:cNvPicPr/>
          <p:nvPr/>
        </p:nvPicPr>
        <p:blipFill>
          <a:blip r:embed="rId4"/>
          <a:stretch/>
        </p:blipFill>
        <p:spPr>
          <a:xfrm>
            <a:off x="593640" y="50292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502" name="holdsave" descr=""/>
          <p:cNvPicPr/>
          <p:nvPr/>
        </p:nvPicPr>
        <p:blipFill>
          <a:blip r:embed="rId5"/>
          <a:stretch/>
        </p:blipFill>
        <p:spPr>
          <a:xfrm>
            <a:off x="593640" y="57880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503" name="holdsave" descr=""/>
          <p:cNvPicPr/>
          <p:nvPr/>
        </p:nvPicPr>
        <p:blipFill>
          <a:blip r:embed="rId6"/>
          <a:stretch/>
        </p:blipFill>
        <p:spPr>
          <a:xfrm>
            <a:off x="609480" y="642132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19320" y="2438280"/>
            <a:ext cx="297180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360" y="792000"/>
            <a:ext cx="214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ов п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7384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43000" y="1571760"/>
            <a:ext cx="327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ведите номер скоростного наб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ужный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(не более 16 знаков) с помощью следующих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1357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26040" y="1522440"/>
            <a:ext cx="0" cy="2097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7400" y="1020600"/>
            <a:ext cx="423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и телефонов с цифровым дисплеем могут сохранить имена других лиц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 тем, чтобы набирать номер автоматически по имен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25360" y="1522440"/>
            <a:ext cx="0" cy="2097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14920" y="251460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3878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320" y="411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73840" y="4118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26040" y="4278240"/>
            <a:ext cx="0" cy="2960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4278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4327560"/>
            <a:ext cx="2590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411336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25360" y="3352680"/>
            <a:ext cx="169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8080" y="4692600"/>
            <a:ext cx="1358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61160" y="468144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 ПО ИМЕН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M : 1 U_SPD : 2 S_SPD : 3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5013360"/>
            <a:ext cx="304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нужный ти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: Интерком (Имя для звонков по интеркому долж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ыть запрограммировано оператором систем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: Пользователь (Номер скоростного набора со станци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: Система (Номер скоростного набора из системы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 и увидит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8080" y="5835600"/>
            <a:ext cx="13586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54320" y="5824440"/>
            <a:ext cx="1236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 : XXXX  XXXX  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YYYY  YYYY  YYYY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615636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VOLU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звать следующее и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водить символы с помощью кодов, которы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заны в пункте “Сохранение номеров по имени”. 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сплее появится первое имя, которое соответству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енным вами символа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линию (1 или 2) 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 наберет номер в линию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5360" y="4278240"/>
            <a:ext cx="0" cy="296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transpgm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0880" cy="139680"/>
          </a:xfrm>
          <a:prstGeom prst="rect">
            <a:avLst/>
          </a:prstGeom>
          <a:ln w="0">
            <a:noFill/>
          </a:ln>
        </p:spPr>
      </p:pic>
      <p:pic>
        <p:nvPicPr>
          <p:cNvPr id="531" name="speed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00040" cy="166680"/>
          </a:xfrm>
          <a:prstGeom prst="rect">
            <a:avLst/>
          </a:prstGeom>
          <a:ln w="0">
            <a:noFill/>
          </a:ln>
        </p:spPr>
      </p:pic>
      <p:pic>
        <p:nvPicPr>
          <p:cNvPr id="532" name="holdsave" descr=""/>
          <p:cNvPicPr/>
          <p:nvPr/>
        </p:nvPicPr>
        <p:blipFill>
          <a:blip r:embed="rId3"/>
          <a:stretch/>
        </p:blipFill>
        <p:spPr>
          <a:xfrm>
            <a:off x="557280" y="1981080"/>
            <a:ext cx="304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speed" descr=""/>
          <p:cNvPicPr/>
          <p:nvPr/>
        </p:nvPicPr>
        <p:blipFill>
          <a:blip r:embed="rId4"/>
          <a:stretch/>
        </p:blipFill>
        <p:spPr>
          <a:xfrm>
            <a:off x="533520" y="4419720"/>
            <a:ext cx="500040" cy="166680"/>
          </a:xfrm>
          <a:prstGeom prst="rect">
            <a:avLst/>
          </a:prstGeom>
          <a:ln w="0">
            <a:noFill/>
          </a:ln>
        </p:spPr>
      </p:pic>
      <p:pic>
        <p:nvPicPr>
          <p:cNvPr id="534" name="volume" descr=""/>
          <p:cNvPicPr/>
          <p:nvPr/>
        </p:nvPicPr>
        <p:blipFill>
          <a:blip r:embed="rId5"/>
          <a:stretch/>
        </p:blipFill>
        <p:spPr>
          <a:xfrm>
            <a:off x="533520" y="6219720"/>
            <a:ext cx="533160" cy="104760"/>
          </a:xfrm>
          <a:prstGeom prst="rect">
            <a:avLst/>
          </a:prstGeom>
          <a:ln w="0">
            <a:noFill/>
          </a:ln>
        </p:spPr>
      </p:pic>
      <p:pic>
        <p:nvPicPr>
          <p:cNvPr id="535" name="holdsave" descr=""/>
          <p:cNvPicPr/>
          <p:nvPr/>
        </p:nvPicPr>
        <p:blipFill>
          <a:blip r:embed="rId6"/>
          <a:stretch/>
        </p:blipFill>
        <p:spPr>
          <a:xfrm>
            <a:off x="685800" y="678168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38120" y="792000"/>
            <a:ext cx="328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43000" y="122724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Звонок по интерком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мя должно быть запрограммировано оператором систем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ерв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она запрограммирована, на дисплее вы увидит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26040" y="1217520"/>
            <a:ext cx="0" cy="6021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880" y="9525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25360" y="1217520"/>
            <a:ext cx="0" cy="602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27160" y="2668680"/>
            <a:ext cx="308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первую букву имени.  (Например, если вы выб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те НОП, то на дисплее вы увидите: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46120" y="18446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21200" y="1868400"/>
            <a:ext cx="1331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АБВ                  РСТ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ДЕ                  УФ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ЖЗИ                 ЦЧШ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КЛМ                 ЩЫ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П                ЭЮ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440000" y="24112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23800" y="23842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38200" y="30384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27320" y="3062160"/>
            <a:ext cx="898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ЕВЗОРОВ В. С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ОСТОВЦЕВ Д.О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ОКОЛИНСКИЙ 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АЙФУЛЛИН А. 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ТИХОНОВ А. 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32080" y="36050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5880" y="35784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22480" y="3843360"/>
            <a:ext cx="2893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пока не найдете нужное и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38200" y="40971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26960" y="4121280"/>
            <a:ext cx="92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ОКОЛИНСКИЙ Д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32080" y="46641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23800" y="46450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8200" y="53960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32080" y="59626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15880" y="59356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48927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коростной набор со стан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втор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13280" y="5425920"/>
            <a:ext cx="1331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АБВ                   РСТ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ДЕ                  УФХ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ЖЗИ                 ЦЧШ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КЛМ                 ЩЫ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П                ЭЮ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25360" y="6172200"/>
            <a:ext cx="286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ледуйте операциям, описанным в пункте «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вонок п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нтеркому»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644040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треть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ледуйте операциям, описанным в пункте «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Скорост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бор со станции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63960" y="1860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60720" y="18525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47040" y="24685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49920" y="23875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60720" y="3060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57480" y="30528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43800" y="36687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46680" y="35877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60720" y="4119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57480" y="41115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43800" y="47275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46680" y="46465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60720" y="5425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57480" y="54180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43800" y="60339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46680" y="59529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219320" y="4000680"/>
            <a:ext cx="2819160" cy="152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360" y="792000"/>
            <a:ext cx="234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7384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000" y="15717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0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аше имя. (до 7 букв с помощью кодов, указанны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“Сохранение номеров по имени»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13572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880" y="1257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7760" y="104292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25360" y="152244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26040" y="1522440"/>
            <a:ext cx="0" cy="1030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1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4320" y="3209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373840" y="3209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" y="3370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419640"/>
            <a:ext cx="3048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ообщения, а также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станции, если необходим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ОБЕДАЮ, ВЕРНУСЬ В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В ОТПУСКЕ, ВЕРНУСЬ (ДАТ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ОТСУТСТВУЮ, ВЕРНУСЬ В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ОТСУТСТВУЮ, ВЕРНУСЬ (ДД:М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ОТСУТСТВУЮ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ПЕРЕЗВОНИТЕ ПО НОМЕРУ : 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В ОФИСЕ, НОМЕР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НА ВСТРЕЧЕ, ВЕРНУСЬ ЧЧ:М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Д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В ФИЛИАЛ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#    отмен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 используются для создания собственных сообщений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См. “Как создать собственные сообщения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2050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25360" y="3363840"/>
            <a:ext cx="0" cy="3799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26040" y="3370320"/>
            <a:ext cx="0" cy="379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3240" y="3024360"/>
            <a:ext cx="425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стандартное сообщение, которое будет появляться на диспл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2520" y="5587920"/>
            <a:ext cx="36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38200" y="612288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41000" y="614664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32080" y="66898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15880" y="66708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0120" y="5788080"/>
            <a:ext cx="274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видите на диспле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5765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transpgm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610" name="speed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23720" cy="141120"/>
          </a:xfrm>
          <a:prstGeom prst="rect">
            <a:avLst/>
          </a:prstGeom>
          <a:ln w="0">
            <a:noFill/>
          </a:ln>
        </p:spPr>
      </p:pic>
      <p:pic>
        <p:nvPicPr>
          <p:cNvPr id="611" name="holdsave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612" name="transpgm" descr=""/>
          <p:cNvPicPr/>
          <p:nvPr/>
        </p:nvPicPr>
        <p:blipFill>
          <a:blip r:embed="rId4"/>
          <a:stretch/>
        </p:blipFill>
        <p:spPr>
          <a:xfrm>
            <a:off x="533520" y="3433680"/>
            <a:ext cx="457200" cy="168480"/>
          </a:xfrm>
          <a:prstGeom prst="rect">
            <a:avLst/>
          </a:prstGeom>
          <a:ln w="0">
            <a:noFill/>
          </a:ln>
        </p:spPr>
      </p:pic>
      <p:pic>
        <p:nvPicPr>
          <p:cNvPr id="613" name="holdsave" descr=""/>
          <p:cNvPicPr/>
          <p:nvPr/>
        </p:nvPicPr>
        <p:blipFill>
          <a:blip r:embed="rId5"/>
          <a:stretch/>
        </p:blipFill>
        <p:spPr>
          <a:xfrm>
            <a:off x="609480" y="375444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255680" y="6135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52800" y="6127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39120" y="6743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42000" y="6662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42800" y="792000"/>
            <a:ext cx="2754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 сообщения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43000" y="126684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25360" y="1217520"/>
            <a:ext cx="0" cy="4459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26040" y="1217520"/>
            <a:ext cx="0" cy="4459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6120" y="15969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33800" y="1620720"/>
            <a:ext cx="9460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0000" y="21636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15880" y="214488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24606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 два раза и на дисплее вы увид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6120" y="28065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50000" y="2830680"/>
            <a:ext cx="8881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ОССТАН. 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ВАШИ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ОТВЕТ IC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МУЗ. КАНАЛ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СТАНД. СООБ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40000" y="33735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15880" y="3346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43000" y="36162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ТАНД. СООБЩ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46120" y="3949560"/>
            <a:ext cx="758880" cy="7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39920" y="3973680"/>
            <a:ext cx="930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ЕДАЮ     (ВРЕМ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 ОТПУСКЕ (ДАТА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.   (ВРЕМ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.    (ДАТА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СУТСТВУЮ(  ? 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40000" y="45165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23800" y="4489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4759200"/>
            <a:ext cx="3124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нужного сообщения,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5216400"/>
            <a:ext cx="312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ыключить сообщение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5867280"/>
            <a:ext cx="45752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здание своих собственных сообщ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4320" y="6419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73840" y="641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5680" y="6580080"/>
            <a:ext cx="462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662940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стан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. (до 24 букв с помощью кодов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занных в пункте “Сохранение номеров по имени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6415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600" y="610560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4320" y="6105600"/>
            <a:ext cx="457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исать свои собственные сообщения, которые будут появляться на телефон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его вам лица (если у него есть дисплей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25360" y="6581880"/>
            <a:ext cx="0" cy="85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26040" y="6581880"/>
            <a:ext cx="0" cy="850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63960" y="1623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0720" y="161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47040" y="22320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49920" y="21510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63960" y="2822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60720" y="2814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47040" y="3430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9920" y="3349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ndfor" descr=""/>
          <p:cNvPicPr/>
          <p:nvPr/>
        </p:nvPicPr>
        <p:blipFill>
          <a:blip r:embed="rId1"/>
          <a:stretch/>
        </p:blipFill>
        <p:spPr>
          <a:xfrm>
            <a:off x="685800" y="5313240"/>
            <a:ext cx="304920" cy="206640"/>
          </a:xfrm>
          <a:prstGeom prst="rect">
            <a:avLst/>
          </a:prstGeom>
          <a:ln w="0">
            <a:noFill/>
          </a:ln>
        </p:spPr>
      </p:pic>
      <p:pic>
        <p:nvPicPr>
          <p:cNvPr id="661" name="transpgm" descr=""/>
          <p:cNvPicPr/>
          <p:nvPr/>
        </p:nvPicPr>
        <p:blipFill>
          <a:blip r:embed="rId2"/>
          <a:stretch/>
        </p:blipFill>
        <p:spPr>
          <a:xfrm>
            <a:off x="533520" y="665784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662" name="holdsave" descr=""/>
          <p:cNvPicPr/>
          <p:nvPr/>
        </p:nvPicPr>
        <p:blipFill>
          <a:blip r:embed="rId3"/>
          <a:stretch/>
        </p:blipFill>
        <p:spPr>
          <a:xfrm>
            <a:off x="593640" y="701820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263960" y="3965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60720" y="3957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47040" y="4573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49920" y="4492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219320" y="2095560"/>
            <a:ext cx="2209680" cy="1676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1720" y="792000"/>
            <a:ext cx="60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1266840"/>
            <a:ext cx="3124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 GDK-100   GDK-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25360" y="1217520"/>
            <a:ext cx="0" cy="594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26040" y="1217520"/>
            <a:ext cx="0" cy="5945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2305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3364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5124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26520" y="2319480"/>
            <a:ext cx="20854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Общий вызов           4    9         4    9         4  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1       4 0 1          4 0 1         4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05     4 0 5          4 0 5         4 0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15     4 1 5          4 1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ен. зона 20     4 2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утр.общ.вызов     4    3          4    3         4   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няя зона 1       4    6          4    6         4    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няя зона 2       4    7          4    7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неш.общ.вызов     4    8          4   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2520" y="38797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39400" y="4029120"/>
            <a:ext cx="2836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Для внутренней зон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54040" y="44830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47840" y="45068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50497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31720" y="50306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06600" y="425592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77800" y="463536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22480" y="5257800"/>
            <a:ext cx="293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НУТР. ВЫ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зону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31480" y="5678640"/>
            <a:ext cx="2836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Для общего внутреннего/внешнего вызов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1960" y="61596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55760" y="618336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55840" y="67262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560" y="6707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86080" y="631188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06600" y="616104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57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71880" y="45115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68640" y="4503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54960" y="51195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7800" y="50385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79800" y="61801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76560" y="6172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62880" y="67881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65760" y="67071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22120" y="1773360"/>
            <a:ext cx="2627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31840" y="2443320"/>
            <a:ext cx="28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26800" y="1219320"/>
            <a:ext cx="2234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зону вызов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ВНУТР.ОБЩИЙ/ВНЕШ.ОБЩИЙ/ОБЩИЙ ВС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25360" y="1217520"/>
            <a:ext cx="0" cy="2935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26040" y="1217520"/>
            <a:ext cx="0" cy="2935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3160" y="792000"/>
            <a:ext cx="154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86000" y="28162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71520" y="28400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9520" y="33829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71240" y="3363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84200" y="2968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06600" y="274176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38680" y="3662280"/>
            <a:ext cx="30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ВСТРЕТИТЬ и вы соединитесь с вызывающе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ороно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4386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4320" y="4664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73840" y="4664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4824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487368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внешний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46594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8360" y="462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25360" y="4826160"/>
            <a:ext cx="0" cy="1993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6040" y="4826160"/>
            <a:ext cx="0" cy="1993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07320" y="478944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2520" y="53974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23560" y="5557680"/>
            <a:ext cx="28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01840" y="592308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87360" y="594684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95360" y="648972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95360" y="6478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425600" y="606744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06600" y="585612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55818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228600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03480" y="2835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00240" y="28274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86920" y="34434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89800" y="33624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943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16440" y="59356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02760" y="65516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05640" y="64706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transpgm" descr=""/>
          <p:cNvPicPr/>
          <p:nvPr/>
        </p:nvPicPr>
        <p:blipFill>
          <a:blip r:embed="rId1"/>
          <a:stretch/>
        </p:blipFill>
        <p:spPr>
          <a:xfrm>
            <a:off x="557280" y="5027760"/>
            <a:ext cx="417600" cy="153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24750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2600" y="806400"/>
            <a:ext cx="3390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9040" y="1284120"/>
            <a:ext cx="2972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4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 для Handsfree, 2 для тонального звонка или 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конфиденциального режи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5360" y="1200240"/>
            <a:ext cx="0" cy="868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26040" y="1200240"/>
            <a:ext cx="0" cy="868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25360" y="2735280"/>
            <a:ext cx="0" cy="103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4320" y="2575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73840" y="2575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70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6040" y="2735280"/>
            <a:ext cx="0" cy="1036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35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2280" y="2784600"/>
            <a:ext cx="30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998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5360" y="4386240"/>
            <a:ext cx="0" cy="103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320" y="422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3840" y="422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386240"/>
            <a:ext cx="0" cy="1036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386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8680" y="4435560"/>
            <a:ext cx="3041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214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675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5360" y="6062760"/>
            <a:ext cx="0" cy="132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4320" y="5902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3840" y="590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040" y="6062760"/>
            <a:ext cx="0" cy="1328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57200" y="6057720"/>
            <a:ext cx="4495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1920" y="6111720"/>
            <a:ext cx="312804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мигающую кнопку внешн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8910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10368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ranspgm" descr=""/>
          <p:cNvPicPr/>
          <p:nvPr/>
        </p:nvPicPr>
        <p:blipFill>
          <a:blip r:embed="rId1"/>
          <a:stretch/>
        </p:blipFill>
        <p:spPr>
          <a:xfrm>
            <a:off x="585720" y="1311120"/>
            <a:ext cx="405000" cy="150840"/>
          </a:xfrm>
          <a:prstGeom prst="rect">
            <a:avLst/>
          </a:prstGeom>
          <a:ln w="0">
            <a:noFill/>
          </a:ln>
        </p:spPr>
      </p:pic>
      <p:pic>
        <p:nvPicPr>
          <p:cNvPr id="101" name="holdsave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02" name="holdsave" descr=""/>
          <p:cNvPicPr/>
          <p:nvPr/>
        </p:nvPicPr>
        <p:blipFill>
          <a:blip r:embed="rId3"/>
          <a:stretch/>
        </p:blipFill>
        <p:spPr>
          <a:xfrm>
            <a:off x="609480" y="613260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441720" y="792000"/>
            <a:ext cx="381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23200" y="1247760"/>
            <a:ext cx="274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Ўе). На дисплее вы увидите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ледующее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1052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25360" y="1217520"/>
            <a:ext cx="0" cy="186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26040" y="1217520"/>
            <a:ext cx="0" cy="1868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01840" y="15955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97800" y="1619280"/>
            <a:ext cx="912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ЖИДАНИЕ (01-19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УП. ОТВЕ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ИЯ (#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95360" y="21621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87440" y="21351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00040" y="1747800"/>
            <a:ext cx="71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24640" y="2408400"/>
            <a:ext cx="140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ОЖИДА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06600" y="1620720"/>
            <a:ext cx="63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24640" y="2556000"/>
            <a:ext cx="2421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07320" y="2535120"/>
            <a:ext cx="732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281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ниверсальный ночной отв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20" y="3559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73840" y="355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7200" y="3719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3000" y="376884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 Ес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яя линия не установлена, наберите 6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 внешней лин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3554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360" y="37227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25360" y="3720960"/>
            <a:ext cx="0" cy="3733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26040" y="3720960"/>
            <a:ext cx="0" cy="3733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2520" y="430380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20320" y="4464000"/>
            <a:ext cx="28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меню от главного меню 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86000" y="4824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79440" y="484812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УТР. 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9520" y="5391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79160" y="53802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06600" y="4751280"/>
            <a:ext cx="635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22120" y="5607000"/>
            <a:ext cx="2689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 На дисплее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видите следующее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89240" y="5969160"/>
            <a:ext cx="7585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74760" y="599292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 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2760" y="65358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82400" y="65246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33280" y="6802560"/>
            <a:ext cx="3081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УНИВЕР. НОЧ. ОТ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нешняя линия имеет эту функцию и она ста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а поставлена в ночной режим, то вы соединитес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 станцией, на которой раздается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06960" y="5818320"/>
            <a:ext cx="787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08400" y="6297480"/>
            <a:ext cx="82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 внеш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звон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520" y="4487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1623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16440" y="161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02760" y="22320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05640" y="21510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mon" descr=""/>
          <p:cNvPicPr/>
          <p:nvPr/>
        </p:nvPicPr>
        <p:blipFill>
          <a:blip r:embed="rId1"/>
          <a:stretch/>
        </p:blipFill>
        <p:spPr>
          <a:xfrm>
            <a:off x="662040" y="274320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800" name="mon" descr=""/>
          <p:cNvPicPr/>
          <p:nvPr/>
        </p:nvPicPr>
        <p:blipFill>
          <a:blip r:embed="rId2"/>
          <a:stretch/>
        </p:blipFill>
        <p:spPr>
          <a:xfrm>
            <a:off x="662040" y="3762360"/>
            <a:ext cx="304920" cy="2001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03480" y="48560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00240" y="4824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186920" y="54640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89800" y="5359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03480" y="59878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00240" y="59799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86920" y="65959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089800" y="65152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15880" y="497376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24160" y="611964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09760" y="6224760"/>
            <a:ext cx="571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41360" y="792000"/>
            <a:ext cx="66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24640" y="1239840"/>
            <a:ext cx="1713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тип музык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125360" y="121752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26040" y="121752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06240" y="1316160"/>
            <a:ext cx="537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" y="2176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4320" y="2682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3840" y="2682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2843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2876400"/>
            <a:ext cx="3048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соединены с внешней линией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7080" y="26780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25360" y="2844720"/>
            <a:ext cx="0" cy="4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26040" y="2844720"/>
            <a:ext cx="0" cy="470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9280" y="2414520"/>
            <a:ext cx="464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128240" y="4295880"/>
            <a:ext cx="25833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4320" y="4097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73840" y="408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7200" y="4265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0989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25360" y="4265640"/>
            <a:ext cx="0" cy="72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226040" y="4265640"/>
            <a:ext cx="0" cy="725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39200" y="378612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" y="5237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 спик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44320" y="5514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3840" y="5514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" y="5675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43000" y="568656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спикера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5101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26040" y="5676840"/>
            <a:ext cx="0" cy="1257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23560" y="6078600"/>
            <a:ext cx="2882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ГРОМКОСТЬ СПИК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имай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, чтобы настрои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мкость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" y="3560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25360" y="5676840"/>
            <a:ext cx="0" cy="125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transpgm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57200" cy="168480"/>
          </a:xfrm>
          <a:prstGeom prst="rect">
            <a:avLst/>
          </a:prstGeom>
          <a:ln w="0">
            <a:noFill/>
          </a:ln>
        </p:spPr>
      </p:pic>
      <p:pic>
        <p:nvPicPr>
          <p:cNvPr id="849" name="flash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457200" cy="147600"/>
          </a:xfrm>
          <a:prstGeom prst="rect">
            <a:avLst/>
          </a:prstGeom>
          <a:ln w="0">
            <a:noFill/>
          </a:ln>
        </p:spPr>
      </p:pic>
      <p:pic>
        <p:nvPicPr>
          <p:cNvPr id="850" name="mon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851" name="volume" descr=""/>
          <p:cNvPicPr/>
          <p:nvPr/>
        </p:nvPicPr>
        <p:blipFill>
          <a:blip r:embed="rId4"/>
          <a:stretch/>
        </p:blipFill>
        <p:spPr>
          <a:xfrm>
            <a:off x="509760" y="5738760"/>
            <a:ext cx="556920" cy="1080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457200" y="591192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3520" y="6102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484200" y="792000"/>
            <a:ext cx="1998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127520" y="2808360"/>
            <a:ext cx="3034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6920" y="2657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86440" y="2657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9800" y="2817720"/>
            <a:ext cx="44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67080" y="26528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38320" y="2817720"/>
            <a:ext cx="0" cy="468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38640" y="2817720"/>
            <a:ext cx="0" cy="4687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3962520"/>
            <a:ext cx="29764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ерии KD, KD/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25360" y="4135320"/>
            <a:ext cx="340704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их сообщений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кончить запись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автоматически стирается через 48 час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запись сохраняется, пока не будет стерт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ящий услышит сообщение, если вы не ответите на 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в течение определенного периода времени. (4 сек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кой период времени можно запрограммировать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операт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стереть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проиграть ваше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(Вы услышите свое сообще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7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услышите сообщения с (a) по (h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ункты c-g будут пропущены, если функции не включен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сообщения для вызов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запис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6120" y="41529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44320" y="1095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73840" y="1095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141912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раздается звонок, 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67080" y="10904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6040" y="1257480"/>
            <a:ext cx="0" cy="990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30040" y="1758960"/>
            <a:ext cx="288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ГРОМКОСТЬ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69800" y="2417760"/>
            <a:ext cx="44960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(различных сообщен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125360" y="1257480"/>
            <a:ext cx="0" cy="990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600200"/>
            <a:ext cx="3429000" cy="3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17906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2520" y="1251000"/>
            <a:ext cx="27478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ерии KD, KD/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255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520" y="14349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684360" y="1978200"/>
            <a:ext cx="147600" cy="225360"/>
          </a:xfrm>
          <a:prstGeom prst="rect">
            <a:avLst/>
          </a:prstGeom>
          <a:ln w="0">
            <a:noFill/>
          </a:ln>
        </p:spPr>
      </p:pic>
      <p:pic>
        <p:nvPicPr>
          <p:cNvPr id="879" name="volume" descr=""/>
          <p:cNvPicPr/>
          <p:nvPr/>
        </p:nvPicPr>
        <p:blipFill>
          <a:blip r:embed="rId2"/>
          <a:stretch/>
        </p:blipFill>
        <p:spPr>
          <a:xfrm>
            <a:off x="533520" y="1463760"/>
            <a:ext cx="533160" cy="102960"/>
          </a:xfrm>
          <a:prstGeom prst="rect">
            <a:avLst/>
          </a:prstGeom>
          <a:ln w="0">
            <a:noFill/>
          </a:ln>
        </p:spPr>
      </p:pic>
      <p:pic>
        <p:nvPicPr>
          <p:cNvPr id="880" name="mon" descr=""/>
          <p:cNvPicPr/>
          <p:nvPr/>
        </p:nvPicPr>
        <p:blipFill>
          <a:blip r:embed="rId3"/>
          <a:stretch/>
        </p:blipFill>
        <p:spPr>
          <a:xfrm>
            <a:off x="685800" y="4451400"/>
            <a:ext cx="304920" cy="199800"/>
          </a:xfrm>
          <a:prstGeom prst="rect">
            <a:avLst/>
          </a:prstGeom>
          <a:ln w="0">
            <a:noFill/>
          </a:ln>
        </p:spPr>
      </p:pic>
      <p:pic>
        <p:nvPicPr>
          <p:cNvPr id="881" name="holdsave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882" name="holdsave" descr=""/>
          <p:cNvPicPr/>
          <p:nvPr/>
        </p:nvPicPr>
        <p:blipFill>
          <a:blip r:embed="rId5"/>
          <a:stretch/>
        </p:blipFill>
        <p:spPr>
          <a:xfrm>
            <a:off x="685800" y="7315200"/>
            <a:ext cx="3049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124280" y="2579760"/>
            <a:ext cx="2725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сообщения для вызов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запис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VU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4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ТУ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знаете следующую информацию (a - i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Настройки звон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i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С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скажите св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даление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АЛ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оспроизведение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из (Ўе) 3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ПРОИЗ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ызов вашего приветстви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укажите з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сигнала ваше записанное сообщение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правлено в зону вызова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7384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267080" y="10526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25360" y="1217520"/>
            <a:ext cx="0" cy="6097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26040" y="1217520"/>
            <a:ext cx="0" cy="6097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3880" y="792000"/>
            <a:ext cx="192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26080" y="1424160"/>
            <a:ext cx="3034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holdsave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893" name="holdsave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04920" cy="2080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52520" y="1270080"/>
            <a:ext cx="35859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44792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457200" y="2400480"/>
            <a:ext cx="4495680" cy="304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1720" y="792000"/>
            <a:ext cx="308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24280" y="1405080"/>
            <a:ext cx="291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код доступа DISA после того, как услыш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ок или сообщение DV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идентификационный код доступа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ключиться к другой внешней линии для исходящ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4320" y="1222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73840" y="122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1382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67080" y="12175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25360" y="1382760"/>
            <a:ext cx="0" cy="789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26040" y="1382760"/>
            <a:ext cx="0" cy="789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9200" y="1042920"/>
            <a:ext cx="330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й по внешней линии может подключиться к линии DIS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5680" y="2363760"/>
            <a:ext cx="487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Следующие опции имеют только модели KD-33LD, KD/E-36LD и LKD-30L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Цифровые телефоны с большим дисплеем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2798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дифференциального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4320" y="3076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73840" y="3076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3236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7080" y="30718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88360" y="30369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25360" y="3238560"/>
            <a:ext cx="0" cy="4228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26040" y="3238560"/>
            <a:ext cx="0" cy="4228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2520" y="3282840"/>
            <a:ext cx="28242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2760" y="3443400"/>
            <a:ext cx="274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5 кнопку меню, чтобы выбрать ПРОГРА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14440" y="378144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01400" y="3805200"/>
            <a:ext cx="920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ЯРКОСТЬ ДИСПЛ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07960" y="434808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7960" y="433692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19600" y="4592520"/>
            <a:ext cx="200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ПРОГРАМ. СТАНЦ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14440" y="49719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01760" y="4995720"/>
            <a:ext cx="946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ДАЛ.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УСТА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ИЗМЕН.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ТОЛЬКО ИНТЕРК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407960" y="553896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85640" y="550692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24280" y="5754600"/>
            <a:ext cx="200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14440" y="6102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02120" y="6126120"/>
            <a:ext cx="888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&gt;ДИФФЕР. ЗВО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LGE/GS86P-2.0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07960" y="666900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407960" y="66578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25720" y="6905520"/>
            <a:ext cx="268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ДИФФЕР. ЗВ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тип звонка (1~4) с помощью кнопок 1~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3520" y="34671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29040" y="3805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25800" y="3797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12120" y="44132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15000" y="43322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29040" y="4992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25800" y="4984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12120" y="5600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15000" y="55198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31920" y="61167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29040" y="61088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5360" y="672480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18240" y="664380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holdsave" descr=""/>
          <p:cNvPicPr/>
          <p:nvPr/>
        </p:nvPicPr>
        <p:blipFill>
          <a:blip r:embed="rId1"/>
          <a:stretch/>
        </p:blipFill>
        <p:spPr>
          <a:xfrm>
            <a:off x="685800" y="716292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1360" y="792000"/>
            <a:ext cx="1948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яркости диспле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23560" y="1244520"/>
            <a:ext cx="273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ЯРКОСТЬ ДИСП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 помощью кнопок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настройте яркос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67080" y="10652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125360" y="1230480"/>
            <a:ext cx="0" cy="674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26040" y="1230480"/>
            <a:ext cx="0" cy="674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7200" y="2181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44320" y="245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73840" y="245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" y="2619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24541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24280" y="262908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11200" y="31035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97080" y="312732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.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05080" y="36702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04720" y="365904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26040" y="2619360"/>
            <a:ext cx="0" cy="1830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25360" y="2612880"/>
            <a:ext cx="0" cy="18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06960" y="2965320"/>
            <a:ext cx="721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206600" y="3497400"/>
            <a:ext cx="63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25720" y="3968640"/>
            <a:ext cx="167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БРОС БУДИЛЬ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 прекращаетс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" y="4703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4320" y="4981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73840" y="4981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5141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67080" y="49766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127520" y="515160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34960" y="563400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39920" y="565776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OR OPEN (1-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ЗАПИС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УДАЛЕНИ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СТАТУ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VU ВОСПРОИЗ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8840" y="620064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12640" y="618156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26040" y="5141880"/>
            <a:ext cx="0" cy="1830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25360" y="5135400"/>
            <a:ext cx="0" cy="183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123200" y="6491160"/>
            <a:ext cx="206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OR OPE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1-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тип с помощью кнопок 1~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17680" y="325296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7040" y="3349800"/>
            <a:ext cx="547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31920" y="31212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29040" y="31129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15360" y="37288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18240" y="36482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55680" y="56545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152800" y="56466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39120" y="626256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42000" y="618156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page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52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80880" y="792000"/>
            <a:ext cx="2819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ршрутиризация прямой связ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119600" y="1268280"/>
            <a:ext cx="233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, чтобы выбрать ОП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25360" y="1230480"/>
            <a:ext cx="0" cy="2008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226040" y="1230480"/>
            <a:ext cx="0" cy="2008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46120" y="17161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32000" y="1739880"/>
            <a:ext cx="936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ГРУП.(01-48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ТЧЕТ 1 (01-96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НИВЕР. НОЧ. ОТВ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МАРШРУТ. (01-3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БРОС БУДИЛЬ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000" y="228276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39640" y="22716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119960" y="2529000"/>
            <a:ext cx="281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МАРШРУ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вухзначный код маршрутиризации (01~30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206960" y="1677960"/>
            <a:ext cx="721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груп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06600" y="2133720"/>
            <a:ext cx="63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Отчет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" y="3484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4320" y="3762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73840" y="3762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" y="3922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14800" y="3757680"/>
            <a:ext cx="990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24640" y="3932280"/>
            <a:ext cx="194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календарь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94000" y="4286160"/>
            <a:ext cx="7855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2320" y="4253040"/>
            <a:ext cx="9594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ДЕК 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   П   В   С   Ч   П  С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    2     3     4    5    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    8     9   10   11  12  1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4  15   16  17   18  19  2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1  22   23  24   25  26  2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8  29   30  31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87520" y="48718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487160" y="4842000"/>
            <a:ext cx="81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02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226040" y="3922560"/>
            <a:ext cx="0" cy="1906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125360" y="3916440"/>
            <a:ext cx="0" cy="1913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27160" y="5105520"/>
            <a:ext cx="3292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ка календарь на дисплее другие кнопки меню работать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буду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ывести на дисплей главное меню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6100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языка диспле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44320" y="6378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73840" y="637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6539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267080" y="63738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6553080"/>
            <a:ext cx="0" cy="966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6553080"/>
            <a:ext cx="0" cy="992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121040" y="6567480"/>
            <a:ext cx="2976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5 1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установлен язык «по умолчанию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нажме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5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то язык измен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национальны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476360" y="18730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54040" y="1957320"/>
            <a:ext cx="5558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258920" y="17272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56040" y="171936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42360" y="233532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145240" y="225432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transpgm" descr=""/>
          <p:cNvPicPr/>
          <p:nvPr/>
        </p:nvPicPr>
        <p:blipFill>
          <a:blip r:embed="rId1"/>
          <a:stretch/>
        </p:blipFill>
        <p:spPr>
          <a:xfrm>
            <a:off x="533520" y="6629400"/>
            <a:ext cx="41724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44100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129680" y="1273320"/>
            <a:ext cx="2565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уководствуясь таблицей,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7384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25360" y="1230480"/>
            <a:ext cx="0" cy="1550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26040" y="1230480"/>
            <a:ext cx="0" cy="1550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" y="2871720"/>
            <a:ext cx="4495680" cy="2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 (KD-24/36, KD/E-8, 24, 36, LKD-2, 8, 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3680" y="3168720"/>
            <a:ext cx="4483080" cy="326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62908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53972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05200" y="316224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0240" y="3176640"/>
            <a:ext cx="219960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ы прямого            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звонка              номер для ожид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ожидание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162 :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внутр. поис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ов    TRANS/PGM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идание                      TRANS/PGM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будильника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TRANS/PGM + 4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                        TRANS/PGM + 4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зов                            См. страницу 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икац.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внеш. зв.   TRANS/PGM + 4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TRANS/PGM + 4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дартные сообщ.    TRANS/PGM + 7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языка         TRANS/PGM + 5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85880" y="3176640"/>
            <a:ext cx="253080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. зв. по интерк.   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. ноч. ответ   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 станции                    SPEED + номер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 системы                    SPEED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жим отв. по интерк.    TRANS/PGM + 4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ймер                            TRANS/PGM + 8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рос будильника         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станции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U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отчета                      TRANS/PGM + 8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ии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овой доступ          9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1                       8 0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2                       8 0 2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:Группа #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                                   :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:Группа #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48                     8 4 8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Группа #1~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отд. линии        8 8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линия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holdsav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052" name="transpgm" descr=""/>
          <p:cNvPicPr/>
          <p:nvPr/>
        </p:nvPicPr>
        <p:blipFill>
          <a:blip r:embed="rId2"/>
          <a:stretch/>
        </p:blipFill>
        <p:spPr>
          <a:xfrm>
            <a:off x="573120" y="1447920"/>
            <a:ext cx="38088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434160" y="814320"/>
            <a:ext cx="392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  (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63680" y="1187280"/>
            <a:ext cx="4483080" cy="189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62908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2388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11811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9960" y="1195560"/>
            <a:ext cx="218304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100~29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на ожид.          номер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внутренний поис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TRANS/PGM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языка          TRANS/PGM + 5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577960" y="1195560"/>
            <a:ext cx="25304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я ожидания         TRANS/PGM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ор начала даты        TRANS/PGM + 8 +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вет на Встретить       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вет на груп. звонок     6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 станции                    SPEED + номер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 системы                    SPEED + номер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узыка  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е интерком. 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ниверс. ночн. ответ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кличная кнопка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2880" y="792000"/>
            <a:ext cx="3417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1193760"/>
            <a:ext cx="0" cy="120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6040" y="1193760"/>
            <a:ext cx="0" cy="1206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880" y="1235160"/>
            <a:ext cx="31521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у вашего телефона ес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вы можете пос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авить ваш звонок на удержание, нажав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загорится и вы услышите сигнал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6557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5360" y="3043080"/>
            <a:ext cx="0" cy="2584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4320" y="2882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73840" y="288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6040" y="3043080"/>
            <a:ext cx="0" cy="2584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043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4080" y="3092400"/>
            <a:ext cx="304740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сое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н 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8717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06960" y="312912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080" y="38815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9800" y="4314960"/>
            <a:ext cx="72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е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856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320" y="6311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73840" y="6311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472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9040" y="6521400"/>
            <a:ext cx="316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разговариваете по интеркому или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тупает второй звонок, то будет гореть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сигнала вы соединитесь с обеими звонящи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 новым звонящ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ереключиться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630072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5360" y="6472080"/>
            <a:ext cx="0" cy="89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26040" y="6480000"/>
            <a:ext cx="0" cy="882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000" y="6119640"/>
            <a:ext cx="3007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запрограммирована на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0368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holdsave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32" name="icm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4920" cy="209520"/>
          </a:xfrm>
          <a:prstGeom prst="rect">
            <a:avLst/>
          </a:prstGeom>
          <a:ln w="0">
            <a:noFill/>
          </a:ln>
        </p:spPr>
      </p:pic>
      <p:pic>
        <p:nvPicPr>
          <p:cNvPr id="133" name="transpgm" descr=""/>
          <p:cNvPicPr/>
          <p:nvPr/>
        </p:nvPicPr>
        <p:blipFill>
          <a:blip r:embed="rId3"/>
          <a:stretch/>
        </p:blipFill>
        <p:spPr>
          <a:xfrm>
            <a:off x="533520" y="3247920"/>
            <a:ext cx="457200" cy="166680"/>
          </a:xfrm>
          <a:prstGeom prst="rect">
            <a:avLst/>
          </a:prstGeom>
          <a:ln w="0">
            <a:noFill/>
          </a:ln>
        </p:spPr>
      </p:pic>
      <p:pic>
        <p:nvPicPr>
          <p:cNvPr id="134" name="holdsave" descr=""/>
          <p:cNvPicPr/>
          <p:nvPr/>
        </p:nvPicPr>
        <p:blipFill>
          <a:blip r:embed="rId4"/>
          <a:stretch/>
        </p:blipFill>
        <p:spPr>
          <a:xfrm>
            <a:off x="609480" y="66009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4991040"/>
            <a:ext cx="2743200" cy="38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0280" y="792000"/>
            <a:ext cx="259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5360" y="1193760"/>
            <a:ext cx="0" cy="863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26040" y="1193760"/>
            <a:ext cx="0" cy="863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35080" y="1235160"/>
            <a:ext cx="3352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32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5360" y="2719440"/>
            <a:ext cx="0" cy="1081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320" y="2558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3840" y="2558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5542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2719440"/>
            <a:ext cx="0" cy="1081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719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0120" y="276876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094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4786200"/>
            <a:ext cx="0" cy="2033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4320" y="4626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3840" y="4626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621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4786200"/>
            <a:ext cx="0" cy="2033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786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7240" y="4835520"/>
            <a:ext cx="287064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[DIAL MEMO]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TRANS/PGM] + мягкая кнопка + [TRANS/PGM] + 8 0 +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HOLD/SAVE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040" y="431964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redial" descr=""/>
          <p:cNvPicPr/>
          <p:nvPr/>
        </p:nvPicPr>
        <p:blipFill>
          <a:blip r:embed="rId1"/>
          <a:stretch/>
        </p:blipFill>
        <p:spPr>
          <a:xfrm>
            <a:off x="573120" y="1539720"/>
            <a:ext cx="380880" cy="136800"/>
          </a:xfrm>
          <a:prstGeom prst="rect">
            <a:avLst/>
          </a:prstGeom>
          <a:ln w="0">
            <a:noFill/>
          </a:ln>
        </p:spPr>
      </p:pic>
      <p:pic>
        <p:nvPicPr>
          <p:cNvPr id="162" name="speed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57200" cy="152640"/>
          </a:xfrm>
          <a:prstGeom prst="rect">
            <a:avLst/>
          </a:prstGeom>
          <a:ln w="0">
            <a:noFill/>
          </a:ln>
        </p:spPr>
      </p:pic>
      <p:pic>
        <p:nvPicPr>
          <p:cNvPr id="163" name="speed" descr=""/>
          <p:cNvPicPr/>
          <p:nvPr/>
        </p:nvPicPr>
        <p:blipFill>
          <a:blip r:embed="rId3"/>
          <a:stretch/>
        </p:blipFill>
        <p:spPr>
          <a:xfrm>
            <a:off x="533520" y="3038400"/>
            <a:ext cx="457200" cy="152640"/>
          </a:xfrm>
          <a:prstGeom prst="rect">
            <a:avLst/>
          </a:prstGeom>
          <a:ln w="0">
            <a:noFill/>
          </a:ln>
        </p:spPr>
      </p:pic>
      <p:pic>
        <p:nvPicPr>
          <p:cNvPr id="164" name="transpgm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165" name="speed" descr=""/>
          <p:cNvPicPr/>
          <p:nvPr/>
        </p:nvPicPr>
        <p:blipFill>
          <a:blip r:embed="rId5"/>
          <a:stretch/>
        </p:blipFill>
        <p:spPr>
          <a:xfrm>
            <a:off x="533520" y="5943600"/>
            <a:ext cx="4572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25360" y="1460520"/>
            <a:ext cx="0" cy="1054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4320" y="1300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73840" y="1300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295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26040" y="1460520"/>
            <a:ext cx="0" cy="1054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460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50984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то он будет набра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автоматически после определенного период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ае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нача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7400" y="103500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7907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5360" y="3511440"/>
            <a:ext cx="0" cy="57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4320" y="3351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3840" y="3351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3346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26040" y="3511440"/>
            <a:ext cx="0" cy="57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51144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6076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520" y="306072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640" y="792000"/>
            <a:ext cx="214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324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4320" y="485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3840" y="485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8513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26040" y="5016600"/>
            <a:ext cx="0" cy="903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01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0655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160" y="454356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95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5360" y="6583320"/>
            <a:ext cx="0" cy="662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320" y="6423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3840" y="6423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6407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6040" y="6583320"/>
            <a:ext cx="0" cy="662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6583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63264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8040" y="5295960"/>
            <a:ext cx="449280" cy="172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14400" y="53341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5360" y="5016600"/>
            <a:ext cx="0" cy="90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redial" descr=""/>
          <p:cNvPicPr/>
          <p:nvPr/>
        </p:nvPicPr>
        <p:blipFill>
          <a:blip r:embed="rId2"/>
          <a:stretch/>
        </p:blipFill>
        <p:spPr>
          <a:xfrm>
            <a:off x="533520" y="1519200"/>
            <a:ext cx="398520" cy="142920"/>
          </a:xfrm>
          <a:prstGeom prst="rect">
            <a:avLst/>
          </a:prstGeom>
          <a:ln w="0">
            <a:noFill/>
          </a:ln>
        </p:spPr>
      </p:pic>
      <p:pic>
        <p:nvPicPr>
          <p:cNvPr id="204" name="mute" descr=""/>
          <p:cNvPicPr/>
          <p:nvPr/>
        </p:nvPicPr>
        <p:blipFill>
          <a:blip r:embed="rId3"/>
          <a:stretch/>
        </p:blipFill>
        <p:spPr>
          <a:xfrm>
            <a:off x="609480" y="1900080"/>
            <a:ext cx="304920" cy="239760"/>
          </a:xfrm>
          <a:prstGeom prst="rect">
            <a:avLst/>
          </a:prstGeom>
          <a:ln w="0">
            <a:noFill/>
          </a:ln>
        </p:spPr>
      </p:pic>
      <p:pic>
        <p:nvPicPr>
          <p:cNvPr id="205" name="mute" descr=""/>
          <p:cNvPicPr/>
          <p:nvPr/>
        </p:nvPicPr>
        <p:blipFill>
          <a:blip r:embed="rId4"/>
          <a:stretch/>
        </p:blipFill>
        <p:spPr>
          <a:xfrm>
            <a:off x="609480" y="3625920"/>
            <a:ext cx="3049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1000" y="798480"/>
            <a:ext cx="303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1197000"/>
            <a:ext cx="0" cy="973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432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3840" y="103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6040" y="1197000"/>
            <a:ext cx="0" cy="973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19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25568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и ожидания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10317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398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шагов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5360" y="2798640"/>
            <a:ext cx="0" cy="90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4320" y="2638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73840" y="2638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6337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26040" y="2798640"/>
            <a:ext cx="0" cy="903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79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847960"/>
            <a:ext cx="3200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услышите сигнал ICM, указывающий на то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 линия занята, введите последнюю цифру нуж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в той же группе номеров (например, если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“112”, нажмите  “4”, чтобы набрать номер  “114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внешнем звонке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дню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3940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25360" y="4340160"/>
            <a:ext cx="0" cy="305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320" y="4179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73840" y="4179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175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26040" y="4340160"/>
            <a:ext cx="0" cy="3051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340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38948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092560"/>
            <a:ext cx="253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28840" y="5307120"/>
            <a:ext cx="7570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52880" y="5330880"/>
            <a:ext cx="879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ЗВОН. ИНТЕРКОМ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КОР. НАБ. СИСТ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П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2360" y="587376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3120" y="586260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60240" y="5576760"/>
            <a:ext cx="324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Monotype Sorts" charset="2"/>
              <a:buChar char="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9880" y="530712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4040" y="5330880"/>
            <a:ext cx="9230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ВНУТР.ВЫЗ.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УТР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НЕШ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СЕ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ЧНЫЙ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3400" y="5873760"/>
            <a:ext cx="77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70640" y="586260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06600" y="5315040"/>
            <a:ext cx="61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3586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6099120"/>
            <a:ext cx="289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На дисплее вы увид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7680" y="6318360"/>
            <a:ext cx="7588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7760" y="6342120"/>
            <a:ext cx="912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ОЖИДАНИЕ (01-19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УП. ОТВЕ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ИЯ (#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11200" y="688500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86360" y="6873840"/>
            <a:ext cx="83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Ц. №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6600" y="6343560"/>
            <a:ext cx="61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7094520"/>
            <a:ext cx="3048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ГРУП. ОТВЕТ.  Вы будете соединены со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1102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15880" y="3355920"/>
            <a:ext cx="480960" cy="150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08040" y="4595760"/>
            <a:ext cx="298440" cy="19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244880" y="5324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41640" y="5316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960" y="5932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4080" y="58514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4120" y="532440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1240" y="531648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7560" y="593244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13680" y="585144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47760" y="633564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4880" y="6327720"/>
            <a:ext cx="25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1200" y="6943680"/>
            <a:ext cx="284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37320" y="6862680"/>
            <a:ext cx="27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37760" y="792000"/>
            <a:ext cx="376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25360" y="1236600"/>
            <a:ext cx="0" cy="165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320" y="1076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73840" y="1076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26040" y="1236600"/>
            <a:ext cx="0" cy="165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28592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7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107172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07320" y="134784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8480" y="195912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21337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четвертую кнопку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СТАНЦИЯ (#) 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торой раздается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будете соединены со звонком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07320" y="211932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3211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25360" y="3630600"/>
            <a:ext cx="0" cy="368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4320" y="3470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3840" y="3470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34653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6040" y="3638520"/>
            <a:ext cx="0" cy="3676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630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666960"/>
            <a:ext cx="30481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дключить к конференции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 в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ключить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должны участвовать в конференции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того лица, которое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отключить от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155680"/>
            <a:ext cx="358164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mon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286" name="conf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04920" cy="228600"/>
          </a:xfrm>
          <a:prstGeom prst="rect">
            <a:avLst/>
          </a:prstGeom>
          <a:ln w="0">
            <a:noFill/>
          </a:ln>
        </p:spPr>
      </p:pic>
      <p:pic>
        <p:nvPicPr>
          <p:cNvPr id="287" name="mon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3049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41000" y="792000"/>
            <a:ext cx="128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жидание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5360" y="1401840"/>
            <a:ext cx="0" cy="1112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4320" y="1241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73840" y="124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26040" y="1401840"/>
            <a:ext cx="0" cy="1112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401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145080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“*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последню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 номера или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 .Вы мож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говорить с ним или повесить трубку, чтобы перевес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вший звонок на его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12366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360" y="1042920"/>
            <a:ext cx="4664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830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с функци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25360" y="323064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320" y="3070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73840" y="3070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323064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3230640"/>
            <a:ext cx="44956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79600"/>
            <a:ext cx="3200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ожидания и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. Первый звонок 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можете продолжить первый разговор, когд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кончите втор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06540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5720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5360" y="5200560"/>
            <a:ext cx="0" cy="808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4320" y="5040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3840" y="504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26040" y="5200560"/>
            <a:ext cx="0" cy="808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20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524988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50292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360" y="484200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holdsave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15" name="callbk" descr=""/>
          <p:cNvPicPr/>
          <p:nvPr/>
        </p:nvPicPr>
        <p:blipFill>
          <a:blip r:embed="rId2"/>
          <a:stretch/>
        </p:blipFill>
        <p:spPr>
          <a:xfrm>
            <a:off x="609480" y="5322960"/>
            <a:ext cx="3049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25360" y="2846520"/>
            <a:ext cx="0" cy="309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4320" y="2685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73840" y="2685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6040" y="2846520"/>
            <a:ext cx="0" cy="3097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2846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843280"/>
            <a:ext cx="3124080" cy="30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загорится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Follow me (отслежива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Busy / 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Station off-net (если станция вне сет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- Incoming outside line to off-net (system attendant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ходящий внешний звонок на станцию, котор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ходится вне сети - только со станции оператор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- DVU forward (переадресация DV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жмите кнопку прямого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группы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установлен тип Follow-me, наберите идентифик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онный код доступ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, а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6812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5360" y="1204920"/>
            <a:ext cx="0" cy="1042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7384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26040" y="1204920"/>
            <a:ext cx="0" cy="1042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254240"/>
            <a:ext cx="32004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е отвечает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м телефоне загорится индикатор CALLBK 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Как ответить на звонок, о котором оставлено сообщ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10396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720" y="792000"/>
            <a:ext cx="1486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446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03720" y="3387600"/>
            <a:ext cx="73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05520" y="4011480"/>
            <a:ext cx="9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Группы интерк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6157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25360" y="6558120"/>
            <a:ext cx="0" cy="928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4320" y="6397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73840" y="6397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26040" y="6558120"/>
            <a:ext cx="0" cy="928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558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6575400"/>
            <a:ext cx="327672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при звонке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6392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иапазон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llbk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343" name="dndfor" descr=""/>
          <p:cNvPicPr/>
          <p:nvPr/>
        </p:nvPicPr>
        <p:blipFill>
          <a:blip r:embed="rId2"/>
          <a:stretch/>
        </p:blipFill>
        <p:spPr>
          <a:xfrm>
            <a:off x="609480" y="3032280"/>
            <a:ext cx="304920" cy="206280"/>
          </a:xfrm>
          <a:prstGeom prst="rect">
            <a:avLst/>
          </a:prstGeom>
          <a:ln w="0">
            <a:noFill/>
          </a:ln>
        </p:spPr>
      </p:pic>
      <p:pic>
        <p:nvPicPr>
          <p:cNvPr id="344" name="dndfor" descr=""/>
          <p:cNvPicPr/>
          <p:nvPr/>
        </p:nvPicPr>
        <p:blipFill>
          <a:blip r:embed="rId3"/>
          <a:stretch/>
        </p:blipFill>
        <p:spPr>
          <a:xfrm>
            <a:off x="609480" y="6746760"/>
            <a:ext cx="3049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4-03T12:47:18Z</cp:lastPrinted>
  <dcterms:modified xsi:type="dcterms:W3CDTF">1998-04-03T13:17:28Z</dcterms:modified>
  <cp:revision>19</cp:revision>
  <dc:subject/>
  <dc:title>Заголовок слайда отсутствует</dc:title>
</cp:coreProperties>
</file>