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277-5FE4-4ACA-BCE7-2FE4B14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0B9-0546-4C3E-BF4D-608EC390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181-7C6F-48F7-B9BA-7977EFB3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239-FF2D-4A8D-9531-4FA94A59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976-10A4-46D7-8231-468D2C5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DA2-4AB9-4368-96C4-788C4AF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635-7420-4575-B9C3-DD793E40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E9B-070D-4354-AEDF-DF8AFEB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20F-0EC8-470D-8061-9AD2AD9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BD0-25C9-4F46-B31E-AFA61327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A11-C9E7-4D4C-B5B5-28F1936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F33-AD13-412A-94D4-AFE65A2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31E-FDDA-431C-91C3-61317758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9880" y="990720"/>
            <a:ext cx="36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KD,KD/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7360" y="2698920"/>
            <a:ext cx="40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Ke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SX/E, GK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0960" y="4314960"/>
            <a:ext cx="38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G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T User’s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3840" y="99072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2760" y="2698920"/>
            <a:ext cx="42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M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3840" y="457200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D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2760" y="6280200"/>
            <a:ext cx="42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Key Teleph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: GH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9T13:17:08Z</dcterms:created>
  <dc:creator>lg</dc:creator>
  <dc:description/>
  <dc:language>en-US</dc:language>
  <cp:lastModifiedBy>lg</cp:lastModifiedBy>
  <dcterms:modified xsi:type="dcterms:W3CDTF">1998-04-03T08:12:38Z</dcterms:modified>
  <cp:revision>2</cp:revision>
  <dc:subject/>
  <dc:title>Заголовок слайда отсутствует</dc:title>
</cp:coreProperties>
</file>