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42FC-D612-440A-8145-84E23D05B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31DB-A66C-486A-A1CB-8635D783C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190D-B409-41B7-A53D-B7AF07F5B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76B4-7672-4912-A650-077C1AD2D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4BE1-BC25-4E50-99A7-42EFD0964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4444-5C7B-4814-A2A6-4DA63BCCD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ED20-D124-44F5-A242-AF90E0844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372B-F55D-455A-8623-8C80F1B24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2583-470F-4F7B-8A2C-DB57413E5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AFED-82EF-45DB-A4DD-39627709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EA15-EEBE-4360-B67B-C56D2E39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76CE-6DC7-40C0-B685-B0301915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33520" y="8305560"/>
            <a:ext cx="1371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362320" y="8305560"/>
            <a:ext cx="2133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4952880" y="8305560"/>
            <a:ext cx="1371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AD341EA-4229-484C-B837-D4766CD7E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154160" y="1190520"/>
            <a:ext cx="4738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ЦИФРОВЫЕ КНОПОЧНЫЕ ТЕЛЕФОНЫ / Краткое руководство                           СЕРИИ KD, KD/E, LKD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19320" y="1371600"/>
            <a:ext cx="4495680" cy="237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1444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55600" y="1690560"/>
            <a:ext cx="2425680" cy="15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Кнопк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7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используется для прекращения разговора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7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i="1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беспечивает доступ к функциям ско-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ростного набора, сохранения номера для пов-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торного набора и повторного набора последнего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омера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7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(TRANSFER) используется для пере-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ода звонка с одной станции на другую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700" spc="-1" strike="noStrike">
                <a:solidFill>
                  <a:srgbClr val="000000"/>
                </a:solidFill>
                <a:latin typeface="Arial"/>
              </a:rPr>
              <a:t>CALLBK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(CALLBACK) позволяет оставить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ообщение о вашем звонке, если номер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занят или находится в режиме DND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700" spc="-1" strike="noStrike">
                <a:solidFill>
                  <a:srgbClr val="000000"/>
                </a:solidFill>
                <a:latin typeface="Arial"/>
              </a:rPr>
              <a:t>CONF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используется для конференций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700" spc="-1" strike="noStrike">
                <a:solidFill>
                  <a:srgbClr val="000000"/>
                </a:solidFill>
                <a:latin typeface="Arial"/>
              </a:rPr>
              <a:t>DND/FOR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(FORWARD) позволяет вам пере-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адресовывать звонки на другой телефон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19320" y="1363680"/>
            <a:ext cx="4114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Краткое руководство пользователя цифрового телефон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426120" y="1811160"/>
            <a:ext cx="2351880" cy="13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700" spc="-1" strike="noStrike">
                <a:solidFill>
                  <a:srgbClr val="000000"/>
                </a:solidFill>
                <a:latin typeface="Arial"/>
              </a:rPr>
              <a:t>MUTE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озволяет отключать микрофон или спикер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и разговоре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7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позволяет сделать звонок или ответить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на звонок без поднятия трубки. Включает и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выключает спикер.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7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позволяет поставить входящий звонок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на удержание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700" spc="-1" strike="noStrike">
                <a:solidFill>
                  <a:srgbClr val="000000"/>
                </a:solidFill>
                <a:latin typeface="Arial"/>
              </a:rPr>
              <a:t>REDIAL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озволяет автоматически набрать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оследний набранный вами номер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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VOLUME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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г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озволяет настроить громкость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звонка и спикера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20760" y="3429000"/>
            <a:ext cx="44179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27160" y="3505320"/>
            <a:ext cx="2454120" cy="41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Переадресация звонк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жмите кнопку M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жмите кнопку DND/FOR и выберите тип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ереадресации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- 0 : Follow me (отслеживание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- 1 : Unconditional (без условий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- 2 : Busy calls (если номер занят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- 3 : No answer calls (если номер не отвечает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- 4 : Busy/no answer calls (если занят/не отвечает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- 5 : Station off-net (если станция вне сети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- 6 : Off-net call forward only (только если вне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ети) (может установить только оператор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- 7 : DVU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номер станции или нажмите кнопку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рямого доступа DSS или группу интеркома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уда будут переводится звонки.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(Вы услышите подтверждающий сигнал.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Функция ожидания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Если номер занят, вы можете сообщить о своем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звонке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, последнюю цифру этого номера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или кнопку прямого доступа DSS.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огда он ответит, говорите с ним или повесьте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трубку, чтобы перевести звонок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Конференци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номер первого пользовател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(внешний или внутренний). Когда он ответит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жмите кнопку CONF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ыберите другую линию, чтобы подключить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еще одного пользователя к конференции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огда он ответит, нажмите CONF два раза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 u="sng">
                <a:solidFill>
                  <a:srgbClr val="000000"/>
                </a:solidFill>
                <a:uFillTx/>
                <a:latin typeface="Arial"/>
              </a:rPr>
              <a:t>Чтобы закончить конференцию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Закончить конференцию должен ее инициатор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ложите трубку или нажмите кнопку M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81480" y="3505320"/>
            <a:ext cx="2562120" cy="44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Сообщение об ожидани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Если номер занят, не отвечает или находится в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режиме DND, вы можете оставить сообщение о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ашем звонке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номер интеркома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жмите кнопку CALLBK. На телефоне другого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льзователя будет мигать индикатор CALLBK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 u="sng">
                <a:solidFill>
                  <a:srgbClr val="000000"/>
                </a:solidFill>
                <a:uFillTx/>
                <a:latin typeface="Arial"/>
              </a:rPr>
              <a:t>Чтобы ответить на звонок, находящийся на ожидании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жмите мигающую кнопку CALLBK. На станции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оторая оставила сообщение, раздастся звонок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Если станция не отвечает, нажмите кнопку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CALLBK один раз, чтобы оставить сообщение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Как поставить внешний звонок на удержани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ри разговоре по внешней линии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жмите кнопку HOL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- Два раза, чтобы поставить на удержание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тдельную линию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- Один раз, чтобы поставить на удержание систем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оборот, если кнопка запрограммирована в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братном порядке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Повторный набор последнего номер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следний набранный во внешнюю линию номер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охраняется в памяти системы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жмите кнопку REDIAL или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жмите кнопку SPEED  и нажмите *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Сохранение повторного набора номер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Если вы хотите сохранить последний набранный вами номер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сле набора номера во внешнюю линию не кладите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жмите кнопку SPEED два раза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 u="sng">
                <a:solidFill>
                  <a:srgbClr val="000000"/>
                </a:solidFill>
                <a:uFillTx/>
                <a:latin typeface="Arial"/>
              </a:rPr>
              <a:t>Чтобы набрать сохраненный номер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жмите кнопку SPEED и нажмите #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1444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27160" y="1676520"/>
            <a:ext cx="2349360" cy="43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Перевод звонк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ри разговоре по внешней линии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жмите кнопку TRANS/PGM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номер станции или кнопку прямого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доступа DSS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(Вы можете выбрать отслеживаемый перевод или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еотслеживаемый перевод .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 u="sng">
                <a:solidFill>
                  <a:srgbClr val="000000"/>
                </a:solidFill>
                <a:uFillTx/>
                <a:latin typeface="Arial"/>
              </a:rPr>
              <a:t>Отслеживаемый перевод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огда лицо, на номер которого переводится звонок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тветит, сообщите ему о переводе и положи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 u="sng">
                <a:solidFill>
                  <a:srgbClr val="000000"/>
                </a:solidFill>
                <a:uFillTx/>
                <a:latin typeface="Arial"/>
              </a:rPr>
              <a:t>Неотслеживаемый перевод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огда вы услышите гудки, положите трубку, чтобы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еревести звонок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Сохранение номеров скоростного набор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жмите кнопку TRANS/PGM и затем SPEE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номер скоростного набора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-  Номера скоростного набора станции  : 00~19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-  Ном. скор. наб. системы : 200~999 (GDK-16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(Программир. оператором) 200~399 (GDK-FPII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телефонные номера, которые вы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хотите сохранить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жмите кнопку HOLD/SAV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Набор номера скоростного набора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жмите кнопку SPEED  и наберите номер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коростного набора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огда номер ответит, поднимите трубку или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оспользуйтесь спикером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Функция Voice O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Если номер занят, то его пользователь может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узнать  о поступившем звонке с помощью ми-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гающей кнопки HOLD/SAVE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сле сигнала он сможет продолжить разговор 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беими звонящими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05280" y="1363680"/>
            <a:ext cx="3853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Краткое руководство пользователя цифрового телефон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00560" y="3581280"/>
            <a:ext cx="23493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Программирование мягкой кнопк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Нажмите кнопку TRANS/PGM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Нажмите мягкую кнопку, которую вы хотите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запрограммировать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С помощью таблицы введите код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Нажмите кнопку HOLD/SAV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435480" y="4389480"/>
            <a:ext cx="2203200" cy="173988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05240" y="4367160"/>
            <a:ext cx="236232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од прямого                 100~291 (GDK-16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доступа                        100~171 (GDK-1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00~133 (GDK-FPII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еревод звонка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601~619 (GDK-16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 ожидание                601~610 (GDK-1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601~605 (GDK-FPII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Функция ожидания      TRANS/PGM + 8 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коростной набор       SPEED + номер (00~19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о станции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коростной набор       SPEED + </a:t>
            </a:r>
            <a:r>
              <a:rPr b="0" lang="ru-RU" sz="700" spc="-1" strike="noStrike" u="sng">
                <a:solidFill>
                  <a:srgbClr val="000000"/>
                </a:solidFill>
                <a:uFillTx/>
                <a:latin typeface="Arial"/>
              </a:rPr>
              <a:t>номер ск. набор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из системы                   200~999 (GDK-16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00~399 (GDK-100/FPII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бщий вызов               4  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Универс. ночн. ответ   6  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Автонабор последнего номера       SPEED +  *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охранение номера автонабора    SPEED + #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19640" y="6172200"/>
            <a:ext cx="14997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ак стереть мягкую кнопку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Нажмите кнопку TRANS/PGM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Нажмите мягкую кноп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Нажмите кнопку HOLD/SAV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413160" y="1676520"/>
            <a:ext cx="237816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Очередь в лини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Если линия занята и вы хотите встать в очередь, что-бы подключится к линии, когда она освободится, проделайте следующее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Нажмите кнопку занятой внешней линии или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у группы линий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огда вы нажмете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ALLBK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, она загоритс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и вы услышите подтверждающий сигнал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овесьте трубку или нажмите кнопку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Как ответить на звонок, находящийся в очереди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огда внешняя линия или одна из линий группы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линий освобождается, вы услышите гудки и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загорится кнопка этой линии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однимите трубку и нажмите эту кноп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g</cp:lastModifiedBy>
  <cp:lastPrinted>1998-03-24T14:06:18Z</cp:lastPrinted>
  <dcterms:modified xsi:type="dcterms:W3CDTF">1998-03-24T14:06:24Z</dcterms:modified>
  <cp:revision>21828</cp:revision>
  <dc:subject/>
  <dc:title>Заголовок слайда отсутствует</dc:title>
</cp:coreProperties>
</file>