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5335588" cy="8002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4FD-5901-4231-9686-649A404B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C05F-C17D-4B8E-9FD8-21E956C4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A2E-B8CB-4584-8194-D7DD2A2C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B34-79C7-4E6B-9EF7-C10A6436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943-4AA2-4572-B5F5-EDE34F7E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CEE-2DFF-43AE-A232-20F40B13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7DFC-8E1E-41CB-82BC-1DAF7321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500-D526-40CA-8165-576AFE42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EF1-CAC5-4301-A9F3-5A6991F1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3ED-87AF-4429-AE10-6D0C9152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4BE-3879-4116-8E89-5DCDE66D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A43-D42D-45DB-B1EE-2626DDED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80520" y="727704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828440" y="7277040"/>
            <a:ext cx="1676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809520" y="727704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A5F026-76E8-41FA-BDA9-647207A09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20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ЦИФРОВЫЕ ТЕЛЕФОНЫ GDK / Руководство пользователя SLT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GDK-162/100/FPI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792000"/>
            <a:ext cx="4648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уководство пользователя терминала абонентской линии (SL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Cyr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24"/>
              </a:spcBef>
              <a:buClr>
                <a:srgbClr val="000000"/>
              </a:buClr>
              <a:buFont typeface="Arial Cyr"/>
              <a:buChar char="•"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Cyr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  <a:p>
            <a:pPr lvl="1" marL="577800" indent="-196920">
              <a:spcBef>
                <a:spcPts val="550"/>
              </a:spcBef>
              <a:buClr>
                <a:srgbClr val="000000"/>
              </a:buClr>
              <a:buFont typeface="Arial Cyr"/>
              <a:buChar char="–"/>
              <a:tabLst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Cy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Cyr"/>
            </a:endParaRPr>
          </a:p>
          <a:p>
            <a:pPr lvl="2" marL="888840" indent="-177480">
              <a:spcBef>
                <a:spcPts val="476"/>
              </a:spcBef>
              <a:buClr>
                <a:srgbClr val="000000"/>
              </a:buClr>
              <a:buFont typeface="Arial Cyr"/>
              <a:buChar char="•"/>
              <a:tabLst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Cyr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 Cyr"/>
            </a:endParaRPr>
          </a:p>
          <a:p>
            <a:pPr lvl="3" marL="1244520" indent="-177840">
              <a:spcBef>
                <a:spcPts val="400"/>
              </a:spcBef>
              <a:buClr>
                <a:srgbClr val="000000"/>
              </a:buClr>
              <a:buFont typeface="Arial Cyr"/>
              <a:buChar char="–"/>
              <a:tabLst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yr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  <a:p>
            <a:pPr lvl="4" marL="1600200" indent="-177840">
              <a:spcBef>
                <a:spcPts val="400"/>
              </a:spcBef>
              <a:buClr>
                <a:srgbClr val="000000"/>
              </a:buClr>
              <a:buFont typeface="Arial Cyr"/>
              <a:buChar char="•"/>
              <a:tabLst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  <a:tab algn="l" pos="10128240"/>
                <a:tab algn="l" pos="1058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yr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  <a:p>
            <a:pPr lvl="5" marL="1600200" indent="-177840">
              <a:spcBef>
                <a:spcPts val="400"/>
              </a:spcBef>
              <a:buClr>
                <a:srgbClr val="000000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yr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  <a:p>
            <a:pPr lvl="6" marL="1600200" indent="-177840">
              <a:spcBef>
                <a:spcPts val="400"/>
              </a:spcBef>
              <a:buClr>
                <a:srgbClr val="000000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yr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32120" y="6472080"/>
            <a:ext cx="1295280" cy="304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38600" y="5883120"/>
            <a:ext cx="2038320" cy="457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236232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сделать внешний звон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ужный номе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интерком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вод звон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вы услышите звонок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дополнительный номер звоняще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ответить на звонок, находящийся на ожида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узнаете о звонке по предупреждающем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игнал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, чтобы ответить на звонок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ли переведите текущий звонок на ожидание,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чтобы ответить на второй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сделать отслеживаемый перев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разговоре по внешней линии, нажм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нопку телефона (положите и сразу подним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рубку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дополнительный номер и жд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ите о переводе звонк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, чтобы  закончить перевод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сделать не отслеживаемый перев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разговоре по внешней линии, нажм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нопку телефона (положите и сразу подним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рубку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дополнительный номе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, чтобы  закончить перевод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2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Использование номеров скоростного набора на станц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8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коростного набора (00~19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хранение номеров скоростного набо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5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коростного набора. (00~19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, который хотите сохранить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услышите подтверждающий сигнал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4520" y="1066680"/>
            <a:ext cx="2647800" cy="63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ответить на групповой звон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вы услышите звонок, на который не отвечают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6 6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соединитесь со станцией, на которую поступает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вонок (Вы должны быть в той же группе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онференц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истема позволяет вам установить трехстороннюю конференцию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. (внешний или внутренний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 (положите и сразу под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имите трубку)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дополнительный номер второ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ьзователя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он ответит, нажмите кноп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Конференция установлена и теперь все тро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огут принимать участие в разговоре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общение об ожида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дополнительный номе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 или не отвечает, нажмите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нопку телефона (положите и сразу поднимит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рубку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6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Очередь в ли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, вы можете сделать так, чт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истема поставить ваш звонок на удержани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 (положите и сраз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5 6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услышите подтверждающий сигнал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адресация звон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, на который будут переводитс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се поступающие звонк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- без условий,      2 - если номер занят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 - если не отвечает,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 - если занят/не отвечает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7 - для переадресации DVU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дополнительные номе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162 : 100~291/ 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100 : 100~171/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FPII : 100~127/ 620~631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Чтобы отменить переадресацию, поднимите трубк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 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62360" y="6377040"/>
            <a:ext cx="1938240" cy="785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87480" y="2014560"/>
            <a:ext cx="2013120" cy="1009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032440"/>
            <a:ext cx="990720" cy="304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040" y="1066680"/>
            <a:ext cx="229572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ля переадресации “отслеживание”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, с которого должны пере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дресовываться звонк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идентификационный код доступ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акого номе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Идентификационный код доступа долже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ыть зарегистрирован в системе до того, как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будете устанавливать эту функцию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, на который будут переадре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вываться звонк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запрограммировать код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4 4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5 цифр код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 (положите и сразу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ункция “не беспокоить” (D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отменить функцию DND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или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9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остановка звонка на ожида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номер для ожидания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162 : 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100: 601~610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FPII : 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Чтобы продолжить разговор, наберите номе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ля ожидания еще раз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ключение между звонкам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разговоре по внешней или внутренне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линии положите и быстро 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орона, находящаяся на удержании, слышит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узыку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второй номер (внешн. или внутр.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второй пользователь ответит, в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можете  переключаться между звонкам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 помощью кнопки 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атем вы можете создать конференцию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27360" y="1066680"/>
            <a:ext cx="2332080" cy="60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тандартные сообщ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можете выбрать стандартные сообщения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торые будут появляться на телефоне звонящего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  (код доступа к программированию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7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один из указанных ниже номеров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01~1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1 + (время)  ОБЕДАЮ, ВЕРНУСЬ В ЧЧ:M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2 + (дата)     В ОТПУСКЕ, ВЕРНУСЬ MM:Д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3 + (время)  ОТСУТСТВУЮ, ВЕРНУСЬ В ЧЧ:M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4 + (дата)     ОТСУТСТВУЮ, ВЕРНУСЬ В MM:Д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5                    ОТСУТСТВУЮ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6 + (внешн. номер) ПЕРЕЗВОНИТЕ ПО XXX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7 + (доп. номер) В ОФИСЕ, НОМЕР XXX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8 + (время) НА ВСТРЕЧЕ, ВЕРНУСЬ В ЧЧ:M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09                    ДОМА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10                    В ФИЛИАЛЕ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Чтобы стереть сообщение, поднимите трубку 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7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ниверсальный ночной звон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чью поступает звонок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код доступа UNA (универсально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очного ответа)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6 9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такой код запрограммирован, то в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можете  ответить на этот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ограммирование имен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 (код доступа к программированию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0 0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ведите ваше имя с помощью кодов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ызо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зону станций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делайте сообщени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Зоны вызов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щий вызов  :  4 9     Все внутр. зоны : 4 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зона 1   : 4 0 1   Внешн. зона 1    : 4 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:    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зона xx : 4 </a:t>
            </a: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x x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162 : 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100 : 15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FPII: 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066680"/>
            <a:ext cx="2347920" cy="61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танция DV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Время 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6 7 1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услышите, “Time is XX : XX PM.” (Время: ....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Дата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6 7 2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услышите, “Date is December, 20th.” (Дата: 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Номер станции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6 7 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услышите, “This is station XXXX.”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Номер станции: ....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Запись сообщени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6 7 4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апишите ваше сообщени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ож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Воспроизведение вашего сообщени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6 7 6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 (Вы прослушаете сообщение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Удаление вашего сообщени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6 7 5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 (Сообщение будет удалено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Статус дополнительного номе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6 7 7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услышите следующую информацию (a~h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a)  Extension number (дополнительный номер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b)  Handsfree/Tone/Privacy (режим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c)  Listed message (указанное сообщени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d)  Wake-up time AM или PM (время будильник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e)  Do Not Disturb (функция DND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)   Forwarded to extension XXXX (переадресация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 номер ХХХХ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)  Locked (временное изменение класса ил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h)  Class of Service X (класс услуг Х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едупреждение, что трубка не положе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вы неправильно повесили трубку, то через некоторое время телефон издаст сигнал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Чтобы отменить его, 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ведение кода для учет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истема может предоставлять пользователю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аспечатку с информацией о звонке  с помощью кода учет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наборе и во время разговора по внешней лин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5 0  и код учета. (Код учета до 12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цифр.)</a:t>
            </a:r>
            <a:br>
              <a:rPr sz="700"/>
            </a:b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Нажмите кнопку 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должайте разговор и повесьте после того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вы его закончит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36720" y="1066680"/>
            <a:ext cx="221616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ращение звонка головной станц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LG GDK подключен к другой системе, вы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ожете использовать эту функцию для того, чтобы перевести звонок в другую систем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подключенной внешней линии, нажм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нопку 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5 1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услышите гудок другой системы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дополнительный номер в друго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истем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номер ответит, (см. “Отслеживаемы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”), сообщите о переводе ил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 (См. “Неотслеживаемый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”), чтобы закончить перевод звонк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</cp:lastModifiedBy>
  <cp:lastPrinted>1998-03-29T13:28:16Z</cp:lastPrinted>
  <dcterms:modified xsi:type="dcterms:W3CDTF">1998-04-03T15:02:02Z</dcterms:modified>
  <cp:revision>21833</cp:revision>
  <dc:subject/>
  <dc:title>Заголовок слайда отсутствует</dc:title>
</cp:coreProperties>
</file>