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GSX/E, GK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0120" y="771984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A382DC-94D8-4E04-B67D-0A25C3154AAD}" type="slidenum">
              <a:rPr b="0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18040" y="79200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41360" y="1119240"/>
            <a:ext cx="4587840" cy="63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Family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 Arrangement for Analog Key Telephone Family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 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Outside Call  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 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 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 CO Call on Hold 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Transfer ...............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 ...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 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Memo 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 ......................................................................................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te ......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Queuing 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Queue Request ................................................................................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ash .....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akerphone 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 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s .......................................................................................................................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s ...........................................................................................................................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Forward 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o Not Disturb 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xecutive/Secretary Transfer 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 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rected Call Pick-up 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 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Call Wait 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Back 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 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 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ing Your Name into Display 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 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lume Control 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matic Selection 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ot Line .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-Minute Warning 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 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Intercom Signaling 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Transfer 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aging ...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on Hold 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 Programming 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ttendant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 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Override 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sable CO Line Access 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reating Customized Messages 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etting Time/Date 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rasing Password 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ight Transfer 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Register Access Password 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 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ser Custom Message Programming .............................................................................................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dex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...............................................................................................................................................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360" y="1119240"/>
            <a:ext cx="4587840" cy="64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in GDK System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 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Outside Call  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Group Call  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Intercom Answer Mode  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 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 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 CO Call on Hold 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on Hold 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Transfer  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ice Over  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 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  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memo 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  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te ......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Queuing 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Queue Request  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xecutive / Secretary Transfer  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ep Call 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 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rected Call Pick-up 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 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Call Wait with Voice Over .................................................................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Back 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 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Forward 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o Not Disturb 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 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 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s 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s 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 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ing Your Name into Display 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 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aging ...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 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 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ash ............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akerphone 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ice Announcement 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 Programming 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ttendant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 ....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Intrusion 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 Outgoing Disable 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Clock Set ………………………………………………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Time/Date Format 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ustomized Message  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Print out Accumulated SMDR Records 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Erase SMDR Records  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emporary COS Change 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Greetings 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raffic Analysis ................................................................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ay/On-demand/Night Mode Service (Manual/Automatic) ...............................................................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720" y="79200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1360" y="1119240"/>
            <a:ext cx="45878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 ..........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Box BGM Selection by Attendant 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Erasing Station Message .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DSS Operation 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aking a Page ........................................................................................................................ 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ransferring an Outside Line to Another Station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Group Call ..........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verriding a Key Telephone in Do Not Disturb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dex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................................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5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1911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720" y="79200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3:21:08Z</dcterms:created>
  <dc:creator>USER</dc:creator>
  <dc:description/>
  <dc:language>en-US</dc:language>
  <cp:lastModifiedBy>장재진</cp:lastModifiedBy>
  <cp:lastPrinted>2000-02-16T01:12:56Z</cp:lastPrinted>
  <dcterms:modified xsi:type="dcterms:W3CDTF">2000-02-16T01:14:46Z</dcterms:modified>
  <cp:revision>27</cp:revision>
  <dc:subject/>
  <dc:title>슬라이드 제목 없음</dc:title>
</cp:coreProperties>
</file>