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5335588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8903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139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667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18903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35139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66760" y="318960"/>
            <a:ext cx="4801320" cy="61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6840" y="619200"/>
            <a:ext cx="4738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ko-KR" sz="700" spc="-1" strike="noStrike">
                <a:solidFill>
                  <a:srgbClr val="969696"/>
                </a:solidFill>
                <a:latin typeface="Arial"/>
                <a:ea typeface="돋움"/>
              </a:rPr>
              <a:t>●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NALOG KEY TELEPHONE / USER’S GUIDE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in GDK SYSTE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800280"/>
            <a:ext cx="4495680" cy="237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314800" y="7704000"/>
            <a:ext cx="7077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A031662-9BCB-4801-812A-4AF51911F050}" type="slidenum">
              <a:rPr b="0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9.png"/><Relationship Id="rId7" Type="http://schemas.openxmlformats.org/officeDocument/2006/relationships/package" Target="../embeddings/oleObject1.docx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143000" y="1260360"/>
            <a:ext cx="31100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ft handset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outside line button, pool button or dial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CO line acces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cod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desired part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When called party answers, lift handset or use speakerpho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When the line is busy or no answer,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1 digit to be replaced with the last digit for step call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451080" y="804960"/>
            <a:ext cx="15598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Placing an Outside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203720" y="1252440"/>
            <a:ext cx="841320" cy="9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9, 8 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62 : 01~4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00 : 01~2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FPII: 01~0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Or, 88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+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62 : 01~9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00 : 01~4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FPII: 01~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666880"/>
            <a:ext cx="4498920" cy="381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Answering an Outside Call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25360" y="3068640"/>
            <a:ext cx="0" cy="7794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3600" y="29019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74920" y="290196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94160" y="2903400"/>
            <a:ext cx="7700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49720" y="3068640"/>
            <a:ext cx="0" cy="7794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0686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35800" y="3117960"/>
            <a:ext cx="29181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ft handset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to use speakerpho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flashing outside line button or loop ke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If your phone is programmed with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ferred Line Answe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you may answer by just lifting handset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38560"/>
            <a:ext cx="4495680" cy="381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Placing an Intercom Group Call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25360" y="4522680"/>
            <a:ext cx="0" cy="6969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3600" y="43671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74920" y="436572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02080" y="436104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9720" y="4522680"/>
            <a:ext cx="0" cy="6969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5226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36880" y="4546440"/>
            <a:ext cx="182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make an intercom group call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ft handset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the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intercom group numbe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4360" y="4724280"/>
            <a:ext cx="717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62 : 620~64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00 : 620~6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FPII: 620~6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25360" y="1200240"/>
            <a:ext cx="0" cy="12002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49720" y="1200240"/>
            <a:ext cx="0" cy="12002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3600" y="10350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74920" y="10350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81560" y="1036800"/>
            <a:ext cx="7700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2016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53080" y="5977080"/>
            <a:ext cx="3178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TRANS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4 9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ial 1 for Handsfree, 2 for Tone ring, or 3 for Privacy announce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HOLD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25360" y="5924520"/>
            <a:ext cx="0" cy="7812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26040" y="5924520"/>
            <a:ext cx="0" cy="7812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3600" y="575928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74920" y="575928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06760" y="5761080"/>
            <a:ext cx="7700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59259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5516640"/>
            <a:ext cx="44956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2960" y="5505480"/>
            <a:ext cx="22366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Changing Intercom Answer M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23880" y="1251000"/>
            <a:ext cx="264960" cy="2127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01560" y="1913040"/>
            <a:ext cx="311400" cy="1220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23880" y="3127320"/>
            <a:ext cx="264960" cy="212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23880" y="4651200"/>
            <a:ext cx="264960" cy="212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601560" y="5996160"/>
            <a:ext cx="311400" cy="129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625320" y="6329520"/>
            <a:ext cx="263520" cy="20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143000" y="4735440"/>
            <a:ext cx="3124080" cy="22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f your phone has been programmed to have Do Not Disturb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while on-hook or your phone is ring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he LED lights and your phone is in DN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ft handset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or the programmed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You will hear confirmation tone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ang u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remove Do Not Disturb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while on-hoo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he LED extinguishes and DND at your phone is remo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ft handset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or the programmed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while on-hoo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136520" y="2081160"/>
            <a:ext cx="312624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cancel call forward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ft handset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and 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#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ang u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- To cancel incoming outside line to off-net (at system attendant)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DND/FOR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Line Group No.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#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36680" y="798480"/>
            <a:ext cx="1347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Call Forward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Cont’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25360" y="1204920"/>
            <a:ext cx="0" cy="27576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3600" y="10447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374920" y="104472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226040" y="1204920"/>
            <a:ext cx="0" cy="27576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" y="12049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89480" y="103968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57400" y="1322280"/>
            <a:ext cx="2609640" cy="8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ft handset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 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or press the programmed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the call forward typ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the station number or press the DSS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ang u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155960" y="3182760"/>
            <a:ext cx="29556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ft handset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 4 #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or press the programmed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whi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on-hoo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ang u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125360" y="4686480"/>
            <a:ext cx="0" cy="2350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43600" y="45259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374920" y="452592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226040" y="4686480"/>
            <a:ext cx="0" cy="23508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7200" y="46864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389480" y="452124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426708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Do Not Distur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39560" y="1219320"/>
            <a:ext cx="13752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On GSX/E 8 BTN, GK-8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140184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9560" y="3048120"/>
            <a:ext cx="13752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On GSX/E 8 BTN, GK-8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3520" y="323064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39560" y="5172120"/>
            <a:ext cx="13752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On GSX/E 8 BTN, GK-8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535464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39560" y="6391440"/>
            <a:ext cx="13752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On GSX/E 8 BTN, GK-8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33520" y="657396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625320" y="1427040"/>
            <a:ext cx="262080" cy="2095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01560" y="2362320"/>
            <a:ext cx="311400" cy="12528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601560" y="4873680"/>
            <a:ext cx="311400" cy="1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25360" y="1204920"/>
            <a:ext cx="0" cy="37861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43600" y="10447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374920" y="104472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226040" y="1204920"/>
            <a:ext cx="0" cy="37861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7200" y="12049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143000" y="1254240"/>
            <a:ext cx="3048120" cy="36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store station speed number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PEED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speed number bin. (00~19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the phone numbers to be stor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Enter name for Dial by Name. (option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Or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speed number bin. (00~19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desired outside line or specific line group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the phone number to be stor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OLD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use station speed number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ft handset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PEED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speed number bin. (00~19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use system speed number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ft handset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speed number bi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erase station speed number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speed number bin to be eras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389480" y="103968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206240" y="3875040"/>
            <a:ext cx="75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System Speed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62 : 200~9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00 : 200~3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FPII: 200~3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42440" y="792000"/>
            <a:ext cx="129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Station Speed D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143000" y="6561000"/>
            <a:ext cx="3124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change access authorization cod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and 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4 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your current access authorization code. You will hea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nfirmation to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your new 5 digits access authorization cod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OLD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. (Confirmation tone is heard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57200" y="522432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Access Authorization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125360" y="5929200"/>
            <a:ext cx="0" cy="15004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43600" y="57690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374920" y="57690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226040" y="5929200"/>
            <a:ext cx="0" cy="15004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57200" y="59292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43000" y="5978520"/>
            <a:ext cx="31240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register access authorization cod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and 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4 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 (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light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your own 5 digits access authorization cod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 (Confirmation tone is heard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389480" y="576432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5520" y="5462640"/>
            <a:ext cx="4548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o prevent unauthorized outside calling, DISA access or Trunk access on your station by other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he system provides a means to lock/unlock a station by an access authorization cod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601560" y="1370160"/>
            <a:ext cx="311400" cy="1317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601560" y="1542960"/>
            <a:ext cx="311400" cy="12240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3"/>
          <a:stretch/>
        </p:blipFill>
        <p:spPr>
          <a:xfrm>
            <a:off x="625320" y="1849320"/>
            <a:ext cx="262080" cy="20808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4"/>
          <a:stretch/>
        </p:blipFill>
        <p:spPr>
          <a:xfrm>
            <a:off x="625320" y="3052800"/>
            <a:ext cx="262080" cy="20952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5"/>
          <a:stretch/>
        </p:blipFill>
        <p:spPr>
          <a:xfrm>
            <a:off x="601560" y="3295800"/>
            <a:ext cx="311400" cy="1220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6"/>
          <a:stretch/>
        </p:blipFill>
        <p:spPr>
          <a:xfrm>
            <a:off x="601560" y="6119640"/>
            <a:ext cx="311400" cy="13176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7"/>
          <a:stretch/>
        </p:blipFill>
        <p:spPr>
          <a:xfrm>
            <a:off x="625320" y="6342120"/>
            <a:ext cx="26352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125360" y="1407960"/>
            <a:ext cx="0" cy="6876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43600" y="12477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374920" y="124776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226040" y="1407960"/>
            <a:ext cx="0" cy="6876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7200" y="14079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143000" y="1457280"/>
            <a:ext cx="312408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and 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4 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 (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light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 (Confirmation tone is heard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UT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 will flash until restored to norm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389480" y="124308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32720" y="1017720"/>
            <a:ext cx="2804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ot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: An access authorization code should be register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42440" y="792000"/>
            <a:ext cx="1564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Blocking Outside Cal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234792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Restoring Outside Cal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125360" y="2747880"/>
            <a:ext cx="0" cy="7956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3600" y="258768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74920" y="258768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226040" y="2747880"/>
            <a:ext cx="0" cy="7956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57200" y="27478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2797200"/>
            <a:ext cx="25909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and 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4 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your current access authorization cod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Confirmation tone is heard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UT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will be extinguish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89480" y="258300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125360" y="4532400"/>
            <a:ext cx="0" cy="1525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43600" y="43718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4920" y="43718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26040" y="4532400"/>
            <a:ext cx="0" cy="15256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" y="45324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43000" y="4581360"/>
            <a:ext cx="3124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register wake-up tim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4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and 4-digit wake-up time (HHMM) in 24-hour mod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HH = 00~23, MM = 00~59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for “one-day” or 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#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nd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or “until cancelled”. (Confirmation tone is heard.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389480" y="436716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38120" y="4051440"/>
            <a:ext cx="4545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he system automatically sends ring signal to a station which register a wake-up time. There 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wo kinds of wake-up call, one is effective for one-day, the other is effective until cancell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143000" y="53942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cancel wake-up call,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and 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4 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 (Confirmation tone is heard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7200" y="383364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Wake-up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601560" y="1460520"/>
            <a:ext cx="311400" cy="13032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625320" y="1611360"/>
            <a:ext cx="262080" cy="20808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601560" y="2824200"/>
            <a:ext cx="311400" cy="12996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4"/>
          <a:stretch/>
        </p:blipFill>
        <p:spPr>
          <a:xfrm>
            <a:off x="601560" y="4738680"/>
            <a:ext cx="311400" cy="1303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5"/>
          <a:stretch/>
        </p:blipFill>
        <p:spPr>
          <a:xfrm>
            <a:off x="625320" y="5105520"/>
            <a:ext cx="262080" cy="20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543600" y="132228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4920" y="132228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7200" y="14828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143000" y="1531800"/>
            <a:ext cx="297180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and 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0 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the desired phone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Enter the name up to 7 letters using the codes below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389480" y="131760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226040" y="1482840"/>
            <a:ext cx="0" cy="24796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0880" y="1217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30560" y="1042920"/>
            <a:ext cx="4481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You can program your phone so people using display phone will see your name instead of you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tation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125360" y="1482840"/>
            <a:ext cx="0" cy="2479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136880" y="3733920"/>
            <a:ext cx="117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44600" y="792000"/>
            <a:ext cx="2463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Programming Your Name into Disp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168560" y="5456160"/>
            <a:ext cx="2819160" cy="1524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57200" y="419112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Pre-selected Messag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43600" y="46656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374920" y="46656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" y="48261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143000" y="4875120"/>
            <a:ext cx="3048120" cy="20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and 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7 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the number of desired message. Date, Time or S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umber, if requir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0 1  LUNCH, RTN HH:M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0 2  ON VACATION/RTN DATE (MM:DD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0 3  OUT OF OFFICE/RTN TIME (HH:MM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0 4  OUT OF OFFICE/RTN DATE (MM:DD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0 5  OUT OF OFFICE/RTN UNKNOW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0 6  CALL : 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0 7  IN OFFICE/STA 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0 8  IN A MEETING/RTN TIME (HH:MM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0 9  AT HOM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 0  AT BRANCH OFF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#    to canc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 1 ~ 2 0  are used for customized messages which ar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grammed by attendant. (See “Creating Customized Message”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389480" y="465768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125360" y="4819680"/>
            <a:ext cx="0" cy="25718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226040" y="4826160"/>
            <a:ext cx="0" cy="25653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67560" y="4403880"/>
            <a:ext cx="426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You can select a pre-assigned message to be displayed on the LCD of the phone call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the stati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117440" y="6978600"/>
            <a:ext cx="1733400" cy="3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turn off message display,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flashing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595440" y="1565280"/>
            <a:ext cx="311040" cy="13176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601560" y="1760400"/>
            <a:ext cx="311400" cy="12384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3"/>
          <a:stretch/>
        </p:blipFill>
        <p:spPr>
          <a:xfrm>
            <a:off x="625320" y="3730680"/>
            <a:ext cx="262080" cy="20808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4"/>
          <a:stretch/>
        </p:blipFill>
        <p:spPr>
          <a:xfrm>
            <a:off x="595440" y="4921200"/>
            <a:ext cx="311040" cy="13176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5"/>
          <a:stretch/>
        </p:blipFill>
        <p:spPr>
          <a:xfrm>
            <a:off x="625320" y="5194440"/>
            <a:ext cx="262080" cy="20772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6"/>
          <a:stretch/>
        </p:blipFill>
        <p:spPr>
          <a:xfrm>
            <a:off x="601560" y="7139160"/>
            <a:ext cx="311400" cy="12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0" name=""/>
          <p:cNvGraphicFramePr/>
          <p:nvPr/>
        </p:nvGraphicFramePr>
        <p:xfrm>
          <a:off x="838080" y="2209680"/>
          <a:ext cx="3276720" cy="16322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2209680"/>
                    <a:ext cx="3276720" cy="16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371600" y="2095560"/>
            <a:ext cx="2209680" cy="16765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3600" y="10573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374920" y="105732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2175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143000" y="1266840"/>
            <a:ext cx="312408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If you have been given the ability to make page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Lift handse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ial page zone. (See below chart.) And you will hear war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to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When the tone ends, speak in normal to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Hang u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GDK-162    GDK-100    GDK-FPI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389480" y="105264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125360" y="1217520"/>
            <a:ext cx="0" cy="3392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226040" y="1217520"/>
            <a:ext cx="0" cy="33926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2305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190600" y="2165400"/>
            <a:ext cx="0" cy="15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654280" y="2165400"/>
            <a:ext cx="0" cy="15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365840" y="2319480"/>
            <a:ext cx="214956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All Call                         4    9          4    9         4    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Internal Zone 1            4 0 1          4 0 1         4 0 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:                              :                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Internal Zone 05          4 0 5          4 0 5         4 0 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:                              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Internal Zone 15          4 1 5          4 1 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:                              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Internal Zone 20          4 2 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Internal All Call            4    3          4    3         4    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External Zone 1           4    6          4    6         4    6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External Zone 2           4    7          4    7            -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External All Call           4    8          4    8         4    8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128240" y="3870360"/>
            <a:ext cx="303948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answer paging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o to the nearest key telepho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ft handset and 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4 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, and you will be connected to pag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rt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41720" y="792000"/>
            <a:ext cx="607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Pag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111480" y="2165400"/>
            <a:ext cx="0" cy="15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43600" y="51483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374920" y="514836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7200" y="53085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389480" y="514368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43000" y="5351400"/>
            <a:ext cx="304812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While connected to an outside call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parking loca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retrieve a parked call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ft handset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parking loca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207320" y="5603760"/>
            <a:ext cx="7326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62 : 601~61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00 : 601~6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FPII : 601~6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125360" y="5308560"/>
            <a:ext cx="0" cy="11826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26040" y="5308560"/>
            <a:ext cx="0" cy="11826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57200" y="490680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Call Pa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601560" y="5505480"/>
            <a:ext cx="311400" cy="1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543600" y="10890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374920" y="10890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" y="12492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143000" y="1298520"/>
            <a:ext cx="30481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ft handset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flashing outside line button. If an outside line button 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ot assigned, 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6 9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You will be connected to ringing outside li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389480" y="108432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125360" y="1251000"/>
            <a:ext cx="0" cy="793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226040" y="1251000"/>
            <a:ext cx="0" cy="7938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132920" y="2770200"/>
            <a:ext cx="1256760" cy="4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7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43600" y="25560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374920" y="25560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57200" y="58593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389480" y="255096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125360" y="2716200"/>
            <a:ext cx="0" cy="598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226040" y="2716200"/>
            <a:ext cx="0" cy="5986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231624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Background Mus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57200" y="363060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Fla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43600" y="421308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374920" y="421308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57200" y="43736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143000" y="4422600"/>
            <a:ext cx="30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While connected to an outside line,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LASH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389480" y="420840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25360" y="4375080"/>
            <a:ext cx="0" cy="5018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226040" y="4375080"/>
            <a:ext cx="0" cy="5018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49920" y="3868560"/>
            <a:ext cx="4626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isconnects outside line and reseizes dial tone. It can be used to send a timed break recall w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the system is connected with a PBX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43520" y="792000"/>
            <a:ext cx="160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Universal Night 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57200" y="520524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Speaker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134720" y="5913360"/>
            <a:ext cx="2867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activate speakerphon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outside line number or intercom number to convers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43600" y="56991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74920" y="569916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57200" y="27162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389480" y="569448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125360" y="5859360"/>
            <a:ext cx="0" cy="7700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226040" y="5859360"/>
            <a:ext cx="0" cy="7700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28040" y="5430960"/>
            <a:ext cx="4475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ing an outside line button, a speed button, a station button or dialing a station number wi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omatically activate the speakerphon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627120" y="1300320"/>
            <a:ext cx="260280" cy="20952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601560" y="2786040"/>
            <a:ext cx="311400" cy="13176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3"/>
          <a:stretch/>
        </p:blipFill>
        <p:spPr>
          <a:xfrm>
            <a:off x="601560" y="4464000"/>
            <a:ext cx="311400" cy="13032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4"/>
          <a:stretch/>
        </p:blipFill>
        <p:spPr>
          <a:xfrm>
            <a:off x="627120" y="6024600"/>
            <a:ext cx="26028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441000" y="792000"/>
            <a:ext cx="1480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Voice Announc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148040" y="1265400"/>
            <a:ext cx="31629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ime Promp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6 7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You will hear the time prompt, “Time is XX : XX PM.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ate Promp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6 7 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You will hear the time prompt, “Date is December, 20th.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tation Number Promp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6 7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You will hear the station number prompt, “This is station XXXX.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43600" y="10508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374920" y="10508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12114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389480" y="104616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125360" y="1211400"/>
            <a:ext cx="0" cy="62560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226040" y="1211400"/>
            <a:ext cx="0" cy="62560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150560" y="2400480"/>
            <a:ext cx="305496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Record your greeting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6 7 4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The message is heard after 4sec) or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6 7 0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(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message is heard after predefined time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To stop recording, 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or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HOLD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button: erased automatically after 48 hou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HOLD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button: remained until cancel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After recording your greeting message, a caller will hear you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greeting message when you do not answer the call within 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predetermined time (PGM 43-BTN 24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elete your greeting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6 7 5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Playback your greeting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6 7 6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  (You will hear our greeting message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Station status promp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6 7 7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You will hear below list (a-h). c-g items will b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omitted if not active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) Station number 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b) Listed message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) Wake-up time XXXX AM or P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) Do not disturb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e) Forwarded to station 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f)  Forwarded to speed bin 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g) Locked (temporary COS chang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h) COS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Record your paging message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6 7 8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Lift handset to record your paging messa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HOLD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Confirm your paging message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6 7 9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The paging message is hear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625320" y="2840040"/>
            <a:ext cx="260640" cy="20808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625320" y="3068640"/>
            <a:ext cx="262080" cy="20808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625320" y="5583240"/>
            <a:ext cx="262080" cy="20808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1153080" y="6080040"/>
            <a:ext cx="230544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ctivate Call Forward to DVU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ft handset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or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(Select DVU Forward type 1 or 2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o on-hoo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eactivate Call Forward to DVU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ft handset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 #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o on-hoo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4"/>
          <a:stretch/>
        </p:blipFill>
        <p:spPr>
          <a:xfrm>
            <a:off x="628560" y="6178680"/>
            <a:ext cx="260280" cy="20772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5"/>
          <a:stretch/>
        </p:blipFill>
        <p:spPr>
          <a:xfrm>
            <a:off x="604800" y="6431040"/>
            <a:ext cx="311040" cy="1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439560" y="792000"/>
            <a:ext cx="1905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Voice Announcement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Cont’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3600" y="10494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374920" y="10494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57200" y="12096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389480" y="104472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125360" y="1211400"/>
            <a:ext cx="0" cy="29797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226040" y="1211400"/>
            <a:ext cx="0" cy="29797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152720" y="1219320"/>
            <a:ext cx="312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sten to the recorded message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the flashing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ALLB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he recorded message is heard with the time and dat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ing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, the current message is saved and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ext message is hear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ing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ALLB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, the recorded message is heard fr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he firs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ing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NF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, the current message is delet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609480" y="1542960"/>
            <a:ext cx="262080" cy="20808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601560" y="1366920"/>
            <a:ext cx="311400" cy="1252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601560" y="2109960"/>
            <a:ext cx="311400" cy="12672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439560" y="2344680"/>
            <a:ext cx="13752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On GSX/E 8 BTN, GK-8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3520" y="252720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49480" y="2556000"/>
            <a:ext cx="312840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f a DVU message is left, the MSG lamp is flash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 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or press programmed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ALLB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to listen to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ecorded messa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he recorded message is heard and then the message i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omatically delet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ing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while the message is played, the n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essage is heard. (The current message is placed to the last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ing programmed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ALLB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, the recorded 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s heard from the firs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f you don’t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any more, the current 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s deleted and other messages are remain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2666880" y="5524560"/>
            <a:ext cx="2210040" cy="1219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42800" y="792000"/>
            <a:ext cx="1959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Flexible Button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131480" y="1273320"/>
            <a:ext cx="24408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program flexible button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a flexible button to progra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 the below table and enter the desired cod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erase a flexible button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the flexible button to be eras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43600" y="10699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374920" y="106992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57200" y="12304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389480" y="106524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125360" y="1230480"/>
            <a:ext cx="0" cy="13986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226040" y="1230480"/>
            <a:ext cx="0" cy="13986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57200" y="2871720"/>
            <a:ext cx="4495680" cy="244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Code for Flexible Button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63680" y="3168720"/>
            <a:ext cx="448308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629080" y="3162240"/>
            <a:ext cx="0" cy="373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600200" y="3162240"/>
            <a:ext cx="0" cy="3048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828960" y="316224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41000" y="3176640"/>
            <a:ext cx="2172600" cy="30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rect Station Select       station numb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62 :100~29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00 :100~23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FPII:100~17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all Park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parking loca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62 :601~619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00 :601~6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FPII:601~6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unt Group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internal hunt gro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62 :620~64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00 :620~6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FPII:620~6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Mem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TRANS + 8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all Wait (Camp-on)        TRANS + 8 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Wake-up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o register                       TRANS + 4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o cancel                        TRANS + 4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ing                             Refer to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. 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ccess Authorization Co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o register                       TRANS + 4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o change                       TRANS + 4 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locking outside call       TRANS + 4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estoring outside call     TRANS + 4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625840" y="3252960"/>
            <a:ext cx="253044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-selected Message     TRANS + 7 7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ackground Music           TRANS + 7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ntercom Hold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TRANS + 8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iversal Night Answer    6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oop button                      TRANS/PGM + 8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peed Dial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Outside Line Access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oup access                  9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oup #1                         8 0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oup #2                         8 0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:                                    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oup #48                       8 4 8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Available up to Group #24 for GDK-1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ndividual Line Access     8 8 +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Line 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62 : 01~9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00 : 01~4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FPII: 01~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Button Assignment for GSX/E, GK-8 but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PEED                              TRANS + 9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NF                                TRANS + 9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ALLBK                            TRANS + 9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ND/FOR                          TRANS + 9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LASH                               TRANS + 9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UTE                                TRANS + 9 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                                  TRANS + 9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809880" y="5784840"/>
            <a:ext cx="0" cy="882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601560" y="1415880"/>
            <a:ext cx="311400" cy="13032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625320" y="1757520"/>
            <a:ext cx="262080" cy="20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25360" y="1211400"/>
            <a:ext cx="0" cy="1036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3600" y="10508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74920" y="10508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89480" y="104616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26040" y="1211400"/>
            <a:ext cx="0" cy="10364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2114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32920" y="1260360"/>
            <a:ext cx="29332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ial intercom number or press programmed DSS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You will hear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- Ring back tone in TN (Tone) mode. Wait for called s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to answer the ring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- 3 bursts of tone in HF(Handsfree) or PV(Privacy) mod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Begin your announcement after the ton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251928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Answering an Intercom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25360" y="2906640"/>
            <a:ext cx="0" cy="1036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3600" y="27464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74920" y="27464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26040" y="2906640"/>
            <a:ext cx="0" cy="10368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29066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33640" y="2955960"/>
            <a:ext cx="310212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With your intercom answer mode setting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- in TN mode, hear intercom ring. Lift handse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- in PV mode, hear 3 bursts of tone and one-way announce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ment. Lift handset to tal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- in HF mode, hear 3 bursts of tone and announcement. Rep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handsfree or lift handset for privac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89480" y="275112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419580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Placing a CO Call on Ho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25360" y="4583160"/>
            <a:ext cx="0" cy="17794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3600" y="44226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74920" y="44226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45831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33640" y="4632480"/>
            <a:ext cx="289368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- Twice for exclusive ho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- Once for system ho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everse if hold preference is programmed to system hol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retrieve the call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ft handset and press flashing outside line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89480" y="441180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3520" y="792000"/>
            <a:ext cx="1654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Placing an Intercom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2520" y="5607000"/>
            <a:ext cx="175716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On GSX/E 8 BTN, GK-8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30040" y="5788080"/>
            <a:ext cx="1835280" cy="3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retrieve the call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8 # # or press 8 # +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line no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06600" y="5824440"/>
            <a:ext cx="668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62 : 01 ~ 9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00 : 01 ~ 4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FPII : 01 ~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580392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26040" y="4583160"/>
            <a:ext cx="0" cy="17794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25320" y="4653000"/>
            <a:ext cx="26352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95280" y="1533600"/>
            <a:ext cx="2438640" cy="228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3160" y="792000"/>
            <a:ext cx="1929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Placing an Intercom on Hol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25360" y="1193760"/>
            <a:ext cx="0" cy="15112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26040" y="1193760"/>
            <a:ext cx="0" cy="15112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52360" y="1235160"/>
            <a:ext cx="2957760" cy="14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The GSX/E keyset should be programmed a flex. butt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as an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ICM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To program an ICM button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TRANS + Flex. button + TRANS + 8 3 + HO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While on an intercom call, press programmed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ICM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or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HOLD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The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ICM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flashes and you will hear intercom dial to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ko-KR" sz="900" spc="-1" strike="noStrike">
                <a:solidFill>
                  <a:srgbClr val="000000"/>
                </a:solidFill>
                <a:latin typeface="Arial"/>
                <a:ea typeface="돋움"/>
              </a:rPr>
              <a:t>To retrieve intercom call on hold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Press the flashing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ICM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and lift handse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287496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Call Trans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25360" y="3262320"/>
            <a:ext cx="0" cy="21477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3600" y="31021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74920" y="310212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26040" y="3262320"/>
            <a:ext cx="0" cy="21477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32623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51280" y="3300480"/>
            <a:ext cx="309024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While connected to an outside call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 (The outside call is put on hold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station numbe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or appropriate DSS butt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t this point, you can make a screened or unscreened transf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When the called extension answers, announce transfer an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ang up to complete call transf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While the station you called rings, hang up to complete cal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f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answer screened transfer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Your station is signaled according to Intercom Answer Mo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lecti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nswer the intercom c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he transferring party hangs up, the call will be connect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89480" y="309096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06960" y="3576600"/>
            <a:ext cx="7171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STA No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62 : 100~29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00 : 100~23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FPII: 100~17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0280" y="3919680"/>
            <a:ext cx="649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creene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f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0280" y="4268880"/>
            <a:ext cx="76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creene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f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5618160"/>
            <a:ext cx="44989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Voice 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3600" y="624528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74920" y="624528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64054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8760" y="6454800"/>
            <a:ext cx="309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When a busy keyset engaged in an internal or external call i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called through camp-on by a caller,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HOLD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of bus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keyset is flash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After tone, the busy keyset will be connected to both parti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HOLD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button in busy keyset to converse with new call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HOLD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in busy keyset again to alternate the c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89480" y="623412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25360" y="6405480"/>
            <a:ext cx="0" cy="10177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26040" y="6413400"/>
            <a:ext cx="0" cy="10098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1000" y="5835600"/>
            <a:ext cx="4382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his feature provides voice announcement to a busy station without interrupting the exist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nversation.  The announcement is received over the existing conversation so that only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sy station hears both incoming parti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3600" y="10350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74920" y="10350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81560" y="1036800"/>
            <a:ext cx="7700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2016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25320" y="1909800"/>
            <a:ext cx="262080" cy="208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01560" y="3473280"/>
            <a:ext cx="311400" cy="130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25320" y="6559560"/>
            <a:ext cx="26208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19320" y="5637240"/>
            <a:ext cx="2286000" cy="228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31920" y="1776240"/>
            <a:ext cx="2286000" cy="228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2440" y="792000"/>
            <a:ext cx="1373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ast Number Red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25360" y="1193760"/>
            <a:ext cx="0" cy="12445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26040" y="1193760"/>
            <a:ext cx="0" cy="12445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8040" y="1235160"/>
            <a:ext cx="2986920" cy="10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he last dialed number on an outside line is sa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o redial the number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EDIA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 (in GK-24/36 or if it is programmed i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SX/E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o program a REDIAL button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 + Flex. button + TRANS + 8 8 + HOL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Or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+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*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274320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Save Number Red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25360" y="3130560"/>
            <a:ext cx="0" cy="12715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3600" y="29703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74920" y="297036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89480" y="296532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26040" y="3130560"/>
            <a:ext cx="0" cy="12715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31305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55600" y="3179880"/>
            <a:ext cx="292248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f you wish to save a number you dialed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fter dialing the number of an outside party,  keep hands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off-hoo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twi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ang u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dial a saved number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+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#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3600" y="10447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74920" y="104472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89480" y="103968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12016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472428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Dial  Me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25360" y="5416560"/>
            <a:ext cx="0" cy="17287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3600" y="52563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74920" y="525636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89480" y="525132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26040" y="5416560"/>
            <a:ext cx="0" cy="17287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54165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52360" y="5465880"/>
            <a:ext cx="2735280" cy="15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Press the programmed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IAL MEMO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To program a DIAL MEMO button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TRANS + Flex. button + TRANS + 8 0 + HOL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ial the desired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IAL MEMO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again to sav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ko-KR" sz="900" spc="-1" strike="noStrike">
                <a:solidFill>
                  <a:srgbClr val="000000"/>
                </a:solidFill>
                <a:latin typeface="Arial"/>
                <a:ea typeface="돋움"/>
              </a:rPr>
              <a:t>To dial the dial memo number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SPEED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+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#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ko-KR" sz="900" spc="-1" strike="noStrike">
                <a:solidFill>
                  <a:srgbClr val="000000"/>
                </a:solidFill>
                <a:latin typeface="Arial"/>
                <a:ea typeface="돋움"/>
              </a:rPr>
              <a:t>To check the dial memo number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In idle state, 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IAL MEMO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The saved number is displayed. (in only display phon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5040" y="4950000"/>
            <a:ext cx="4583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While on an outside line or intercom call, you may enter and save a number in the save numb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redial bin for future us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01560" y="1525680"/>
            <a:ext cx="311400" cy="110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01560" y="2117880"/>
            <a:ext cx="311400" cy="1238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601560" y="3586320"/>
            <a:ext cx="311400" cy="1238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601560" y="6353280"/>
            <a:ext cx="311400" cy="1238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601560" y="4070520"/>
            <a:ext cx="311400" cy="12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25360" y="1541520"/>
            <a:ext cx="0" cy="1278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3600" y="13809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74920" y="138096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89480" y="137628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26040" y="1541520"/>
            <a:ext cx="0" cy="12780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5415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1590840"/>
            <a:ext cx="320040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REDIAL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The GSX/E keyset should be programmed a flexible butt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as a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REDIAL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Hang u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A busy or no answer number will be redialed automatical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after pre-programmed time interval.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MUTE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and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button ligh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When called party answers, 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MUTE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to convers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9480" y="1042920"/>
            <a:ext cx="389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When a user calls a busy or no answer number on an outside line, the system c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omatically redial the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312408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Mu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25360" y="3716280"/>
            <a:ext cx="0" cy="8938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3600" y="355608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74920" y="355608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89480" y="355140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26040" y="3716280"/>
            <a:ext cx="0" cy="8938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37162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3765600"/>
            <a:ext cx="31240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UT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 to activat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UT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 again to deactivat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5320" y="3354480"/>
            <a:ext cx="4287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t provides privacy during speakerphone or handset operation by disabling the micropho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3160" y="792000"/>
            <a:ext cx="1669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Auto Call Number Red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487692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Queu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25360" y="5568840"/>
            <a:ext cx="0" cy="15177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3600" y="54086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74920" y="54086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89480" y="540396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26040" y="5568840"/>
            <a:ext cx="0" cy="15177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55688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43000" y="5618160"/>
            <a:ext cx="3124080" cy="12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ft handset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busy outside line button or specific line group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ing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ALLBK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, your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ALLBK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 lights an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nfirmation tone is hear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ang up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f you have a programmed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ALLB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in 8 button, pr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ALLBK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,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 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ang u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000" y="5095800"/>
            <a:ext cx="4565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You see that a particular line is busy and want to be placed on a list waiting for the first line in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oup to become availabl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50200" y="4222800"/>
            <a:ext cx="229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programmed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UT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 to activat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3240" y="6289560"/>
            <a:ext cx="13752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On GSX/E 8 BTN, GK-8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9560" y="4056120"/>
            <a:ext cx="13752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On GSX/E 8 BTN, GK-8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423864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6485040"/>
            <a:ext cx="373392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01560" y="1654200"/>
            <a:ext cx="311400" cy="1126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01560" y="2470320"/>
            <a:ext cx="311400" cy="122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601560" y="3811680"/>
            <a:ext cx="311400" cy="1220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625320" y="5632560"/>
            <a:ext cx="262080" cy="207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601560" y="5904000"/>
            <a:ext cx="31140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74840" y="798480"/>
            <a:ext cx="1902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Answering a Queue Requ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25360" y="2700360"/>
            <a:ext cx="0" cy="9367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3600" y="25401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74920" y="254016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26040" y="2700360"/>
            <a:ext cx="0" cy="9367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27003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43000" y="2749680"/>
            <a:ext cx="31240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f you are designated as the Executive Station and your ph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s busy or DND (Do Not Disturb), all calls will go to you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cretary Stati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f your are designated as the Secretary Station, you may signa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he Executive Station that is in DND by using Call Wait (Ca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-on) featur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89480" y="252720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390996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Step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25360" y="4603680"/>
            <a:ext cx="0" cy="10749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3600" y="444348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374920" y="444348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89480" y="443880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26040" y="4603680"/>
            <a:ext cx="0" cy="10749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46036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4637160"/>
            <a:ext cx="31240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all desired internal part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fter hearing ICM busy tone, dial the last digit of desire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ntercom party in the same 10’s group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ex. If station “112” is busy, dial digit “4” to call station “114”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t can be used to external call by pressing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PEED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nd the last digi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594360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Group Call Pick-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25360" y="6343560"/>
            <a:ext cx="0" cy="8193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3600" y="61833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74920" y="618336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89480" y="617868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226040" y="6343560"/>
            <a:ext cx="0" cy="8193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63435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6392880"/>
            <a:ext cx="312408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You should be in the same pick-up group as ringing pho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You hear an unattended phone ringing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ft handset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6 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228276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Executive/Secretary Transf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25360" y="1217520"/>
            <a:ext cx="0" cy="7765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3600" y="10573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74920" y="105732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89480" y="105264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226040" y="1217520"/>
            <a:ext cx="0" cy="7765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12175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43000" y="1266840"/>
            <a:ext cx="3124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When the busy outside line button or specific line group but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eturns to idle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You hear ringing and the queued line button flash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ft handset and dial the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627120" y="6613560"/>
            <a:ext cx="260280" cy="208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601560" y="5154480"/>
            <a:ext cx="311400" cy="1238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439200" y="4137120"/>
            <a:ext cx="4363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When an extension is busy, you can make a call to a different station by dialing only the las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git of the new extension number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43160" y="792000"/>
            <a:ext cx="1450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Directed Call Pick-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25360" y="1236600"/>
            <a:ext cx="0" cy="782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3600" y="10764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74920" y="10764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26040" y="1236600"/>
            <a:ext cx="0" cy="7826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12366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43000" y="1285920"/>
            <a:ext cx="3124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You hear intercom or transferred outside line ring at a stati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ft handset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and the ringing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station numbe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You will be connected to the calling part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89480" y="107172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06960" y="1509840"/>
            <a:ext cx="717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62 : 100~29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00 : 100~23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FPII: 100~17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230364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25360" y="2722680"/>
            <a:ext cx="0" cy="42876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3600" y="25621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374920" y="256212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237200" y="255744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26040" y="2730600"/>
            <a:ext cx="0" cy="42796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" y="27226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43000" y="2759040"/>
            <a:ext cx="3048120" cy="35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establish a conferenc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all desired party (internal or outside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NF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 (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NF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lights and the called par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s put on exclusive hold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all the next party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NF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twice. (once if adding additional parti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nference is establish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add on another party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NF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all the next part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NF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twi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exit a conference (unsupervised)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NF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in the supervisor station and hang up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Other parties are still connect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Re-entering a conferenc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ft handset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NF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drop an outside party,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You should be actively in the conference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outside line of party you wish to dro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ang up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terminate the conferenc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ang up or,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NF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 if unsupervis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40480" y="6524640"/>
            <a:ext cx="2519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o use Conference Feature, you should have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ogrammed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NF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in the flexible butt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9560" y="6345360"/>
            <a:ext cx="13752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On GSX/E 8 BTN, GK-8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653724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25320" y="1376280"/>
            <a:ext cx="262080" cy="2080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601560" y="3041640"/>
            <a:ext cx="311400" cy="1270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625320" y="4971960"/>
            <a:ext cx="262080" cy="2095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601560" y="6141960"/>
            <a:ext cx="31140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42080" y="792000"/>
            <a:ext cx="1388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Call Wait (Camp-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25360" y="1401840"/>
            <a:ext cx="0" cy="7318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43600" y="124128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74920" y="124128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26040" y="1401840"/>
            <a:ext cx="0" cy="7318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4018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43000" y="1450800"/>
            <a:ext cx="3124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fter receiving intercom busy tone, dial “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*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” , last digit of cal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tation number, or press DSS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amp-on tone is heard in called stati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When called party answers, talk or hang up to transfer the c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89480" y="123660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29120" y="1042920"/>
            <a:ext cx="259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f you dial a busy station, you may alert it of your c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233532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Answering a Call Wait with Voice 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25360" y="2735280"/>
            <a:ext cx="0" cy="84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3600" y="257508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374920" y="257508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226040" y="2735280"/>
            <a:ext cx="0" cy="8460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" y="27352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43000" y="2784600"/>
            <a:ext cx="312408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You hear camp-on tone and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is flash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OLD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 to talk with the second caller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he first caller is placed on hold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You will be connected to the first caller when the second call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angs u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389480" y="257004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" y="380988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Call 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25360" y="4438800"/>
            <a:ext cx="0" cy="13032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3600" y="42782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74920" y="42782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226040" y="4438800"/>
            <a:ext cx="0" cy="13032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" y="44467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143000" y="4487760"/>
            <a:ext cx="312408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fter receiving intercom busy tone,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ALLB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fter receiving intercom busy tone,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 + 5 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or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he programmed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ALLB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ang up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When the busy station hangs up, you will be signal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nswer the signal by lifting handset or pressing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he station you called will be signal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89480" y="427356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1360" y="4038480"/>
            <a:ext cx="4359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f you dial a station that is busy, you can leave a callback indicati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9560" y="4676760"/>
            <a:ext cx="13752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On GSX/E 8 BTN, GK-8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487188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625320" y="2862360"/>
            <a:ext cx="262080" cy="2077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601560" y="4530600"/>
            <a:ext cx="311400" cy="1256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625320" y="5327640"/>
            <a:ext cx="262080" cy="2080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125360" y="6383160"/>
            <a:ext cx="0" cy="10605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43600" y="62229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374920" y="622296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226040" y="6383160"/>
            <a:ext cx="0" cy="10605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" y="63831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143000" y="6432480"/>
            <a:ext cx="304812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f the called party does not answer,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ALLB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t that time, CALLBK LED of the called station flash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fter receiving intercom busy tone,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 + 5 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or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he programmed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ALLB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ang up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89480" y="621828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2160" y="6735600"/>
            <a:ext cx="13752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On GSX/E 8 BTN, GK-8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3520" y="6918480"/>
            <a:ext cx="365760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601560" y="6443640"/>
            <a:ext cx="311400" cy="1252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457200" y="599616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Message Wai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125360" y="3408480"/>
            <a:ext cx="0" cy="4059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3600" y="32479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374920" y="324792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226040" y="3408480"/>
            <a:ext cx="0" cy="40590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4084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43000" y="3457440"/>
            <a:ext cx="3124080" cy="40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ft handset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The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light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the call forward type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0 - Follow 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 - Unconditio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 - Busy cal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 - No answer cal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4 - Busy / no answer cal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 - Station off-n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6 - Incoming outside line to off-net (system attendant on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7 - DVU forward - 1 (forwarded after 4 se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 - DVU forward - 2 (forwarded after predefined tim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station numbe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or press DSS button or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intercom grou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where calls are to be recei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In case of Follow-me, dial authorization code after s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umber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nfirmation tone is heard and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is flash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on forwarded stati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ang u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- In case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ollow-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, it should be programmed from the st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hat you will be forwarded to i.e. if your extension is 102 and you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re forwarding to 104, then you will need to go to 104 t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ogram the feature. Also, this feature requires authoriz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de and requires system programm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- In case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tation Off-ne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, the number you are forwarding t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hould be saved as a speed dial number firs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f EDVU/DVIB is installed, System Greeting 20 will be heard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tation off-net call forward will be activat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- In case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ncoming outside line to Off-ne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, it requires system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ogramm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89480" y="324324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25360" y="1204920"/>
            <a:ext cx="0" cy="15382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3600" y="10447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74920" y="104472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226040" y="1204920"/>
            <a:ext cx="0" cy="15382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12049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143000" y="1254240"/>
            <a:ext cx="3048120" cy="14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answer a message waiting indication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flashing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ALLB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tation that left message will be signaled with tone r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he MSG lamp and/or the programmed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ALLB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wi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lash when a message wait indication has been left for you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ft handse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 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or press the programmed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ALLB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tation that left message will be signaled with tone r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389480" y="103968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42080" y="792000"/>
            <a:ext cx="1606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Message Waiting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Cont’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" y="300816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Call Forw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03720" y="4483080"/>
            <a:ext cx="738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ta. No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62 : 100~29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00 : 100~23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FPII: 100~17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07320" y="4954680"/>
            <a:ext cx="7326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INT. Gro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62 : 620~64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00 : 620~6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FPII : 620~6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2160" y="1676520"/>
            <a:ext cx="13752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On GSX/E 8 BTN, GK-8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3520" y="1882800"/>
            <a:ext cx="365760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01560" y="1398600"/>
            <a:ext cx="311400" cy="125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12720" y="3465360"/>
            <a:ext cx="262080" cy="2098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01560" y="3733920"/>
            <a:ext cx="311400" cy="12528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4"/>
          <a:stretch/>
        </p:blipFill>
        <p:spPr>
          <a:xfrm>
            <a:off x="601560" y="5560920"/>
            <a:ext cx="311400" cy="1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8T08:39:32Z</dcterms:created>
  <dc:creator>USER</dc:creator>
  <dc:description/>
  <dc:language>en-US</dc:language>
  <cp:lastModifiedBy>장재진</cp:lastModifiedBy>
  <cp:lastPrinted>1999-08-16T01:51:14Z</cp:lastPrinted>
  <dcterms:modified xsi:type="dcterms:W3CDTF">2000-02-16T00:46:58Z</dcterms:modified>
  <cp:revision>130</cp:revision>
  <dc:subject/>
  <dc:title>슬라이드 제목 없음</dc:title>
</cp:coreProperties>
</file>