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5335588" cy="8002588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/ ATTENDANT OPERATION                                                      in GDK SYST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1560" y="76960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48B58C-9575-423D-85E2-00601D56567F}" type="slidenum">
              <a:rPr b="0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1360" y="792000"/>
            <a:ext cx="97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Wake-up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1239840"/>
            <a:ext cx="38862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register wake-up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4 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 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ligh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range (6 digits). In case of one station, dial the station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fter hearing confirmation tone, enter 4-digit wake-up time (HHmm) 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24-hour mode. (HH= 00~23, mm= 0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for ‘one-day’ or 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#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and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for ‘until canceled’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5360" y="1200240"/>
            <a:ext cx="0" cy="2076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3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0352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343240"/>
            <a:ext cx="3110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ancel wake-up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(Confirmation tone is heard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ligh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range to be cancell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ill be extinguishe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9800" y="3581280"/>
            <a:ext cx="443700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ttendant Intr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9440" y="3973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4165560"/>
            <a:ext cx="0" cy="189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76520" y="39765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6240" y="4175280"/>
            <a:ext cx="364176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ssign a flexible as an Intrusion butt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desired button to be registe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ctivate attendant intrus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DS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corresponding to the busy station you wish to call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Busy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ATD INTRUSION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Intrusion warning tone is heard in the busy station, then a 3-way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erence is set up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9560" y="3807000"/>
            <a:ext cx="364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endant may intrude into any station which is in conversation with CO lin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59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560" y="141444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5320" y="20620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1560" y="433080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25320" y="4768920"/>
            <a:ext cx="262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1360" y="792000"/>
            <a:ext cx="1460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 Outgoing Di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9440" y="1036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25360" y="119700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520" y="1039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58840" y="1233360"/>
            <a:ext cx="36417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disable outgoing calls a CO lin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*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desired outside line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hearing confirmation tone, selected outside line button is disab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peat the process to enable the CO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00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560" y="1376280"/>
            <a:ext cx="311400" cy="130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9800" y="4800600"/>
            <a:ext cx="44704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hanging Time/Date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9440" y="5037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5360" y="5197320"/>
            <a:ext cx="0" cy="1668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76520" y="5040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58840" y="5241960"/>
            <a:ext cx="36417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hange the date format on the LC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format toggles between DDMMYY and MMDDY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8840" y="6004080"/>
            <a:ext cx="36417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hange the time format on the LC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format toggles between 12-hour mode and 24-hour m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203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560" y="538812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1560" y="6149880"/>
            <a:ext cx="311400" cy="130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26040" y="3027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95320" y="30290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560" y="2813040"/>
            <a:ext cx="437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attendant to set the Time/Date without entering Admin Programm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3203640"/>
            <a:ext cx="3646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 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Date + Time. Enter as YYMMDDHHm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YY= Year 00~99, MM= Month 01~12, DD= Date 01~31, HH= Hour 00~23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mm= minute 0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If there is no need to change date or time, press *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YYMMDD + * or * + HH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8200" y="3200400"/>
            <a:ext cx="441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4840" y="2590920"/>
            <a:ext cx="4470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Clock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27160" y="3200400"/>
            <a:ext cx="0" cy="129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09480" y="324648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25320" y="4059360"/>
            <a:ext cx="262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9440" y="2741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6520" y="27446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58840" y="289548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For station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desired station rang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ccumulated SMDR records will be printed out through the printer 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KS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5360" y="2908440"/>
            <a:ext cx="0" cy="1815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733920"/>
            <a:ext cx="3809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For account group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desired account group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Accumulated SMDR records will be printed out through the printer connect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the KSU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800" y="4995720"/>
            <a:ext cx="44704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o Erase SMDR 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9440" y="5224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6520" y="52275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50920" y="537228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For station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desired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SMDR records will be erased for all stations in the range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25360" y="5391000"/>
            <a:ext cx="0" cy="2076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50920" y="604188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For call account group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desired account gro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SMDR records will be erased for all stations in the range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50920" y="6727680"/>
            <a:ext cx="3794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display call charg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901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384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25320" y="3257640"/>
            <a:ext cx="263520" cy="20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5320" y="4114800"/>
            <a:ext cx="263520" cy="208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25320" y="5867280"/>
            <a:ext cx="263520" cy="208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25320" y="6545160"/>
            <a:ext cx="263520" cy="20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25320" y="7086600"/>
            <a:ext cx="263520" cy="208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5120" y="2514600"/>
            <a:ext cx="44704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o Print out Accumulated SMDR 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800" y="790560"/>
            <a:ext cx="146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ustomized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9440" y="1030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76520" y="10335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8840" y="1258920"/>
            <a:ext cx="36417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* 7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number of the desired message (11~2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desired message using the co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Refer to P.43 English Character 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5360" y="1197000"/>
            <a:ext cx="0" cy="1012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197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601560" y="128124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625320" y="184932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43520" y="792000"/>
            <a:ext cx="164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Temporary COS 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508040"/>
            <a:ext cx="2971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activate temporary COS chang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# 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25360" y="1467000"/>
            <a:ext cx="0" cy="1581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600" y="1301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3520" y="3825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468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000" y="1042920"/>
            <a:ext cx="465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 station user can change the class of service to lower class temporarily to prevent unauthoriz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se of the station by others. (5-digit authorization code must be set at the station to be locked firs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193840"/>
            <a:ext cx="2971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remove temporary COS chang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# 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008600"/>
            <a:ext cx="3733920" cy="33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# 4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or DVU, dial 0 1 for announcement 1, dial 0 2 for announcement 2, or 0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or announcement 3. (Announcement 3 is played back when the called par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s bus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or EDVU, you have 31 (01~31) system greeting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~9 : for Hunt or company information with DI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 : for Invalid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1 : for Timeout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2 : for Try again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 : for Transfer to attendant messag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 : for Leave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5 : for Record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6 : for Enter authorization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7 : for MOH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 : for Busy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 : Station Off-net Call Forward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#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key (to record with DKTU) or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key (to record with external MO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fter hearing the me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cord your greeting and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o finish the record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delet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# 4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system greeting number (01~31) and the message is he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hile the message is heard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irmation tone is heard and the message is dele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25360" y="1504800"/>
            <a:ext cx="0" cy="1543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600" y="3819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03520" y="1301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986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4680" y="3506760"/>
            <a:ext cx="427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t provides announcements for Hunt service (UCD/Circular/Terminal) or DISA and only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ystem attendant can record this messag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5360" y="3984480"/>
            <a:ext cx="0" cy="3407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800" y="3305160"/>
            <a:ext cx="44704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ystem Gr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560" y="167652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5320" y="198612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1560" y="404640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25320" y="62690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01560" y="7056360"/>
            <a:ext cx="311400" cy="125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09480" y="6689880"/>
            <a:ext cx="31140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3160" y="79200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raffic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9440" y="2514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6520" y="2517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8840" y="2743200"/>
            <a:ext cx="3641760" cy="24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start the traffic analysis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stop the traffic analysis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print the result of traffic analysis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bort printing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 7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25360" y="2681280"/>
            <a:ext cx="0" cy="2652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11240"/>
            <a:ext cx="4494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system will monitor the system and record various traffic data which can be printed up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quest. The information can be used to determine whether the circuits installed in the system are adequat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enabled, it will continue to monitor the traffic until disabled. The traffic data is collected and  sent to the RS-232C port upon request. The collected traffic data contains two types of traffic data. The first type is peg counts which give an actual count of the number of times a particular operation has occurred. Peg counts are given in absolute values from 00000 to 99999. The second type of data is usage times which give the average percent occupancy of a device, I.e., stations, CO lines, DTMF receivers, etc. Usage times are given in seconds from 00000 to 99999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unts and times are cumulative from the time the monitoring is activated, and are reset by initiating the start up procedure agai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595920"/>
            <a:ext cx="38862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ctivate/deactivate Day/On-demand/Night mode manu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t attendant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n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s flashing. (The system is placed in On-demand mod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once more, the system is placed in Night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-demand mode is not activated automatical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3600" y="6397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03520" y="64008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6572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080" y="5856120"/>
            <a:ext cx="454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attendant station can be placed into night service mode allowing ring assignments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swering privileges to stations not having the privileges in the day mode. Or, can be placed i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-demand service mode allowing ring assignments and answering privileges to station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ving the privileges in the night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25360" y="6570720"/>
            <a:ext cx="0" cy="941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9800" y="5607000"/>
            <a:ext cx="44704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ay/On-demand/Night Mode Service (Manual/Automati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687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1560" y="289728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25320" y="310680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01560" y="6751800"/>
            <a:ext cx="311400" cy="12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59440" y="2971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76520" y="29750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58840" y="320040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peed number b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5360" y="3138480"/>
            <a:ext cx="0" cy="635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9560" y="2674800"/>
            <a:ext cx="445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 group of speed dial numbers can be stored within the system for access by allowed st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se numbers provide speedy access to often used outgoing CO dialing number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72560" y="3317760"/>
            <a:ext cx="969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GDK-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 200~2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9800" y="4038480"/>
            <a:ext cx="44704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Intercom Box BGM Selection by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9440" y="4462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6520" y="44658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58840" y="467532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set ICM box music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music channel (0,1,2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5360" y="4629240"/>
            <a:ext cx="0" cy="952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0640" y="4287960"/>
            <a:ext cx="321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attendant can select the music channel source to an ICM box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3680" y="58053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Erasing Station Mess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9440" y="63309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6334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6497640"/>
            <a:ext cx="0" cy="1028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720" y="6060960"/>
            <a:ext cx="454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 attendant can cancel the features , DND CALL FORWARD and preselected message ac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t other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38680" y="6545160"/>
            <a:ext cx="377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flashes and th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lights steadil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station range to be cance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firmation tone is heard and the station goes to idle status automaticall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3132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629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497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560" y="322416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1560" y="484992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25320" y="516744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1560" y="657540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25320" y="7016760"/>
            <a:ext cx="262080" cy="20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66560" y="2449440"/>
            <a:ext cx="44704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160" y="792000"/>
            <a:ext cx="396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Day/On-demand/Night Mode Service (Manual/Automatic)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1219320"/>
            <a:ext cx="3809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change Day/Night mode automatic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# 9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nter DAY TIME + NIGHT TIME, or DAY TIME + * or NIGHT TIME + *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Enter as HHmm (HH= hour 00~23, mm= minute 0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440" y="1050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76520" y="10540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25360" y="1217520"/>
            <a:ext cx="0" cy="992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609480" y="137160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633240" y="183348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7480" y="792000"/>
            <a:ext cx="408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ttendant DSS Operation /Placing an Intercom Call from the 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0352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58840" y="1241280"/>
            <a:ext cx="38098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ligh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desired DSS station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LEAS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key to terminate the cal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25360" y="1200240"/>
            <a:ext cx="0" cy="66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9800" y="2152800"/>
            <a:ext cx="44848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Making a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9440" y="2384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76520" y="2387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58840" y="261288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ak in normal voice tone to deliver messag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2550960"/>
            <a:ext cx="0" cy="800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9800" y="3645000"/>
            <a:ext cx="44989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ransferring an Outside Line to Another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9440" y="3878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76520" y="3881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58840" y="410688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connecting an outside line, press the desired DSS station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can wait to announce the transfer 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5360" y="4044960"/>
            <a:ext cx="0" cy="679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9800" y="5016600"/>
            <a:ext cx="449280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Intercom Group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440" y="5257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6520" y="52610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418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58840" y="548640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programmed INTERCOM GROUP CALL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call is connected to an idle station in the gro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5360" y="5424480"/>
            <a:ext cx="0" cy="679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6375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verriding a Key Telephone in Do Not Distu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9440" y="65991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76520" y="6602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682776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DSS button of the station to be overridden. (DND tone or busy tone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eard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VERRID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25360" y="6765840"/>
            <a:ext cx="0" cy="717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546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052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759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16960" y="792000"/>
            <a:ext cx="51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520" y="1119240"/>
            <a:ext cx="24476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Call Wait with Voice Over 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Intercom Call 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Outside Call 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Queue Request 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 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 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s 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Back ............................................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Forward .......................................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Park 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Transfer 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Wait 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Intercom Answer Mode .......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 .........................................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al Memo ..........................................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rected Call Pick-up ..........................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o Not Disturb ....................................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Executive/Secretary Transfer .............................…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lash ...................................................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Group Call Pick-up .............................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 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 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ute ................................................................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aging .............................................................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 CO Call on Hold ...............................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..................................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Group Call 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on Hold .............................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 .....................................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-selected Message 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gramming Your Name into Display ...............…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1760" y="1119240"/>
            <a:ext cx="252396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Queuing 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s 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 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akerphone 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 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ep Call 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 ................................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ice Announcement 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ice Over .....................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 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Attendant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Clock Set 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DSS Operation 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Intrusion 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Time/Date Format 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 Outgoing Disable 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ustomized Message .....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ay/On-demand/Night Mode Service 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rasing Station Message 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Box BGM Selection by Attendant 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Greetings ..............................................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 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emporary COS Change 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Erase SMDR Record 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Print out Accumulated SMDR Records 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raffic Analysis ...............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 ...............................................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7:37:16Z</dcterms:created>
  <dc:creator>USER</dc:creator>
  <dc:description/>
  <dc:language>en-US</dc:language>
  <cp:lastModifiedBy>장재진</cp:lastModifiedBy>
  <cp:lastPrinted>2000-02-16T01:19:26Z</cp:lastPrinted>
  <dcterms:modified xsi:type="dcterms:W3CDTF">2000-02-16T01:19:28Z</dcterms:modified>
  <cp:revision>51</cp:revision>
  <dc:subject/>
  <dc:title>슬라이드 제목 없음</dc:title>
</cp:coreProperties>
</file>