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5335588" cy="8002588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66760" y="429660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272700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8903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5139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667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18903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35139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66760" y="1872360"/>
            <a:ext cx="4801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4801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66760" y="318960"/>
            <a:ext cx="4801320" cy="61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72700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66840" y="619200"/>
            <a:ext cx="4738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700" spc="-1" strike="noStrike">
                <a:solidFill>
                  <a:srgbClr val="969696"/>
                </a:solidFill>
                <a:latin typeface="Arial"/>
                <a:ea typeface="돋움"/>
              </a:rPr>
              <a:t>●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ANALOG KEY TELEPHONE / ATTENDANT OPERATION                                                GSX/E, GK SERI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800280"/>
            <a:ext cx="4495680" cy="237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311560" y="7696080"/>
            <a:ext cx="7077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1153E79-2B7A-40EA-880E-AF55E959ACEE}" type="slidenum">
              <a:rPr b="0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docx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443160" y="792000"/>
            <a:ext cx="1014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Wake-up Cal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143000" y="1239840"/>
            <a:ext cx="3809880" cy="9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ko-KR" sz="900" spc="-1" strike="noStrike">
                <a:solidFill>
                  <a:srgbClr val="000000"/>
                </a:solidFill>
                <a:latin typeface="Arial"/>
                <a:ea typeface="돋움"/>
              </a:rPr>
              <a:t>To register wake-up call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Dial 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7 3 1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(effective until canceled) or 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7 3 2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(effective for one day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Dial the station range (6 digits). In case of one station, dial the station numb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twic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After hearing confirmation tone, enter 4-digit wake-up time (HHmm) i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24-hour mode. (HH= 00~23, mm= 00~59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MON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125360" y="1200240"/>
            <a:ext cx="0" cy="19620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43600" y="103500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603520" y="103500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2016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2230560"/>
            <a:ext cx="350532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To cancel wake-up call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7 3 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 (Confirmation tone is heard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the station range to be canceled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 (Confirmation tone is heard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63680" y="3454560"/>
            <a:ext cx="44830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Attendant Overri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59440" y="388476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25360" y="4044960"/>
            <a:ext cx="0" cy="7174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76520" y="388764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58840" y="4113360"/>
            <a:ext cx="3641760" cy="4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fter receiving DND tone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Wait for the station to answ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33080" y="3710160"/>
            <a:ext cx="2589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ttendant may override stations using DND function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0384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63680" y="5054760"/>
            <a:ext cx="44830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Disable CO Line Acc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59440" y="533232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25360" y="5492880"/>
            <a:ext cx="0" cy="7938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76520" y="533556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58840" y="5560920"/>
            <a:ext cx="37940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7 4 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. (Confirmation tone is heard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CO button(s) to disabl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he CO line button being blocked at attendant station is blinking stead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ny station is disable to access CO line being block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548640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25320" y="1986120"/>
            <a:ext cx="262080" cy="2095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25320" y="2595600"/>
            <a:ext cx="262080" cy="2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43880" y="792000"/>
            <a:ext cx="2091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Creating Customized Messa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59440" y="103680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25360" y="1197000"/>
            <a:ext cx="0" cy="23083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76520" y="103968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58840" y="1265400"/>
            <a:ext cx="3641760" cy="22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7 3 7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. (Confirmation tone is heard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custom message bin number. (11~20) (Confirmation tone is heard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reate message using the codes shown below in dial keypa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It is limited to 24 characters including space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 (Confirmation tone is heard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eplace handset or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3680" y="3692520"/>
            <a:ext cx="44830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Setting Time/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9440" y="397044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25360" y="4130640"/>
            <a:ext cx="0" cy="8701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76520" y="397368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58840" y="4199040"/>
            <a:ext cx="364176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Dial 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7 3 9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. (Confirmation tone is heard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Dial 10 digits data for YYMMDDHHmm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YY(Year) = 90~99, MM(Month) = 01~12, DD(date) = 01~31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HH(Hour) = 00~23, mm(minute) = 00~59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You will hear confirmation tone and see the updated time/date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41371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20024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3680" y="5165640"/>
            <a:ext cx="44830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Erasing Passwo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59440" y="559584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25360" y="5756400"/>
            <a:ext cx="0" cy="7808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76520" y="559908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58840" y="5824440"/>
            <a:ext cx="36417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7 3 4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 (Confirmation tone is heard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the station range in 6 digits to be erased. (Confirmation tone is heard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 (Confirmation tone is heard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57625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2440" y="5421240"/>
            <a:ext cx="3495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 forgotten password can be erased at the system attendant station onl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9440" y="696276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76520" y="696600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25360" y="7129440"/>
            <a:ext cx="0" cy="4064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7139160"/>
            <a:ext cx="3657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ND/FO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 in attendant station to activate or deactivate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712296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3680" y="6705720"/>
            <a:ext cx="4483080" cy="241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41360" y="6694560"/>
            <a:ext cx="1050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Night Trans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25320" y="3068640"/>
            <a:ext cx="262080" cy="208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25320" y="6046920"/>
            <a:ext cx="262080" cy="207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01560" y="7232760"/>
            <a:ext cx="311400" cy="125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914400" y="1827360"/>
          <a:ext cx="2819520" cy="14032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14400" y="1827360"/>
                    <a:ext cx="2819520" cy="14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59440" y="132552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76520" y="132876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58840" y="1554120"/>
            <a:ext cx="37940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7 4 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and your own 4-digit password. (Confirmation tone is heard.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N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25360" y="1492200"/>
            <a:ext cx="0" cy="25844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58840" y="1878120"/>
            <a:ext cx="379404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To bar outside calls by password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7 4 7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.  (Confirmation tone is heard and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UT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utton will flash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N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Your station is allowed to dial internal calls only. If your password is no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egistered, this feature is not available on the station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14860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5880" y="1042920"/>
            <a:ext cx="4519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To prevent unauthorized outside calls on your station by others, the system provides users wi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means to lock/unlock their stations by passwor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58840" y="2602080"/>
            <a:ext cx="379404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To unbar outside calls by password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7 4 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and your password.  (Confirmation tone is heard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N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f your password is not registered, this feature is not available on the station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58840" y="3179880"/>
            <a:ext cx="37940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To change password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7 4 5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and your current password.  (Confirmation tone is heard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f matched, you’ll hear confirmation tone, then dial your new password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4 digits : 0000~9999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N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f your password is not registered, this feature is not available on the station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5037120"/>
            <a:ext cx="373392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 twice.  (Or press SPEED button and desired CO 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utton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speed bin number (20~99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the phone number to be stor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PEED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25360" y="4995720"/>
            <a:ext cx="0" cy="5335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3600" y="483084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49975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6240" y="4548240"/>
            <a:ext cx="4467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 group of number can be stored in the system for access by allowed stations. These numb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re provided access to often used outgoing CO dialing number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25360" y="5243400"/>
            <a:ext cx="0" cy="5907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03520" y="483084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3680" y="4267080"/>
            <a:ext cx="44830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System Speed D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4960" y="792000"/>
            <a:ext cx="1991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To Register Access Passwo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92360" y="659304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43000" y="6789600"/>
            <a:ext cx="38862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7 3 7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  (Confirmation tone is heard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Enter custom message bin number (10-20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Enter the message. (Up to 24 letters using codes in “Programming Your Name”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3600" y="659124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67579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8760" y="6313320"/>
            <a:ext cx="4542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ttendant may program a custom message to be displayed on the LCD of the phone calling you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tati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25360" y="6750000"/>
            <a:ext cx="0" cy="6415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3680" y="6083280"/>
            <a:ext cx="4483080" cy="241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1720" y="6073920"/>
            <a:ext cx="2399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User Custom Message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25320" y="1681200"/>
            <a:ext cx="262080" cy="2080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01560" y="5081760"/>
            <a:ext cx="311400" cy="1234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625320" y="7093080"/>
            <a:ext cx="262080" cy="20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17680" y="792000"/>
            <a:ext cx="515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Ind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34880" y="1119240"/>
            <a:ext cx="2448000" cy="54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Access Authorization Code....................................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Answering a Call Wait ...........................................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1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Answering an Intercom Call ...................................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Answering an Outside Call .....................................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Answering a Queue Request ................................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1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Auto Call Number Redial ......................................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1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Automatic Selection ...............................................2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ackground Music ................................................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2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locking Outside Calls ..........................................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Call Back ..............................................................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1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Call Forward .........................................................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Call Park ...............................................................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1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Call Transfer .........................................................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1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Call Wait ...........................................................….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1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Changing Intercom Signaling ..........................…...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2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Conference ...........................................................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1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Dial Memo ............................................................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1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Directed Call Pick-up ............................................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1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Do Not Disturb ......................................................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1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Executive/Secretary Transfer ................................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1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Flash ......................................................................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Group Call Pick-up .........................................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...... 1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Hot Line ..............................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..................................2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Intercom Transfer .............................................….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2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Last Number Redial ..............................................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1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Message Waiting ...................................................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1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Mute ......................................................................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1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01800" y="1119240"/>
            <a:ext cx="2524320" cy="45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Paging ..............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2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Placing a CO Call on Hold 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Placing an Intercom Call 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Placing an Intercom Call on Hold 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2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Placing an Outside Call 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Pre-selected Message 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2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Programming Your Name into Display 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2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Queuing ............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1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Restoring Outside Calls 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Save Number Redial 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1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Speakerphone ..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Station Speed Dial 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1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3-minute Warning 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2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Volume Control .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2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Wake-up ...........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2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Attendant Ope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Attendant Override 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2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Creating Customized Message 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2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Disable CO Line Access 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2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Erasing Station Password 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2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Night Transfer ..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2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Setting Time/Date 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2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System Speed Dial 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2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To Register Access Password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2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User Custom Message Programming 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2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Wake-up Call ....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2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2T07:37:16Z</dcterms:created>
  <dc:creator>USER</dc:creator>
  <dc:description/>
  <dc:language>en-US</dc:language>
  <cp:lastModifiedBy>장재진</cp:lastModifiedBy>
  <cp:lastPrinted>2000-02-16T00:33:56Z</cp:lastPrinted>
  <dcterms:modified xsi:type="dcterms:W3CDTF">2000-02-16T01:17:52Z</dcterms:modified>
  <cp:revision>44</cp:revision>
  <dc:subject/>
  <dc:title>슬라이드 제목 없음</dc:title>
</cp:coreProperties>
</file>