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5335588" cy="8002588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723960"/>
            <a:ext cx="449604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319480" y="770112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79A22B-563F-48CB-B922-DEC9725DD811}" type="slidenum">
              <a:rPr b="0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26240" y="522360"/>
            <a:ext cx="4523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700" spc="-1" strike="noStrike">
                <a:solidFill>
                  <a:srgbClr val="969696"/>
                </a:solidFill>
                <a:latin typeface="Arial"/>
                <a:ea typeface="돋움"/>
              </a:rPr>
              <a:t>●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NALOG KEY TELEPHONE  FAMILY                                                                              GSX/E, GK S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43520" y="716040"/>
            <a:ext cx="198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Analog Key Telephone Fami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74400" y="2706840"/>
            <a:ext cx="436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3-Button Enhanc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33-Button Executive              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DSS/DLS Conso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74400" y="1049400"/>
            <a:ext cx="445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GSX/E Key Telephone Fami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- Butt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21- Button Enhanced            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21- Button Execu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920" y="5862600"/>
            <a:ext cx="4503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K-36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GK-36S                              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DSS-DLS Conso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5120" y="4167360"/>
            <a:ext cx="2966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GK Key Telephone Fami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K-24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GK-24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38480" y="722160"/>
            <a:ext cx="3458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Button Arrangement for Analog Key Telephone Fami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6520" y="1042920"/>
            <a:ext cx="160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GSX/E Key Telephone Fami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720" y="1411200"/>
            <a:ext cx="4180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SX/E-8 Butt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GSX/E-21 Button              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GSX/E-33 Butt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7480" y="4014720"/>
            <a:ext cx="4070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GK Key Telephone Fami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K-8(E/S)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GK-24(E/S)                          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GK-36(E/S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4T06:31:22Z</dcterms:created>
  <dc:creator>USER</dc:creator>
  <dc:description/>
  <dc:language>en-US</dc:language>
  <cp:lastModifiedBy>장재진</cp:lastModifiedBy>
  <cp:lastPrinted>2000-02-16T00:32:24Z</cp:lastPrinted>
  <dcterms:modified xsi:type="dcterms:W3CDTF">2000-02-16T01:18:42Z</dcterms:modified>
  <cp:revision>15</cp:revision>
  <dc:subject/>
  <dc:title>슬라이드 제목 없음</dc:title>
</cp:coreProperties>
</file>