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ALOG KEY TELEPHONE / OWNER’S MANUAL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GSX/E, GK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27400" y="76960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570D46-B17C-4CD2-BE4C-99D7D628B7F0}" type="slidenum">
              <a:rPr b="0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43000" y="1239840"/>
            <a:ext cx="3110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outside line button, pool button or 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CO line acc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co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lift handset or us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aker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1080" y="804960"/>
            <a:ext cx="1559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3720" y="1252440"/>
            <a:ext cx="74916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08A : 1~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616/36/46 :1~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r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dividual CO line button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616: 01-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449892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220920"/>
            <a:ext cx="0" cy="779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3600" y="3054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4920" y="3054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6760" y="3056040"/>
            <a:ext cx="770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26040" y="3220920"/>
            <a:ext cx="0" cy="779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220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5800" y="3270240"/>
            <a:ext cx="2918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o use speaker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outside line button or loop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If your phone is programmed with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ferred Line Answ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may answer by just lifting handse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290840"/>
            <a:ext cx="449568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1200240"/>
            <a:ext cx="0" cy="1352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26040" y="1200240"/>
            <a:ext cx="0" cy="1352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3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492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6760" y="1036800"/>
            <a:ext cx="770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5360" y="469116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600" y="4530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4920" y="4530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89480" y="45259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26040" y="4691160"/>
            <a:ext cx="0" cy="103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691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32920" y="4740120"/>
            <a:ext cx="2933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intercom number or press programmed DSS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hea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Ring back tone in TN (Tone) mode. Wait for called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answer the ringing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3 bursts of tone in HF(Handsfree) or PV(Privacy)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egin your announcement after the ton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9990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25360" y="6386400"/>
            <a:ext cx="0" cy="81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3600" y="6226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4920" y="6226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26040" y="6386400"/>
            <a:ext cx="0" cy="814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86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33640" y="6435720"/>
            <a:ext cx="3102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ith your intercom mode setting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in TN mode, hear intercom ring. Lift hand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in PV mode, hear 3 bursts of tone and one-way announce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ent. Lift handset to tal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- in HF mode, hear 3 bursts of tone and announcement. Re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n handsfree or lift handset for privac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9480" y="621504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7120" y="130032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7120" y="328140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5720" y="4780080"/>
            <a:ext cx="344520" cy="26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6360" y="5138640"/>
            <a:ext cx="361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76200" y="4800600"/>
            <a:ext cx="17719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31840" y="4500720"/>
            <a:ext cx="250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use Conference feature, you should have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ed CONF button in the flexible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CONF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* + Flex. button + 7 6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720" y="79200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25360" y="1782720"/>
            <a:ext cx="0" cy="352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3600" y="1622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4920" y="1622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89480" y="161784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26040" y="1790640"/>
            <a:ext cx="0" cy="3514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782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3600" y="1049400"/>
            <a:ext cx="432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re are 2 types of conference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dd on    = 3 internal parties or 1 outside and 2 inter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ulti-line = 1 internal parties and 2 outside parties (Available when multi-line conference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enabled by admin. programming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819440"/>
            <a:ext cx="312408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stablish a conferen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the desired party. (internal or out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The called party is put on exclusive hol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the next part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 is establish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xit a conference (unsupervised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n the supervisor station and hang up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ther parties are still 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Re-entering a conferen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When the initiator reenter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, confirmation tone is heard to all the stations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confer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terminate the conferen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if unsupervi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200" y="4327560"/>
            <a:ext cx="1404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45194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25360" y="6253200"/>
            <a:ext cx="0" cy="795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3600" y="6093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74920" y="6093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26040" y="6253200"/>
            <a:ext cx="0" cy="795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6253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63025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mp-on tone is heard in the called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called party answers by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, talk 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to transfer the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9480" y="60879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0200" y="5894280"/>
            <a:ext cx="256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dial a busy station, you may alert or transfer i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5611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560" y="2101680"/>
            <a:ext cx="311400" cy="1288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25320" y="64818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76200" y="3956040"/>
            <a:ext cx="17719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3880" y="792000"/>
            <a:ext cx="1506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25360" y="1204920"/>
            <a:ext cx="0" cy="738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26040" y="1204920"/>
            <a:ext cx="0" cy="738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125424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camp-on tone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flash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o talk with the second call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internal line is cut and the CO line is placed 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89480" y="103968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" y="21448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25360" y="2773440"/>
            <a:ext cx="0" cy="2149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3600" y="26128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74920" y="26128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6040" y="2773440"/>
            <a:ext cx="0" cy="2149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2781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2822400"/>
            <a:ext cx="312408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busy station hangs up, you will be sig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swer by lifting handset or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The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called will be signal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or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ed CALLBK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CALLBK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* + Flex. button + 7 6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busy station hangs up, you will be sig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swer the signal by lifting handset or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d the station you called will be sig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89480" y="260820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360" y="241452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dial a station that is busy, you can leave a callback indic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5600" y="346860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6640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5360" y="5853240"/>
            <a:ext cx="0" cy="153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3600" y="5692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74920" y="5692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26040" y="5853240"/>
            <a:ext cx="0" cy="1538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5853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5902200"/>
            <a:ext cx="3124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DND tone or no answer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message indication is left at the called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DND tone or intercom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,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ed CALLBK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message indication is left at the called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89480" y="568800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5154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360" y="5386320"/>
            <a:ext cx="440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dial a station that is unattended or in DND, you can leave a message waiting indic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p to 5 messages can be left at a 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9560" y="651672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67057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25320" y="1376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1560" y="28656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625320" y="320508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25320" y="41958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601560" y="59515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625320" y="6138720"/>
            <a:ext cx="2620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19320" y="7048440"/>
            <a:ext cx="1371600" cy="276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82680" y="2527200"/>
            <a:ext cx="15238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25360" y="1204920"/>
            <a:ext cx="0" cy="157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26040" y="1204920"/>
            <a:ext cx="0" cy="157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89480" y="1039680"/>
            <a:ext cx="4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3160" y="792000"/>
            <a:ext cx="12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520" y="1685880"/>
            <a:ext cx="1346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25360" y="3433680"/>
            <a:ext cx="0" cy="399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600" y="32734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74920" y="32734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26040" y="3433680"/>
            <a:ext cx="0" cy="3996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3433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3444840"/>
            <a:ext cx="3048120" cy="40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store station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wice. (Or, SPEED button and desi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 line butto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peed number bi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s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n GHX-36/46, by programming 10 station speed numb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n be added to any station instead of deleting speed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f the other station. In this case, the speed bin number of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is 20 (00~1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outside line or specific line group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use station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peed number bi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erase station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 to be eras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SPEED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6 * + Flex. button + 7 6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89480" y="326880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05880" y="3741840"/>
            <a:ext cx="85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tation Speed B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08A : 00~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6 : 00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6 : 00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616 : 00-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30020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09120" y="79200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2120" y="6853320"/>
            <a:ext cx="26319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18813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1254240"/>
            <a:ext cx="304812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nswer a message waiting indica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that left message will be signaled with tone 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MSG lamp and/or the programmed CALLBK button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ash when a message wait indication has been left for yo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press the programmed CALLBK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that left message will be signaled with tone 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CALLBK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* + Flex. button + 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70423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01560" y="1419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01560" y="35845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601560" y="408636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25360" y="1484280"/>
            <a:ext cx="0" cy="1677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3600" y="13240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4920" y="13240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6040" y="1484280"/>
            <a:ext cx="0" cy="1677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484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1533600"/>
            <a:ext cx="31240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gister wake-up ti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effective until cancelled) or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for one-day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4-digit wake-up time (HHMM) in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HH = 00~23, MM = 0~59) (Confirmation tone is 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 wake-up time to be registered, you can hear the wake-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89480" y="131904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7640" y="1042920"/>
            <a:ext cx="465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system automatically sends ring signal to a station which registers an wake-up time. Ther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wo kinds of wake-up calls, one is effective for one-day, the other is effective until cancel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24987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ancel wake-up call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firmation tone is heard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360" y="798480"/>
            <a:ext cx="71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Wake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3600" y="3952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74920" y="3952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4113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4162320"/>
            <a:ext cx="29718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Enter the name up to 7 letters using the codes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89480" y="394812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26040" y="4113360"/>
            <a:ext cx="0" cy="3278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384804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0560" y="3633840"/>
            <a:ext cx="448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can program your phone so people using display phone will see your name instead of y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25360" y="4113360"/>
            <a:ext cx="0" cy="327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37240" y="6248520"/>
            <a:ext cx="16462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rase your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3382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25320" y="20620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01560" y="4238640"/>
            <a:ext cx="311400" cy="12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"/>
          <p:cNvGraphicFramePr/>
          <p:nvPr/>
        </p:nvGraphicFramePr>
        <p:xfrm>
          <a:off x="457200" y="4632480"/>
          <a:ext cx="3429000" cy="1706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632480"/>
                    <a:ext cx="34290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168560" y="4094280"/>
            <a:ext cx="2666880" cy="140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5160" y="3614760"/>
            <a:ext cx="27133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essage Type - 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It is available for only GHX-36/46/616. You can sel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Type I or II by programming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0 : cancel the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1:  LUNCH  RETURN AT  xx:xx  (xx:xx : tim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2 : VACATION RETURN ON xx:xx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xx:xx : time or date (4 digit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3 : ABSENT, RETURN AT CLK xx:xx  (xx:xx : tim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4 : ABSENT, RETURN AT DATE  xx:xx  (xx:xx : dat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5 : OUT OF OFFICE  - BACK  TOM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6 : CALL  TO  xxxx (max. 12 digits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7 : IN OFFICE  xxx (3 digits internal station numbe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8 : MEETING CLK  xx:xx (xx:xx : tim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9 :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 0 : AT BRANCH OFFIC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 1~2 0 : Customized messages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turn off message display,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0 0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68560" y="2208240"/>
            <a:ext cx="266688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1569960"/>
            <a:ext cx="304812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number of desired message. (00~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essage Type - 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0  Cancel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1  OUT TO LUN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2  ON VA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3  OUT OF OFFICE-BACK 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4  OUT OF OFFICE-BACK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5  OUT OF OFFICE-BACK T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6  OUT OF OFFICE-BACK UNK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7  OUT OF T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8  IN A M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0 9 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 0  AT BRANCH OFF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 1 ~ 2 0  are used for customized messages which 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ed by attendant. (See “Creating Customized Message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4600" y="792000"/>
            <a:ext cx="150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3600" y="1360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74920" y="1360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" y="1521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89480" y="135576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25360" y="1514520"/>
            <a:ext cx="0" cy="2770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26040" y="1521000"/>
            <a:ext cx="0" cy="2763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7920" y="1042920"/>
            <a:ext cx="446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You can select a pre-assigned message to be displayed on the LCD of the phone calling th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25360" y="4145040"/>
            <a:ext cx="0" cy="204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26040" y="4132440"/>
            <a:ext cx="0" cy="2057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25320" y="158436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17680" y="124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1270080"/>
            <a:ext cx="304812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In GSX/E-21/33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re are 2 volume control slide switches located at the front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phone. Sliding the switch to the right will increase the volu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ight Switch - controls tone ringing volu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eft Switch - controls voice, speakerphone volume while id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In GK-24/36/8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Volume button (▼/▲) to adjust ring volume while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hone is ring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Volume button (▼/▲) to adjust speakerphone volu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speakerphone is work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Volume button (▼/▲) to adjust handset volume wh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are connected to a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5040" y="101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440" y="792000"/>
            <a:ext cx="112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Volum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3600" y="1063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74920" y="1063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1224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89480" y="105876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5360" y="1217520"/>
            <a:ext cx="0" cy="2097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26040" y="1224000"/>
            <a:ext cx="0" cy="2090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8360" y="38433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3600" y="3870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74920" y="3870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4030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4079880"/>
            <a:ext cx="3048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an outside line button, Loop or Pool button, a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, or dialing a number in the Numbering Plan w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omatically active speakerphone and ligh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89480" y="386568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25360" y="4032360"/>
            <a:ext cx="0" cy="736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26040" y="4032360"/>
            <a:ext cx="0" cy="736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50468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Ho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3600" y="5324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74920" y="5324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5484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3000" y="5533920"/>
            <a:ext cx="304812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do not dial in preprogrammed interval, hot line fe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operated automaticall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Intercom call, CO line selection, CO line group selection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ed features in flexible button and Speed di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eatures can be programmed as Hot Line Featur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use this feature, it should be preprogrammed in Adm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89480" y="53197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25360" y="5486400"/>
            <a:ext cx="0" cy="129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26040" y="5486400"/>
            <a:ext cx="0" cy="1295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3598920"/>
            <a:ext cx="4495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2440" y="3592440"/>
            <a:ext cx="1402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utomatic Se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512640" y="2327400"/>
            <a:ext cx="552600" cy="136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87320" y="1816200"/>
            <a:ext cx="295200" cy="244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28480" y="1816200"/>
            <a:ext cx="260640" cy="244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623880" y="5562720"/>
            <a:ext cx="2649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88360" y="104292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3600" y="1076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74920" y="1076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123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43000" y="1285920"/>
            <a:ext cx="3048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uring a CO line conversation, you can be given a periodi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arning signal in every 3 minu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use this function, it should be preprogramm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89480" y="107172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25360" y="1238400"/>
            <a:ext cx="0" cy="70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26040" y="1238400"/>
            <a:ext cx="0" cy="704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7240" y="2949480"/>
            <a:ext cx="2833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on-hook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7 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 in 36/46/616)/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in 308A) or p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ed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 in 36/46/616)/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in 308A) again or p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ogrammed button to remove musi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3600" y="27590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74920" y="27590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2919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89480" y="2754360"/>
            <a:ext cx="639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25360" y="2919240"/>
            <a:ext cx="0" cy="92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6040" y="2919240"/>
            <a:ext cx="0" cy="928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23223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9200" y="2567160"/>
            <a:ext cx="440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activate background music, the station should have this privilege by admin. programm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2440" y="792000"/>
            <a:ext cx="125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-minute War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57200" y="1147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3600" y="1425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74920" y="1425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1585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1635120"/>
            <a:ext cx="30481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alling internal key station, 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the called station is in TN mode, the calling signal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hanged from TN mode to HF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the called station is in HF or PV mode, the calling signal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hanged to TN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89480" y="142092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25360" y="1587600"/>
            <a:ext cx="0" cy="888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26040" y="1587600"/>
            <a:ext cx="0" cy="888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4600" y="792000"/>
            <a:ext cx="3522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he following functions can be used only in GHX-36/4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2671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Intercom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3600" y="2898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74920" y="2898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3059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43000" y="3108240"/>
            <a:ext cx="31240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versing with internal party, (available when inter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fer is enabled by programming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3-digit station number or press appropriate DSS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 this point, you can make a screened or unscreened transf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the called station is busy or does not answer, you c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nverse with the transferred party again by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89480" y="289404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25360" y="3060720"/>
            <a:ext cx="0" cy="1244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26040" y="3060720"/>
            <a:ext cx="0" cy="1244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95280" y="5843520"/>
            <a:ext cx="2133720" cy="612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3600" y="4805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74920" y="48052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4965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43000" y="5014800"/>
            <a:ext cx="3124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have been given the ability to make pag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page zone. (See below chart.) And you will hear war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tone ends, speak in normal t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89480" y="480060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25360" y="4965840"/>
            <a:ext cx="0" cy="2287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26040" y="4965840"/>
            <a:ext cx="0" cy="2287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93120" y="5838840"/>
            <a:ext cx="2157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ll Call               :   #  0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1  :   #  1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2  :   #  2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All Call  :   #  5 (Not allowed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Page    :  # 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6551640"/>
            <a:ext cx="29876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nswer paging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o to the nearest key tele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 7 (‘# #’ in GHX-308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 and you will be connect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ing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4564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ag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601560" y="33973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25320" y="5124600"/>
            <a:ext cx="2620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308240" y="1812960"/>
            <a:ext cx="19684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08240" y="2619360"/>
            <a:ext cx="19684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152244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lace an intercom call on hold, the keyset should h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programmed in a flexible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ICM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 + SPEED + Flex. button +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versing with internal party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600" y="1298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74920" y="1298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" y="1459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89480" y="129384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43000" y="245124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t is available if 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is assigned in a flexibl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ICM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*  + Flex. button +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trieve an intercom call on hold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ICM button programmed in flexibl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25360" y="1460520"/>
            <a:ext cx="0" cy="2006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26040" y="1460520"/>
            <a:ext cx="0" cy="2006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1640" y="1068480"/>
            <a:ext cx="3089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can place an intercom call in hold state u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" y="224316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2438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3880" y="792000"/>
            <a:ext cx="216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on 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625320" y="19098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851200" y="6121440"/>
            <a:ext cx="1568520" cy="94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0640" y="4091040"/>
            <a:ext cx="3291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rect Station Select         station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Park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700~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unt Group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710~7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7 7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register                         7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change                         7 4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         7 4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       7 4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ccount Code Entry          7 5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uto Redial                       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elected Message        7200 ~722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     7 7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oop Key                           7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CM Key                           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 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       SPEED + bin no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00~19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      SPEED + bin no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20~9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        SPEED +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in GK-24/36)       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      SPEED +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2800" y="792000"/>
            <a:ext cx="1959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31480" y="1273320"/>
            <a:ext cx="244080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program flexible button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wic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a flexible button to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 the below table and enter the desired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erase a flexible butt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flexible button to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A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a flexible button to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 the below table and enter the desired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o on-hook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3600" y="1069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74920" y="1069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89480" y="106524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25360" y="1230480"/>
            <a:ext cx="0" cy="2388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26040" y="1230480"/>
            <a:ext cx="0" cy="2388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3786120"/>
            <a:ext cx="4495680" cy="24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de for Flexible Button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3680" y="4083120"/>
            <a:ext cx="448308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16040" y="4076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53000" y="407664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1920" y="263052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28256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59120" y="612144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74880" y="4076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01560" y="1419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01560" y="207324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601560" y="2306520"/>
            <a:ext cx="311400" cy="130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682720" y="4091040"/>
            <a:ext cx="253080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        7 7 3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in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* 7 3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larm Reset                  7 7 5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in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utside Line Access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Access           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# 1                     8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# 2                     8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# 3                     8 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# 4                    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# 5                    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# 6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8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# 7                     8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Group #4~#7 are available in only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ndividual Lin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utton Assignment for GSX(E), GK-8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                              7 6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                                7 6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BK                            7 6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ND/FOR                         7 6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LASH                              7 6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UTE                               7 6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                                 7 6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671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5360" y="3059280"/>
            <a:ext cx="0" cy="299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3600" y="2898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74920" y="2898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59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1200" y="3108240"/>
            <a:ext cx="28645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Twice for exclusive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- Once for system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verse if hold preference is programmed to system hol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trieve the call on system hol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flashing button on system hold to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89480" y="28875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520" y="4083120"/>
            <a:ext cx="2214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275000"/>
            <a:ext cx="3053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and two-digi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ine numb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Only the station that placed the call on hold can retrieve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by dialing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)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6240" y="4230720"/>
            <a:ext cx="67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616: 01~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2800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6040" y="3059280"/>
            <a:ext cx="0" cy="2998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5360" y="1204920"/>
            <a:ext cx="0" cy="1119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26040" y="1204920"/>
            <a:ext cx="0" cy="1119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89480" y="10335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9200" y="792000"/>
            <a:ext cx="2277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1257480"/>
            <a:ext cx="22147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7160" y="1481040"/>
            <a:ext cx="31431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pon hearing intercom ringing, lift handset to answ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can select either TN or HF mode by dialing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wh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akes to toggle in TN and PV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3 bursts of tone is heard in PV mode and confirmation t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heard in TN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4540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2520" y="5187960"/>
            <a:ext cx="2214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6720" y="5380200"/>
            <a:ext cx="305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ly the station that placed the call on hold can retrieve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all by pressing the flashing line button (if provided), or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and two-digi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ine numbe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6240" y="5335560"/>
            <a:ext cx="67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616:01-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848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6440" y="4809960"/>
            <a:ext cx="280044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trieve the call on exclusive hol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flashing button on exclusive hold to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" y="32050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2800" y="792000"/>
            <a:ext cx="95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5360" y="1204920"/>
            <a:ext cx="0" cy="2338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3600" y="104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4920" y="104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6040" y="1204920"/>
            <a:ext cx="0" cy="2338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51280" y="1243080"/>
            <a:ext cx="3090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call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The outside call is put on hol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tation numb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or appropriate DSS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 this point, you can make a screened or unscreened transf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extension answers, announce transfer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to complete call transf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the station you called rings, hang up to complete ca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f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answer screened transf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r station is signaled according to Intercom Answer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lec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nswer the intercom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transferring party hangs up, the call will be 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10335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280" y="1862280"/>
            <a:ext cx="649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creen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0280" y="2211480"/>
            <a:ext cx="76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creen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5360" y="4165560"/>
            <a:ext cx="0" cy="901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26040" y="4165560"/>
            <a:ext cx="0" cy="901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5800" y="4206960"/>
            <a:ext cx="24544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last dialed number on an outside line is sa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redial the numb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in GK-24/3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 (if it is not program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313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5360" y="5700600"/>
            <a:ext cx="0" cy="127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5540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540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55357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26040" y="5700600"/>
            <a:ext cx="0" cy="1271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700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080" y="5749920"/>
            <a:ext cx="309312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wish to save a number you diale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fter dialing the number of an outside party,  keep the hand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ff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dial a saved numb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600" y="4016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4016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401148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173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7893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560" y="14144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1560" y="4473720"/>
            <a:ext cx="311400" cy="112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560" y="616896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01560" y="6626160"/>
            <a:ext cx="31140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4533840"/>
            <a:ext cx="1981440" cy="514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257720"/>
            <a:ext cx="320040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(in GK-24/3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r, press programmed AUTO REDIAL button in GSX/E key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AUTO REDIAL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PEED + SPEED + Flex. button +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6 * + Flex. button +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 busy or no answer number will be redialed automati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fter pre-programmed time interval.  (The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ligh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en called party answers, lift handset and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39920" y="7188120"/>
            <a:ext cx="1403280" cy="247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74040" y="7139160"/>
            <a:ext cx="139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MUTE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* + Flex. button + 7 6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728720"/>
            <a:ext cx="21337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9840" y="1558800"/>
            <a:ext cx="287208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in flex.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DIAL MEMO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 + SPEED + Flex. button + 7 7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again to sav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dial the dial memo numb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heck the dial memo numbe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 idle stat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saved number is displayed. (only in display pho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080" y="792000"/>
            <a:ext cx="85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al  Me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5360" y="1509840"/>
            <a:ext cx="0" cy="1652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3600" y="1349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13492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89480" y="134460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509840"/>
            <a:ext cx="0" cy="1652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509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120" y="1042920"/>
            <a:ext cx="45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hile on an outside line or intercom call, you may enter and save a number in the save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dial bin for future 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5360" y="4208400"/>
            <a:ext cx="0" cy="1392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600" y="4048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4048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89480" y="40435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4208400"/>
            <a:ext cx="0" cy="1392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208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600" y="3710160"/>
            <a:ext cx="452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a user calls a busy or no answer number on an outside line, the system can automatic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dial the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452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8784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M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25360" y="6494400"/>
            <a:ext cx="0" cy="93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3600" y="6334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74920" y="6334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9480" y="63295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26040" y="6494400"/>
            <a:ext cx="0" cy="935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494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654372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o activ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again to deactiv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1280" y="6148440"/>
            <a:ext cx="428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t provides privacy during speakerphone or handset operation by disabling the microph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4440" y="6997680"/>
            <a:ext cx="229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programmed MUT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to activa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" y="683424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70167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560" y="4321080"/>
            <a:ext cx="311400" cy="11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560" y="660096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40640" y="792000"/>
            <a:ext cx="7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eu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5360" y="1541520"/>
            <a:ext cx="0" cy="1620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600" y="1380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74920" y="1380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89480" y="137628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26040" y="1541520"/>
            <a:ext cx="0" cy="1620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541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590840"/>
            <a:ext cx="312408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a busy outside line button or specific line group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BK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, your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BK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 light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irmation tone is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a busy outside lin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f you have a programmed CALLBK button in 8-button keyse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BK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 or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5 6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160" y="1068480"/>
            <a:ext cx="45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see that a particular line is busy and want to be placed on a list waiting for the first line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oup to become avail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9280" y="224316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43828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360" y="3884760"/>
            <a:ext cx="0" cy="776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600" y="3724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74920" y="3724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89480" y="371952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26040" y="3884760"/>
            <a:ext cx="0" cy="776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3884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39337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en the busy outside line button or specific line grou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eturns to idl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ringing and the queued line button flash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press flashing outside line in 15 second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446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nswering a Queue Requ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600" y="5248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5248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40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89480" y="5243400"/>
            <a:ext cx="4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5360" y="5408640"/>
            <a:ext cx="0" cy="118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26040" y="5408640"/>
            <a:ext cx="0" cy="1182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483160"/>
            <a:ext cx="304812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cal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parking loc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 (700~70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retrieve a parked cal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a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parking loc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700~70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9705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Par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560" y="172404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25320" y="198612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1560" y="560556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25320" y="60246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76200" y="2287440"/>
            <a:ext cx="17719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996920"/>
            <a:ext cx="3048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 press programm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ASH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FLASH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6 *  +  Flex. button + 7 6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3040" y="798480"/>
            <a:ext cx="51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Fl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3600" y="1368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74920" y="1368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528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7788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LAS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89480" y="1363680"/>
            <a:ext cx="639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5360" y="1530360"/>
            <a:ext cx="0" cy="1098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26040" y="1530360"/>
            <a:ext cx="0" cy="1098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040" y="1023840"/>
            <a:ext cx="462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sconnects outside line and reseizes dial tone. It can be used to send a timed break recall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he system is connected with a PB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9280" y="1785960"/>
            <a:ext cx="1375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8108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9320" y="3786120"/>
            <a:ext cx="2867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activate speakerphon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outside line number or intercom number to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600" y="3571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74920" y="3571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732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9480" y="3567240"/>
            <a:ext cx="4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25360" y="3732120"/>
            <a:ext cx="0" cy="64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26040" y="3732120"/>
            <a:ext cx="0" cy="649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8040" y="3176640"/>
            <a:ext cx="447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ing an outside line button, a speed button, a station button or dialing a station number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omatically activate the speakerphon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913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peakerph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10380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hange access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current access authorization code. (Confirm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new 4 digits access authorization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148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5360" y="5319720"/>
            <a:ext cx="0" cy="1805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600" y="5159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74920" y="5159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6040" y="5319720"/>
            <a:ext cx="0" cy="1805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319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5369040"/>
            <a:ext cx="31240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gister access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own 4 digits access authorization code. (Confirm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9480" y="515448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5520" y="4853160"/>
            <a:ext cx="454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o prevent unauthorized outside calling, DISA access or Trunk access on your station by other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system provides a means to lock/unlock a station by an access authorization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1560" y="1589040"/>
            <a:ext cx="311400" cy="128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25320" y="389088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25320" y="587232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25320" y="6634080"/>
            <a:ext cx="2620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4282920"/>
            <a:ext cx="312408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call forward type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- Uncondit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 - No answer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 - Busy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 - Busy / no answer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 - Follow me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 - Off-net (Forward to CO li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In GHX-308A, only Unconditional type is available. Yo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on’t have to select call forward typ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tation number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(100~69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 If you select type 5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speed bin numb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 HOLD butt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r, Press CO button and dial telephone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HOLD button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5360" y="1407960"/>
            <a:ext cx="0" cy="687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3600" y="1247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74920" y="1247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26040" y="1407960"/>
            <a:ext cx="0" cy="687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407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145728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 will flash until restored to norm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 (You can’t use outside call, just 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tercom call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9480" y="1243080"/>
            <a:ext cx="4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2720" y="1017720"/>
            <a:ext cx="280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: An access authorization code should be registe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2440" y="792000"/>
            <a:ext cx="1564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347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25360" y="2747880"/>
            <a:ext cx="0" cy="795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3600" y="2587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4920" y="2587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26040" y="2747880"/>
            <a:ext cx="0" cy="795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747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797200"/>
            <a:ext cx="259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4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your current access authorization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ill extinguis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583000"/>
            <a:ext cx="563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5360" y="4233960"/>
            <a:ext cx="0" cy="2585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3600" y="4073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4920" y="4073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26040" y="4233960"/>
            <a:ext cx="0" cy="2585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4233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89480" y="4068720"/>
            <a:ext cx="4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83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all 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22200" y="6689880"/>
            <a:ext cx="184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5320" y="16812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01560" y="446580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03280" y="1722600"/>
            <a:ext cx="14479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37960" y="1424160"/>
            <a:ext cx="297864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5 4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or press the programmed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program DND/FOR butt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7 6 * + Flex. button + 7 6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the call forward type. (0~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In GHX-308A, just Unconditional type is available. Yo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on’t have to select call forward typ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number (100~699) or press the DSS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If you select type 5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speed bin number numb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Or, press CO button and dial telephone numb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O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181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360" y="93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1420920"/>
            <a:ext cx="0" cy="3112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2640" y="93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9280" y="1195560"/>
            <a:ext cx="1375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3600" y="1019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74920" y="10191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89480" y="1014480"/>
            <a:ext cx="4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6280" y="1415880"/>
            <a:ext cx="371484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37960" y="3111480"/>
            <a:ext cx="1791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cancel call forwar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4080" y="3832200"/>
            <a:ext cx="3013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5 4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r press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-hook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9200" y="3672000"/>
            <a:ext cx="1404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38797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26040" y="1181160"/>
            <a:ext cx="0" cy="3352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3880" y="792000"/>
            <a:ext cx="1436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Call Forward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(Cont’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25360" y="5192640"/>
            <a:ext cx="0" cy="2389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3600" y="5032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74920" y="5032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26040" y="5192640"/>
            <a:ext cx="0" cy="2389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192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5241960"/>
            <a:ext cx="312408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r phone has been programmed to have Do Not Disturb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on-hook or your phone is ring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LED lights and your phone is in D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or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돋움"/>
              </a:rPr>
              <a:t>To remove Do Not Disturb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 while on-hoo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he LED extinguishes and DND at your phone is remo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or the programm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9480" y="50277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4773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o Not Distu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200" y="5678640"/>
            <a:ext cx="1404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58611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9200" y="6897600"/>
            <a:ext cx="1433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 GSX/E 8 BTN, GK-8S,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70801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5320" y="27478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01560" y="3398760"/>
            <a:ext cx="311400" cy="125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01560" y="53802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01560" y="6599160"/>
            <a:ext cx="31140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25360" y="1211400"/>
            <a:ext cx="0" cy="1011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600" y="1050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26040" y="1211400"/>
            <a:ext cx="0" cy="1011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12603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 are designated as the Executive Station and you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hone is busy or DND (Do Not Disturb), all calls will go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r Secretary St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f your are designated as the Secretary Station, you m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ignal the Executive Station that is in DND by using Call Wa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amp-on) fe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89480" y="104616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4368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25360" y="2836800"/>
            <a:ext cx="0" cy="93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3600" y="2676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74920" y="2676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89480" y="26719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26040" y="2836800"/>
            <a:ext cx="0" cy="935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836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288612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should be in the same pick-up group as ringing phon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ave the outside line button or loop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an unattended phone ring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74920" y="1050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0640" y="792000"/>
            <a:ext cx="192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Executive/Secretary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25360" y="4584600"/>
            <a:ext cx="0" cy="973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3600" y="4424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74920" y="4424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26040" y="4584600"/>
            <a:ext cx="0" cy="973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4584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463392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hear intercom or transferred outside line ring at a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 other pick up gro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and the ringing station numbe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You will be connected to calling par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89480" y="4419720"/>
            <a:ext cx="771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0370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8040" y="4243320"/>
            <a:ext cx="3418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t is available that you pick up a call on a station in other pick up group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27120" y="320508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27120" y="4876920"/>
            <a:ext cx="2602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08:39:32Z</dcterms:created>
  <dc:creator>USER</dc:creator>
  <dc:description/>
  <dc:language>en-US</dc:language>
  <cp:lastModifiedBy>장재진</cp:lastModifiedBy>
  <cp:lastPrinted>2000-04-16T00:49:54Z</cp:lastPrinted>
  <dcterms:modified xsi:type="dcterms:W3CDTF">2000-04-16T00:50:16Z</dcterms:modified>
  <cp:revision>159</cp:revision>
  <dc:subject/>
  <dc:title>슬라이드 제목 없음</dc:title>
</cp:coreProperties>
</file>