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D9A-28AD-4A07-99D9-6B5ADDF0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B1B-F773-4E5C-9E6A-94F1D9F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74-A859-4D2F-A874-6CF6B8A7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5E6-0E63-44EE-8B1E-94F1782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EED-06E6-4E27-B625-D28AF45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78A-CCD2-4F9F-9FAC-FF9E9DB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B27-6BBF-4C7B-B942-B0B98E2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F64-7F92-4B4E-A2D2-12BA8EF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B7A-BD48-458D-B496-7D2671D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250-5B4B-498A-8886-FEE74FA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5F6-C81F-40FF-8897-387A08A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C67-882D-4299-A543-60A6816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E77B3C-C2FF-4E68-9B24-6905D6BFE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54160" y="119052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/ Quick Reference Guide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GSX/E, GK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5600" y="1690560"/>
            <a:ext cx="23497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ixed Feature But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terminate an outside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reseize dial tone without having to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provides you with access to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ing, save number redial and last number redi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TRANSFER) button is used to transfer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call from a station to anoth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CALLBACK) button allows you to lea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 callback indication at a station that is busy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attended, or in Do Not Distur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establish conference cal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FORWARD) button allows you 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orward your calls to another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63680"/>
            <a:ext cx="335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 for Analog Key Teleph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03800" y="1792440"/>
            <a:ext cx="231876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llows you to switch the built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icrophone on or off when using the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the handset microphone when using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make a phone cal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ithout lifting handset. It turns the telephone on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ff when using the speakerphon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place an outside ca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DIAL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enables you to redial the last dial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F-P-T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ows you to select the Intercom Signaling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ode.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s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e,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ivacy, o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▼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LUME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▲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r allows you adjust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handset volum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5305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7160" y="3684600"/>
            <a:ext cx="24541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DND/FOR button and dial the desired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orward typ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0 :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1 : 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2 :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3 :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4 : Follow 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5 : Off-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n GHX-308A, only Unconditional is available. Yo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n’t have to select call forward type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.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select type 5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speed bi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 butt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, Press CO button and dial telephone number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 button 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busy station, you may alert it to your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Camp-on tone is heard in the called station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converse or ha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p to transfer th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he desired party (internal or outside). Whe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ed party answers, press CONF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dd next conference party by selecting anoth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line or intercom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party answers, press CONF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 parties are connec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To make conference with outside parties, multi-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should be enable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terminate a conferenc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conference initiator should be actively in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place the handset or press MON button to of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81480" y="3684600"/>
            <a:ext cx="23493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busy, unattended, or in 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Not Disturb, you can leave a message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intercom station. Busy tone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ND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CALLBK button. The called party’s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LED will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Message Waiting Indic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CALLBK button. The station that le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ill be signaled with tone rin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called station does not answer, press the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once to leave a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on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Twice for exclusive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Once for system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verse if hold preference is programmed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last dialed number on an outside line is sa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REDIAL button. (GK-24/36) O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you wish to save a number you dialed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fter dialing the number of an outside party, ke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 off-hoo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dial a saved numbe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27160" y="1779480"/>
            <a:ext cx="23493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tation number or appropriate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You can select a screened or unscreened transfer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at extension answers, announce the transf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Un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extension begins to signal,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oring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peed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00~19  Station Speed Numbers (GHX-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0~09  Station Speed Numbers (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20~99  System Speed Number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Attendant programme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s to be sto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erase an exiting speed bin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ing a Speed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the spe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in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pick up the hands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use speakerph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busy, you can leave 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back indi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nd 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busy station hangs up, you will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ignale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 by lifting handset or pressing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station you called will be signal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7080" y="1363680"/>
            <a:ext cx="325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 for Analog Key Teleph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532320"/>
            <a:ext cx="234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s Progra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be programm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ee the below chart and dial the desired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0520" y="4172040"/>
            <a:ext cx="2222640" cy="19936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89480" y="4141800"/>
            <a:ext cx="2666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rect Station Select    100~107 (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~127 (GHX-36)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~139 (GHX-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700~7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unt Group                  710~7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      SPEED +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(00~09 in 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     SPEED + 20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7  7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  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  SPEED +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ll Call                         #  0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1            #  1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2            #  2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All Call            #  5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Page              # 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eet Me Page             # 7 (##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4400" y="6199200"/>
            <a:ext cx="1742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a flexible butt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flexible butto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FLASH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1766880"/>
            <a:ext cx="22255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ueu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You see that a particular line is busy and want to be placed on a list waiting for the first line in the gro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o become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busy outside line button or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ing CALLBK button, your CALLBK 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ights and confirmation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queue reques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busy outside line button or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 returns to idle, you hear ringing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queued line button flash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press flashing outside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08:04:16Z</dcterms:created>
  <dc:creator>USER</dc:creator>
  <dc:description/>
  <dc:language>en-US</dc:language>
  <cp:lastModifiedBy>장재진</cp:lastModifiedBy>
  <cp:lastPrinted>1999-08-23T01:03:56Z</cp:lastPrinted>
  <dcterms:modified xsi:type="dcterms:W3CDTF">2000-02-16T00:15:16Z</dcterms:modified>
  <cp:revision>28</cp:revision>
  <dc:subject/>
  <dc:title>슬라이드 제목 없음</dc:title>
</cp:coreProperties>
</file>